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949-FFE0-4CB6-8919-7BA2D2CE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9954-4860-461A-9BCF-4F132C7E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96A-AA1A-41EC-8122-39878BC8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C5E-962F-4AC4-B739-93404447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90B2-DC39-4916-9DF6-A093AD1C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D079-EC3E-45F8-8A7C-13C98852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95ED-8F1C-45CA-998E-A2A2668D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2AA7-6D67-40C1-B8A3-237D3888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48B3-1BD4-4E21-A0C5-04BBB400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F7FC-DB21-42E3-801F-D3F5BF31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5D7E-A953-4332-B9AE-B1BB252A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134-3748-4D9B-82C9-D1677373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D2DE-5772-446F-AE54-4AA133FA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6608-13B9-4F45-9ABC-4B7A3109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1A77-3C97-45BF-B445-50FDE005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176D-D349-42FA-901B-E64314E3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BE57-3D76-498A-8C1B-254D96CD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F22-7D26-4F15-9312-25EC61C5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846-7E88-403A-8446-8864A597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2DE-EB38-44FA-A942-5ED4D3DB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099-B456-4343-A05D-E1473A49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B75-3D13-4188-BAAC-B595AE99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CEA-ECF8-4470-9509-13A34019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F53-9410-4EEF-AE60-2D05EF46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4E7B-1946-4ABA-9785-20A6386BD6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3B79-DC48-4994-906F-2496A71237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9;&#1084;&#1086;&#1094;&#1080;&#1103;" TargetMode="External"/><Relationship Id="rId3" Type="http://schemas.openxmlformats.org/officeDocument/2006/relationships/hyperlink" Target="http://ru.wikipedia.org/wiki/&#1052;&#1077;&#1083;&#1072;&#1085;&#1093;&#1086;&#1083;&#1080;&#1103;" TargetMode="External"/><Relationship Id="rId4" Type="http://schemas.openxmlformats.org/officeDocument/2006/relationships/hyperlink" Target="http://ru.wikipedia.org/wiki/&#1052;&#1077;&#1083;&#1072;&#1085;&#1093;&#1086;&#1083;&#1080;&#1103;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7;&#1072;&#1084;&#1086;&#1091;&#1074;&#1072;&#1078;&#1077;&#1085;&#1080;&#1077;" TargetMode="External"/><Relationship Id="rId3" Type="http://schemas.openxmlformats.org/officeDocument/2006/relationships/hyperlink" Target="http://ru.wikipedia.org/wiki/&#1063;&#1077;&#1089;&#1090;&#1100;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9;&#1084;&#1086;&#1094;&#1080;&#1103;" TargetMode="External"/><Relationship Id="rId3" Type="http://schemas.openxmlformats.org/officeDocument/2006/relationships/hyperlink" Target="http://ru.wikipedia.org/wiki/&#1048;&#1089;&#1087;&#1091;&#1075;" TargetMode="External"/><Relationship Id="rId4" Type="http://schemas.openxmlformats.org/officeDocument/2006/relationships/hyperlink" Target="http://ru.wikipedia.org/wiki/&#1048;&#1085;&#1090;&#1077;&#1088;&#1077;&#1089;" TargetMode="External"/><Relationship Id="rId5" Type="http://schemas.openxmlformats.org/officeDocument/2006/relationships/hyperlink" Target="http://ru.wikipedia.org/wiki/&#1056;&#1072;&#1076;&#1086;&#1089;&#1090;&#1100;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3;&#1077;&#1088;&#1074;&#1085;&#1072;&#1103;_&#1089;&#1080;&#1089;&#1090;&#1077;&#1084;&#1072;" TargetMode="External"/><Relationship Id="rId3" Type="http://schemas.openxmlformats.org/officeDocument/2006/relationships/hyperlink" Target="http://ru.wikipedia.org/wiki/&#1055;&#1072;&#1088;&#1072;&#1083;&#1080;&#1095;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5;&#1089;&#1080;&#1093;&#1086;&#1083;&#1086;&#1075;&#1080;&#1103;" TargetMode="External"/><Relationship Id="rId3" Type="http://schemas.openxmlformats.org/officeDocument/2006/relationships/hyperlink" Target="http://ru.wikipedia.org/wiki/&#1069;&#1084;&#1086;&#1094;&#1080;&#1086;&#1085;&#1072;&#1083;&#1100;&#1085;&#1099;&#1081;_&#1087;&#1088;&#1086;&#1094;&#1077;&#1089;&#1089;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ЭМОЦИИ ЧЕЛОВЕК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35280" y="2205000"/>
            <a:ext cx="2743200" cy="3027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443640" y="3068640"/>
            <a:ext cx="2448000" cy="33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дос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́дос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одна из основных положительных эмоций человека, внутреннее чувство  удовольствия и счастья.  Радость считается противоположной грусти, печал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67280" y="476280"/>
            <a:ext cx="2592360" cy="32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-9209160" y="5027040"/>
            <a:ext cx="183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дна из основных положи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788000" y="4005360"/>
            <a:ext cx="381636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Грус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руст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— отрицательно окрашенная </a:t>
            </a:r>
            <a:r>
              <a:rPr b="0" lang="en-US" sz="18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эмоция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. Возникает в случае значительной неудовлетворённости человека в каких-либо аспектах его жизни. Понятие грусти близко по значению таким, как печаль, тоска, уныние, скорбь, несчастье, </a:t>
            </a:r>
            <a:r>
              <a:rPr b="0" lang="en-US" sz="18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меланхолия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. Иногда эти слова считаются синонимами. В клиническом состоянии грусть переходит в депрессивные состояния организма. Это может повлечь за собой постоянные приступы </a:t>
            </a:r>
            <a:r>
              <a:rPr b="0" lang="en-US" sz="18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меланхоли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, плохого настроения, неспособность делать обычные повседневные дела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95280" y="1628640"/>
            <a:ext cx="4248000" cy="4680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Гордос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о́рд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 — сильное чувство (или желание)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самоуваж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удовольствия от собственных успех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ществуют три близких по сути, но разных по значению понятия: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че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гордость и тщеслав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643280" y="1413000"/>
            <a:ext cx="4176720" cy="47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Удивл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дивле́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0" lang="ru-RU" sz="20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эмоц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возникающая при появлении неожиданной ситу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неожиданная ситуация окажется опасной, то удивление переходит в </a:t>
            </a:r>
            <a:r>
              <a:rPr b="0" lang="ru-RU" sz="20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испу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неожиданная ситуация окажется безопасной, то удивление переходит в </a:t>
            </a:r>
            <a:r>
              <a:rPr b="0" lang="ru-RU" sz="20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интере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неожиданная ситуация окажется приятной, то удивление переходит в </a:t>
            </a:r>
            <a:r>
              <a:rPr b="0" lang="ru-RU" sz="2000" spc="-1" strike="noStrike" u="sng">
                <a:solidFill>
                  <a:srgbClr val="ffff99"/>
                </a:solidFill>
                <a:uFillTx/>
                <a:latin typeface="Tahoma"/>
                <a:hlinkClick r:id="rId5"/>
              </a:rPr>
              <a:t>радост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822240" y="1484280"/>
            <a:ext cx="3306960" cy="2287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476360" y="3933720"/>
            <a:ext cx="2087640" cy="2924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спуг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спу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— эмоция, вызванная восприятием чего-либо неожиданного; иногда, вследствие особенно сильного воздействия на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нервную систему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 Несомненно наблюдались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параличи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от испуга. Параличи эти имеют черепно-мозговое или спинномозговое происхождение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580000" y="1916280"/>
            <a:ext cx="2257560" cy="338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98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ра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трах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— внутреннее состояние, обусловленное грозящим реальным или предполагаемым бедствием.  С точки зрения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психологии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считается отрицательно окрашенным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эмоциональным процессом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контролируемые страхи, стабильно возникающие по отношению к сходным явлениям, независимо от их объективной степени угрозы, называются «фобиям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492360" y="1413000"/>
            <a:ext cx="1784520" cy="28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3:23:46Z</dcterms:created>
  <dc:creator>Ирина</dc:creator>
  <dc:description/>
  <dc:language>en-US</dc:language>
  <cp:lastModifiedBy>Инна</cp:lastModifiedBy>
  <dcterms:modified xsi:type="dcterms:W3CDTF">2011-02-08T16:05:46Z</dcterms:modified>
  <cp:revision>5</cp:revision>
  <dc:subject/>
  <dc:title>Эмоции</dc:title>
</cp:coreProperties>
</file>