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21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7.jpeg" ContentType="image/jpeg"/>
  <Override PartName="/ppt/media/image5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2.jpeg" ContentType="image/jpeg"/>
  <Override PartName="/ppt/media/image34.jpeg" ContentType="image/jpeg"/>
  <Override PartName="/ppt/media/image18.png" ContentType="image/png"/>
  <Override PartName="/ppt/media/image43.jpeg" ContentType="image/jpeg"/>
  <Override PartName="/ppt/media/image46.png" ContentType="image/png"/>
  <Override PartName="/ppt/media/image19.jpeg" ContentType="image/jpeg"/>
  <Override PartName="/ppt/media/image49.png" ContentType="image/png"/>
  <Override PartName="/ppt/media/image44.png" ContentType="image/png"/>
  <Override PartName="/ppt/media/image13.jpeg" ContentType="image/jpeg"/>
  <Override PartName="/ppt/media/image51.jpeg" ContentType="image/jpeg"/>
  <Override PartName="/ppt/media/image23.png" ContentType="image/png"/>
  <Override PartName="/ppt/media/image33.png" ContentType="image/png"/>
  <Override PartName="/ppt/media/image41.jpeg" ContentType="image/jpeg"/>
  <Override PartName="/ppt/media/image14.jpeg" ContentType="image/jpeg"/>
  <Override PartName="/ppt/media/image45.png" ContentType="image/png"/>
  <Override PartName="/ppt/media/image53.jpeg" ContentType="image/jpeg"/>
  <Override PartName="/ppt/media/image39.jpeg" ContentType="image/jpeg"/>
  <Override PartName="/ppt/media/image8.png" ContentType="image/png"/>
  <Override PartName="/ppt/media/image38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48.png" ContentType="image/png"/>
  <Override PartName="/ppt/media/image5.jpeg" ContentType="image/jpeg"/>
  <Override PartName="/ppt/media/image5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A031-4A5E-4404-9D1B-6CE11B26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261-D596-487F-9CD4-2F924234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67E-3425-4AD9-B684-29F9BD4F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DD5-7AD0-4656-9B77-8EDF02A4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FFD5-B43C-4BCA-99F5-1C9239A5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40F5-A609-43DB-A51A-FBF8C1D0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A6FB-2080-4E86-B17D-029329A7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FE01-AAD1-4BED-8919-E3B8466D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352C-F597-4F7A-8771-8F571A7F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DEFC-3A91-4812-BA81-72469105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51A8-B4DB-4094-A68A-0BFE5527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428-24AC-4119-945E-34A13BDE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2642-0DDD-4E25-B7BA-8B77F00A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5BE5-0FB2-4CB8-933B-B2CBE922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66E7-7A3E-4561-9FD5-576F879C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260C-02D2-4F8A-859A-B37005F4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C7FB-6B30-4F83-8C6E-43FFF257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911A-C5D8-40D4-8C9B-9665C5DF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84A5-61A5-4D11-851E-52A01547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851-2FB6-4D74-9C8D-99F257A1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D80-B01A-446E-96F2-D44D7E87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A093-6E99-4B3F-8D4B-1E675B58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CDB-F1CB-4221-B9AE-918F43F1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16F4-549A-4DB2-9FAD-EAE40C00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7CB3-CA37-48A5-9624-E040D488C32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3123-466E-4422-A74D-5B9D7F80397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jpeg"/><Relationship Id="rId3" Type="http://schemas.openxmlformats.org/officeDocument/2006/relationships/image" Target="../media/image30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20.jpeg"/><Relationship Id="rId4" Type="http://schemas.openxmlformats.org/officeDocument/2006/relationships/image" Target="../media/image25.jpeg"/><Relationship Id="rId5" Type="http://schemas.openxmlformats.org/officeDocument/2006/relationships/image" Target="../media/image38.pn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0.pn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C:\Documents and Settings\TAHK\Рабочий стол\e5d96229e07c.jpg"/>
          <p:cNvPicPr/>
          <p:nvPr/>
        </p:nvPicPr>
        <p:blipFill>
          <a:blip r:embed="rId1"/>
          <a:stretch/>
        </p:blipFill>
        <p:spPr>
          <a:xfrm>
            <a:off x="6226200" y="2214720"/>
            <a:ext cx="2917800" cy="4643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Documents and Settings\TAHK\Рабочий стол\20.jpg"/>
          <p:cNvPicPr/>
          <p:nvPr/>
        </p:nvPicPr>
        <p:blipFill>
          <a:blip r:embed="rId2"/>
          <a:stretch/>
        </p:blipFill>
        <p:spPr>
          <a:xfrm>
            <a:off x="5683320" y="0"/>
            <a:ext cx="3460680" cy="2360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Documents and Settings\TAHK\Рабочий стол\121386-050-4964D6D7.jpg"/>
          <p:cNvPicPr/>
          <p:nvPr/>
        </p:nvPicPr>
        <p:blipFill>
          <a:blip r:embed="rId3"/>
          <a:stretch/>
        </p:blipFill>
        <p:spPr>
          <a:xfrm>
            <a:off x="0" y="3357720"/>
            <a:ext cx="4071960" cy="3500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Documents and Settings\TAHK\Рабочий стол\12379106_Venus_EUR.jpg"/>
          <p:cNvPicPr/>
          <p:nvPr/>
        </p:nvPicPr>
        <p:blipFill>
          <a:blip r:embed="rId4"/>
          <a:stretch/>
        </p:blipFill>
        <p:spPr>
          <a:xfrm>
            <a:off x="0" y="0"/>
            <a:ext cx="6357960" cy="480528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1" descr=""/>
          <p:cNvPicPr/>
          <p:nvPr/>
        </p:nvPicPr>
        <p:blipFill>
          <a:blip r:embed="rId5"/>
          <a:stretch/>
        </p:blipFill>
        <p:spPr>
          <a:xfrm>
            <a:off x="407880" y="1365120"/>
            <a:ext cx="8643960" cy="2054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7" descr="C:\Documents and Settings\TAHK\Рабочий стол\20100506-IMG_5303.jpg"/>
          <p:cNvPicPr/>
          <p:nvPr/>
        </p:nvPicPr>
        <p:blipFill>
          <a:blip r:embed="rId6"/>
          <a:stretch/>
        </p:blipFill>
        <p:spPr>
          <a:xfrm>
            <a:off x="3500280" y="4714920"/>
            <a:ext cx="3210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C:\Documents and Settings\TAHK\Рабочий стол\0_1c31b_a04169c_XL.jpg"/>
          <p:cNvPicPr/>
          <p:nvPr/>
        </p:nvPicPr>
        <p:blipFill>
          <a:blip r:embed="rId1"/>
          <a:stretch/>
        </p:blipFill>
        <p:spPr>
          <a:xfrm>
            <a:off x="0" y="0"/>
            <a:ext cx="428616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Documents and Settings\TAHK\Рабочий стол\0c9f090daeedt.jpg"/>
          <p:cNvPicPr/>
          <p:nvPr/>
        </p:nvPicPr>
        <p:blipFill>
          <a:blip r:embed="rId2"/>
          <a:stretch/>
        </p:blipFill>
        <p:spPr>
          <a:xfrm>
            <a:off x="4214880" y="0"/>
            <a:ext cx="492912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Заголовок 2" descr=""/>
          <p:cNvPicPr/>
          <p:nvPr/>
        </p:nvPicPr>
        <p:blipFill>
          <a:blip r:embed="rId3"/>
          <a:stretch/>
        </p:blipFill>
        <p:spPr>
          <a:xfrm>
            <a:off x="450720" y="2066760"/>
            <a:ext cx="8242560" cy="1584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6049800"/>
            <a:ext cx="1144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42920" y="1523880"/>
            <a:ext cx="614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громная роль, в живописи принадлежала Мазаччо смело порывает со средневековыми традициями (Троица), (Изгнание из рая).        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аоло Уччелло  (Св. Георгий и дракон),(Битва при Сан-Романо).         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ьеро делла Франческа крупнейшего цикл фресок в церкви Сан-Франческо в Ареццо, (Смерть Адама) (Битва между Ираклием и Хосроем)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андро Боттичелли, (Рождение Венеры, Весна)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2" descr="C:\Documents and Settings\TAHK\Рабочий стол\e5d96229e07c.jpg"/>
          <p:cNvPicPr/>
          <p:nvPr/>
        </p:nvPicPr>
        <p:blipFill>
          <a:blip r:embed="rId2"/>
          <a:stretch/>
        </p:blipFill>
        <p:spPr>
          <a:xfrm>
            <a:off x="6215040" y="285840"/>
            <a:ext cx="1577880" cy="2390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TAHK\Рабочий стол\24d9d528c263.jpg"/>
          <p:cNvPicPr/>
          <p:nvPr/>
        </p:nvPicPr>
        <p:blipFill>
          <a:blip r:embed="rId3"/>
          <a:stretch/>
        </p:blipFill>
        <p:spPr>
          <a:xfrm>
            <a:off x="6572160" y="2643120"/>
            <a:ext cx="2181240" cy="1643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Documents and Settings\TAHK\Рабочий стол\12379106_Venus_EUR.jpg"/>
          <p:cNvPicPr/>
          <p:nvPr/>
        </p:nvPicPr>
        <p:blipFill>
          <a:blip r:embed="rId4"/>
          <a:stretch/>
        </p:blipFill>
        <p:spPr>
          <a:xfrm>
            <a:off x="6286680" y="4286160"/>
            <a:ext cx="232380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0" y="1428840"/>
            <a:ext cx="61437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Леонардо да Винчи создал целый ряд великолепных алтарных образов и портретов (Мадонна Литта, Мона Лиза, Рафаэля Санти, Сикстинская мадонна, Портрет Б. Кастильоне). 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ициан вошел в историю итальянского искусства как титан и глава венецианской школы, как символ ее расцвета. отличается исключительно широким и разносторонним охватом типов и                жанров живописи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2" descr="C:\Documents and Settings\TAHK\Рабочий стол\original.jpg"/>
          <p:cNvPicPr/>
          <p:nvPr/>
        </p:nvPicPr>
        <p:blipFill>
          <a:blip r:embed="rId2"/>
          <a:stretch/>
        </p:blipFill>
        <p:spPr>
          <a:xfrm>
            <a:off x="5929200" y="3857760"/>
            <a:ext cx="3002040" cy="2357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Documents and Settings\TAHK\Рабочий стол\0_1c31b_a04169c_XL.jpg"/>
          <p:cNvPicPr/>
          <p:nvPr/>
        </p:nvPicPr>
        <p:blipFill>
          <a:blip r:embed="rId3"/>
          <a:stretch/>
        </p:blipFill>
        <p:spPr>
          <a:xfrm>
            <a:off x="6643800" y="357120"/>
            <a:ext cx="227016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42560" y="1523880"/>
            <a:ext cx="8543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XV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в. —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это преимущественно стадия «ученого» гуманизма, развитие ренессансной философии, этики, педагогики. Созданные в этот период художественные сочинения известны сейчас более всего специалистам, но это время широкого распространения по Европе идей и книг итальянских гуманистов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Лоренцо Медичи, для творчества которого характерны карнавальные песни, воспевающие радость жизни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лициано принадлежит первая гуманистическая поэма, написанная для театра, 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Сказание об Орфе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213840" y="1523880"/>
            <a:ext cx="52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нато Браманте. Наивысшим творческим достижением является реконструкция Ватикана, проект собора Св. Петра в Рим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2" descr="C:\Documents and Settings\TAHK\Рабочий стол\121386-050-4964D6D7.jpg"/>
          <p:cNvPicPr/>
          <p:nvPr/>
        </p:nvPicPr>
        <p:blipFill>
          <a:blip r:embed="rId2"/>
          <a:stretch/>
        </p:blipFill>
        <p:spPr>
          <a:xfrm>
            <a:off x="500040" y="3571920"/>
            <a:ext cx="3714840" cy="2965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:\Documents and Settings\TAHK\Рабочий стол\0a04c471336d53ae281a1a1dea62b242.jpg"/>
          <p:cNvPicPr/>
          <p:nvPr/>
        </p:nvPicPr>
        <p:blipFill>
          <a:blip r:embed="rId3"/>
          <a:stretch/>
        </p:blipFill>
        <p:spPr>
          <a:xfrm>
            <a:off x="4357800" y="3571920"/>
            <a:ext cx="392904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6" descr="C:\Documents and Settings\TAHK\Рабочий стол\michelange10.jpg"/>
          <p:cNvPicPr/>
          <p:nvPr/>
        </p:nvPicPr>
        <p:blipFill>
          <a:blip r:embed="rId1"/>
          <a:stretch/>
        </p:blipFill>
        <p:spPr>
          <a:xfrm>
            <a:off x="7000920" y="2500200"/>
            <a:ext cx="2143080" cy="4357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C:\Documents and Settings\TAHK\Рабочий стол\i.jpg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492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Documents and Settings\TAHK\Рабочий стол\b88468a39a355a1da1e33529446f56c1.jpg"/>
          <p:cNvPicPr/>
          <p:nvPr/>
        </p:nvPicPr>
        <p:blipFill>
          <a:blip r:embed="rId3"/>
          <a:stretch/>
        </p:blipFill>
        <p:spPr>
          <a:xfrm>
            <a:off x="0" y="3429000"/>
            <a:ext cx="2143080" cy="342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Documents and Settings\TAHK\Рабочий стол\000123.jpg"/>
          <p:cNvPicPr/>
          <p:nvPr/>
        </p:nvPicPr>
        <p:blipFill>
          <a:blip r:embed="rId4"/>
          <a:stretch/>
        </p:blipFill>
        <p:spPr>
          <a:xfrm>
            <a:off x="1785960" y="0"/>
            <a:ext cx="523872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Заголовок 2" descr=""/>
          <p:cNvPicPr/>
          <p:nvPr/>
        </p:nvPicPr>
        <p:blipFill>
          <a:blip r:embed="rId5"/>
          <a:stretch/>
        </p:blipFill>
        <p:spPr>
          <a:xfrm>
            <a:off x="450720" y="2139840"/>
            <a:ext cx="8461440" cy="1725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 rot="10800000">
            <a:off x="457200" y="6095160"/>
            <a:ext cx="46080" cy="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080" bIns="108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C:\Documents and Settings\TAHK\Рабочий стол\moise.jpg"/>
          <p:cNvPicPr/>
          <p:nvPr/>
        </p:nvPicPr>
        <p:blipFill>
          <a:blip r:embed="rId6"/>
          <a:stretch/>
        </p:blipFill>
        <p:spPr>
          <a:xfrm>
            <a:off x="0" y="0"/>
            <a:ext cx="17859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XVI в. — отмечено процессом кризиса гуманистических идей. Это время осознания трагизма человеческой жизни, конфликта между чаяниями и способностями человека и реальными трудностями их воплощения, время смены стил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дреа Палладио основанное на глубоком изучении античной и ренессансной архитектуры, представляет собой одну из вершин в искусстве Позднего Возрождения, влияние которого сильно влияло на развитие архитектуры последующих веков было огромным.  театр Олимпико.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2" descr="C:\Documents and Settings\TAHK\Рабочий стол\vicenza_teatro_olimpico.jpg"/>
          <p:cNvPicPr/>
          <p:nvPr/>
        </p:nvPicPr>
        <p:blipFill>
          <a:blip r:embed="rId2"/>
          <a:stretch/>
        </p:blipFill>
        <p:spPr>
          <a:xfrm>
            <a:off x="1285920" y="4143240"/>
            <a:ext cx="62150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142920" y="1356840"/>
            <a:ext cx="614376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оло Веронезе. Художник-монументалист, он создал великолепные декоративные ансамбли стенных и плафонных росписей с множеством персонажей и занимательных деталей виллы Барбаро-Вольпи в Мазере, картина (Брак в Кане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инторетто. В своем творчестве он был гигантской фигурой, отличался поистине нечеловеческой трудоспособностью, неутомимостью исканий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списи залов Скуола ди Сан-Рокко. картина (Распятие).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2" descr="C:\Documents and Settings\TAHK\Рабочий стол\resurrection.jpeg"/>
          <p:cNvPicPr/>
          <p:nvPr/>
        </p:nvPicPr>
        <p:blipFill>
          <a:blip r:embed="rId2"/>
          <a:stretch/>
        </p:blipFill>
        <p:spPr>
          <a:xfrm>
            <a:off x="6500880" y="1000080"/>
            <a:ext cx="1928880" cy="2586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Documents and Settings\TAHK\Рабочий стол\moise.jpg"/>
          <p:cNvPicPr/>
          <p:nvPr/>
        </p:nvPicPr>
        <p:blipFill>
          <a:blip r:embed="rId3"/>
          <a:stretch/>
        </p:blipFill>
        <p:spPr>
          <a:xfrm>
            <a:off x="6429240" y="3643200"/>
            <a:ext cx="2143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85480" y="1523880"/>
            <a:ext cx="5429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келанджело Буонарроти, величайший мастер Высокого Возрождения — ваятель, живописец, архитектор и поэт. Свой творческий путь этот титан Возрождения начал со скульптуры. Его колоссальные статуи стали символом нового человека — героя и борца («Давид»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2" descr="C:\Documents and Settings\TAHK\Рабочий стол\0c9f090daeedt.jpg"/>
          <p:cNvPicPr/>
          <p:nvPr/>
        </p:nvPicPr>
        <p:blipFill>
          <a:blip r:embed="rId2"/>
          <a:stretch/>
        </p:blipFill>
        <p:spPr>
          <a:xfrm>
            <a:off x="5572080" y="1357200"/>
            <a:ext cx="28558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2" descr=""/>
          <p:cNvPicPr/>
          <p:nvPr/>
        </p:nvPicPr>
        <p:blipFill>
          <a:blip r:embed="rId1"/>
          <a:stretch/>
        </p:blipFill>
        <p:spPr>
          <a:xfrm>
            <a:off x="208080" y="-30240"/>
            <a:ext cx="8654760" cy="1444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0" y="1356840"/>
            <a:ext cx="614376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IV-XV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Италия находится в состоянии политическую раздробленности, но эта эпоха знаменита богатым культурным возрождением традиций древней Греции и Ри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талия раздробленна на 15 государств и независимых городов, между которыми вспыхивали междоусобные войны. Это несомненно затрудняло развитие науки и искусства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3" descr="C:\Documents and Settings\TAHK\Рабочий стол\italia.jpg"/>
          <p:cNvPicPr/>
          <p:nvPr/>
        </p:nvPicPr>
        <p:blipFill>
          <a:blip r:embed="rId2"/>
          <a:stretch/>
        </p:blipFill>
        <p:spPr>
          <a:xfrm>
            <a:off x="5857920" y="1428840"/>
            <a:ext cx="302256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213840" y="1523880"/>
            <a:ext cx="8643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поха возрождения подарила миру такие памятники как, балет и опер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явилось множество новых музыкальных инструмент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ca5cfa112ea1.mp3" descr=""/>
          <p:cNvPicPr/>
          <p:nvPr/>
        </p:nvPicPr>
        <p:blipFill>
          <a:blip r:embed="rId2"/>
          <a:stretch/>
        </p:blipFill>
        <p:spPr>
          <a:xfrm>
            <a:off x="428760" y="3357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7" name="d256c8cdca6e.mp3" descr=""/>
          <p:cNvPicPr/>
          <p:nvPr/>
        </p:nvPicPr>
        <p:blipFill>
          <a:blip r:embed="rId3"/>
          <a:stretch/>
        </p:blipFill>
        <p:spPr>
          <a:xfrm>
            <a:off x="928800" y="3357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0644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чти сорок лет, с 1454 по 1494 год, Италия наслаждалась миром и расцветом культуры эпохи Возрождения, проявившейся в искусстве, науке и философ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494 году Карл VIII вторгся в Италию и 22 февраля 1495 года вступил в Рим; затем последовали другие нашествия. В 1527 году Рим был разграблен войсками императора Кар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черки по истории мировой культуры под редакцией Т.Ф.Кузнецовой. Моск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льтурология. Научный редактор профессор Г.В.Драч. Ростов-на-Дон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дательство «Феникс», 199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удожник  нарисовавший Рождение Вене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10082"/>
                </a:solidFill>
                <a:uFillTx/>
                <a:latin typeface="Times New Roman"/>
                <a:hlinkClick r:id="rId2" action="ppaction://hlinksldjump"/>
              </a:rPr>
              <a:t>Сандро Боттичел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10082"/>
                </a:solidFill>
                <a:uFillTx/>
                <a:latin typeface="Times New Roman"/>
                <a:hlinkClick r:id="rId3" action="ppaction://hlinksldjump"/>
              </a:rPr>
              <a:t>Буонарро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10082"/>
                </a:solidFill>
                <a:uFillTx/>
                <a:latin typeface="Times New Roman"/>
                <a:hlinkClick r:id="rId4" action="ppaction://hlinksldjump"/>
              </a:rPr>
              <a:t>Боккачч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10082"/>
                </a:solidFill>
                <a:uFillTx/>
                <a:latin typeface="Times New Roman"/>
                <a:hlinkClick r:id="rId5" action="ppaction://hlinksldjump"/>
              </a:rPr>
              <a:t>Дави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5520" y="1562760"/>
            <a:ext cx="1500120" cy="23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57120" y="571680"/>
            <a:ext cx="8229600" cy="56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сударство в котором быстрее всего началась эпоха возрождения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10082"/>
                </a:solidFill>
                <a:uFillTx/>
                <a:latin typeface="Times New Roman"/>
                <a:hlinkClick r:id="rId1" action="ppaction://hlinksldjump"/>
              </a:rPr>
              <a:t>Итал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10082"/>
                </a:solidFill>
                <a:uFillTx/>
                <a:latin typeface="Times New Roman"/>
                <a:hlinkClick r:id="rId2" action="ppaction://hlinksldjump"/>
              </a:rPr>
              <a:t>Фран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гл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времен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эпоху возрождения принято называть за рубежом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нессан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рокк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еод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лектив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сколько этапов можно разделить эпоху возрождения в Италии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оначальником ренессанса в архитектуре стал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липпо Брунеллес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оло Уччелл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оренц Меч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еро де Монс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Documents and Settings\TAHK\Рабочий стол\64565.gif"/>
          <p:cNvPicPr/>
          <p:nvPr/>
        </p:nvPicPr>
        <p:blipFill>
          <a:blip r:embed="rId3"/>
          <a:stretch/>
        </p:blipFill>
        <p:spPr>
          <a:xfrm>
            <a:off x="2000160" y="1785960"/>
            <a:ext cx="52387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Documents and Settings\TAHK\Рабочий стол\88ccc91c6388db50-large.jpg"/>
          <p:cNvPicPr/>
          <p:nvPr/>
        </p:nvPicPr>
        <p:blipFill>
          <a:blip r:embed="rId3"/>
          <a:stretch/>
        </p:blipFill>
        <p:spPr>
          <a:xfrm>
            <a:off x="1785960" y="1714680"/>
            <a:ext cx="5545080" cy="42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0" y="928440"/>
            <a:ext cx="9144000" cy="51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громное влияние движения гуманистов на все сферы жизнедеятельности.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уманисты считали, что каждый человек имеет право свободно развиваться как личность, реализуя свои способности, эта идея наиболее ярко воплотились в искусстве, главной темой которого стал прекрасный, гармонически развитый человек, обладающий неограниченными духовными и творческими возможностя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рождение Италии условно можно разделена 3 этапа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ннее возрождени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сокое возрождени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днее возрожде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C:\Documents and Settings\TAHK\Рабочий стол\image001 (1).jpg"/>
          <p:cNvPicPr/>
          <p:nvPr/>
        </p:nvPicPr>
        <p:blipFill>
          <a:blip r:embed="rId1"/>
          <a:stretch/>
        </p:blipFill>
        <p:spPr>
          <a:xfrm>
            <a:off x="0" y="3333600"/>
            <a:ext cx="6072120" cy="352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Documents and Settings\TAHK\Рабочий стол\1_693c47309cd65a4bde498f4e4b563909.JPG"/>
          <p:cNvPicPr/>
          <p:nvPr/>
        </p:nvPicPr>
        <p:blipFill>
          <a:blip r:embed="rId2"/>
          <a:stretch/>
        </p:blipFill>
        <p:spPr>
          <a:xfrm>
            <a:off x="0" y="0"/>
            <a:ext cx="6500880" cy="3786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Documents and Settings\TAHK\Рабочий стол\image001.jpg"/>
          <p:cNvPicPr/>
          <p:nvPr/>
        </p:nvPicPr>
        <p:blipFill>
          <a:blip r:embed="rId3"/>
          <a:stretch/>
        </p:blipFill>
        <p:spPr>
          <a:xfrm>
            <a:off x="5643720" y="0"/>
            <a:ext cx="3857400" cy="6896160"/>
          </a:xfrm>
          <a:prstGeom prst="rect">
            <a:avLst/>
          </a:prstGeom>
          <a:ln w="0">
            <a:noFill/>
          </a:ln>
        </p:spPr>
      </p:pic>
      <p:pic>
        <p:nvPicPr>
          <p:cNvPr id="99" name="Заголовок 2" descr=""/>
          <p:cNvPicPr/>
          <p:nvPr/>
        </p:nvPicPr>
        <p:blipFill>
          <a:blip r:embed="rId4"/>
          <a:stretch/>
        </p:blipFill>
        <p:spPr>
          <a:xfrm>
            <a:off x="450720" y="2419200"/>
            <a:ext cx="8242560" cy="1298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5786280"/>
            <a:ext cx="828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XIV в. — это период творчества Петрарки — ученого, гуманиста, но прежде всего в сознании широкого читателя замечательного лирического поэт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ккаччо — поэт и знаменитый новеллис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C:\Documents and Settings\TAHK\Рабочий стол\Giovanni_Boccaccio.jpg"/>
          <p:cNvPicPr/>
          <p:nvPr/>
        </p:nvPicPr>
        <p:blipFill>
          <a:blip r:embed="rId2"/>
          <a:stretch/>
        </p:blipFill>
        <p:spPr>
          <a:xfrm>
            <a:off x="928800" y="3929040"/>
            <a:ext cx="171432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42560" y="1285560"/>
            <a:ext cx="607212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7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Родоначальником ренессанса в архитектуре стал Филиппо Брунеллески (купол собора Санта-Мария дель Фьоре)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Бенедетто да Майано еще следует готики, однако отмечена тонкая гармония, законченности и элегантности. 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Леон Баттиста Альберти. В культовом зодчестве, стремясь к величию и простоте церковь Сант-Андреа. </a:t>
            </a: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        </a:t>
            </a: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3" descr="C:\Documents and Settings\TAHK\Рабочий стол\duomo2_2.jpg"/>
          <p:cNvPicPr/>
          <p:nvPr/>
        </p:nvPicPr>
        <p:blipFill>
          <a:blip r:embed="rId2"/>
          <a:stretch/>
        </p:blipFill>
        <p:spPr>
          <a:xfrm>
            <a:off x="6215040" y="1285920"/>
            <a:ext cx="2405160" cy="1785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Documents and Settings\TAHK\Рабочий стол\b88468a39a355a1da1e33529446f56c1.jpg"/>
          <p:cNvPicPr/>
          <p:nvPr/>
        </p:nvPicPr>
        <p:blipFill>
          <a:blip r:embed="rId3"/>
          <a:stretch/>
        </p:blipFill>
        <p:spPr>
          <a:xfrm>
            <a:off x="6286680" y="3286080"/>
            <a:ext cx="24285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42920" y="1285920"/>
            <a:ext cx="65721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искусстве Венеции еще долго господствовали византийские традиции и готическое влияние. 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ьетро Ломбардо (Палаццо Вендрамин Калерджи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и Мираколи (Церковь Санта-Мария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вым типом венецианского общественного сооружения стала Скуола ди Сан-Марко.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C:\Documents and Settings\TAHK\Рабочий стол\20.jpg"/>
          <p:cNvPicPr/>
          <p:nvPr/>
        </p:nvPicPr>
        <p:blipFill>
          <a:blip r:embed="rId2"/>
          <a:stretch/>
        </p:blipFill>
        <p:spPr>
          <a:xfrm>
            <a:off x="5929200" y="1143000"/>
            <a:ext cx="2889360" cy="2165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Documents and Settings\TAHK\Рабочий стол\450px-SantaMariaMaggiore_front.jpg"/>
          <p:cNvPicPr/>
          <p:nvPr/>
        </p:nvPicPr>
        <p:blipFill>
          <a:blip r:embed="rId3"/>
          <a:stretch/>
        </p:blipFill>
        <p:spPr>
          <a:xfrm>
            <a:off x="6286680" y="35002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14200" y="1523880"/>
            <a:ext cx="55720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оренцо Гиберти Главным принципом искусства считал равновесие и гармонию элементов изображения. (восточные двери флорентийского баптистерия)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копо делла Кверча, Выполненные Кверча монументальные рельефы главного портала церкви Сан-Петронио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укка делла Роббиа бюсты Мадонны, Христа и свят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дреа делла Роббиа (рельефы на фасаде Оспедале дельи Инноченти).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2" descr="C:\Documents and Settings\TAHK\Рабочий стол\20100506-IMG_5303.jpg"/>
          <p:cNvPicPr/>
          <p:nvPr/>
        </p:nvPicPr>
        <p:blipFill>
          <a:blip r:embed="rId2"/>
          <a:stretch/>
        </p:blipFill>
        <p:spPr>
          <a:xfrm>
            <a:off x="5857920" y="1500120"/>
            <a:ext cx="2428920" cy="162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Documents and Settings\TAHK\Рабочий стол\000123.jpg"/>
          <p:cNvPicPr/>
          <p:nvPr/>
        </p:nvPicPr>
        <p:blipFill>
          <a:blip r:embed="rId3"/>
          <a:stretch/>
        </p:blipFill>
        <p:spPr>
          <a:xfrm>
            <a:off x="5857920" y="3214800"/>
            <a:ext cx="254304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5-20T03:15:49Z</dcterms:modified>
  <cp:revision>9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2b0000000000010250600207f5200358026400</vt:lpwstr>
  </property>
</Properties>
</file>