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9CB83B-E7A9-4860-8CF4-3030C30B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02276A-F0D5-4384-8332-6C4C0996C7A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правил правопис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 существ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нам при написании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5836E9-9F98-437C-AD0B-0ADBF23CCF2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21DFAE-7B8D-4976-A0C8-244306E261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065-DE10-4C8F-A6CC-B3622F39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AEB-9A24-4FEF-B30D-A38EFE5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101-DE9F-4C6C-94E1-334CE7CE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D74-47A7-4AB0-8F89-90E64E48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8A5-275B-40FD-9303-08A54C0D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AB0F-2BD9-43A3-A300-FCBB6DC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CBE9-48D8-4ABD-8CA3-FCF49BB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7299-9596-4EBB-8DD9-185DE78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6DE-929A-4316-B62E-EB0ABCA7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2BDA-B7E1-46C3-886D-2F76176B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0ED-78BA-4031-A6AD-94F74EE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7E8-CE8B-4A18-90FA-8BE94A6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A0F-49A9-4EEB-875F-38996EB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10D-1A4E-4BFA-A8F2-A530C1F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38BF-C7F3-453B-A427-92F585E8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AEB-63D9-436A-96E6-98DD56BE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21C9-2A9E-4D01-889C-EDB3ADB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517-1CF0-4617-965E-04CC478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99C-C8E9-480F-A2E0-DF3226D7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5D3-5279-4AF7-BADC-8AE4B44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A90-9F45-4699-9002-DBB6AE1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117-ED23-4E71-8C61-D353852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83C-A5E8-478F-9218-008766E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020-16E6-42D7-B82B-A4ED22D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F81289-DAF5-45BA-B7B1-0D6D330AFC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4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168CD55-3E19-491E-86B2-109BBA45653C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47320" y="18864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884520"/>
            <a:ext cx="2480760" cy="165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247320" y="260640"/>
            <a:ext cx="2116080" cy="2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47320" y="188640"/>
            <a:ext cx="4224240" cy="316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471920" y="3495600"/>
            <a:ext cx="4347720" cy="317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52200" y="3461400"/>
            <a:ext cx="4614480" cy="180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1979640" y="5299560"/>
            <a:ext cx="2188800" cy="139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467640" y="5613120"/>
            <a:ext cx="1292040" cy="76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6"/>
          <a:stretch/>
        </p:blipFill>
        <p:spPr>
          <a:xfrm>
            <a:off x="4667040" y="391320"/>
            <a:ext cx="3681000" cy="27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www.myshared.ru/thumbs/17/1067609/big_thumb.jpg"/>
          <p:cNvPicPr/>
          <p:nvPr/>
        </p:nvPicPr>
        <p:blipFill>
          <a:blip r:embed="rId1"/>
          <a:stretch/>
        </p:blipFill>
        <p:spPr>
          <a:xfrm>
            <a:off x="61560" y="0"/>
            <a:ext cx="8974800" cy="7001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323640" y="3933000"/>
            <a:ext cx="842472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  <a:ea typeface="Calibri"/>
              </a:rPr>
              <a:t>ДАНО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  <a:ea typeface="Calibri"/>
              </a:rPr>
              <a:t>Из какого слова из семи букв удаляется  одна "буква ", чтобы осталось только две  бук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  <a:ea typeface="Calibri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48920" y="6165360"/>
            <a:ext cx="1740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БУКВА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771640" y="-28080"/>
            <a:ext cx="3096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4883760" y="481320"/>
            <a:ext cx="233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усоросбор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4520" y="0"/>
            <a:ext cx="3419640" cy="48445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1043640" y="2072880"/>
            <a:ext cx="2016000" cy="282852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опушк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 Black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к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 Black"/>
              </a:rPr>
              <a:t>о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локольчик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незабу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д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ш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пов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р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ма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со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л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нц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пт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н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м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двеж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7375e"/>
                </a:solidFill>
                <a:latin typeface="Arial Black"/>
              </a:rPr>
              <a:t>в берлог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315720" y="5157360"/>
            <a:ext cx="116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ВЫВОД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45000" y="5639040"/>
            <a:ext cx="376704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нание правил правопис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имен существи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могают безошибочно  применять существительные  при пис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120120" y="1090440"/>
            <a:ext cx="58590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977760" y="477720"/>
            <a:ext cx="352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ТВОРЧЕСКАЯ    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-4680" y="1038240"/>
            <a:ext cx="4180320" cy="313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446720" y="882000"/>
            <a:ext cx="4590720" cy="344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460440" y="4065120"/>
            <a:ext cx="3723480" cy="27925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542560" y="817920"/>
            <a:ext cx="2564640" cy="363960"/>
          </a:xfrm>
          <a:prstGeom prst="rect">
            <a:avLst/>
          </a:prstGeom>
          <a:gradFill rotWithShape="0">
            <a:gsLst>
              <a:gs pos="28000">
                <a:srgbClr val="c0c3e7"/>
              </a:gs>
              <a:gs pos="100000">
                <a:srgbClr val="8c93ce"/>
              </a:gs>
            </a:gsLst>
            <a:lin ang="5400000"/>
          </a:gradFill>
          <a:ln>
            <a:solidFill>
              <a:srgbClr val="4e67c8"/>
            </a:solidFill>
            <a:round/>
          </a:ln>
          <a:effectLst>
            <a:outerShdw blurRad="63360" dir="5400000" dist="50760" rotWithShape="0" sx="98000" sy="98000">
              <a:srgbClr val="000000">
                <a:alpha val="2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Arial Black"/>
              </a:rPr>
              <a:t>Что такое добро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4"/>
          <a:stretch/>
        </p:blipFill>
        <p:spPr>
          <a:xfrm>
            <a:off x="4120560" y="5157360"/>
            <a:ext cx="4949640" cy="8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47320" y="188640"/>
            <a:ext cx="8572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  <Words>70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1:32:19Z</dcterms:created>
  <dc:creator>user</dc:creator>
  <dc:description/>
  <dc:language>en-US</dc:language>
  <cp:lastModifiedBy>Admin</cp:lastModifiedBy>
  <cp:lastPrinted>2016-11-23T11:43:47Z</cp:lastPrinted>
  <dcterms:modified xsi:type="dcterms:W3CDTF">2016-12-01T17:39:17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