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68A5E5-A101-4E42-8C2F-072BC4820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ABCB8E-3682-4A2B-8623-810F826BFCF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A36099-BF14-4B5E-BEE5-24F95E67C9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A8E-0AC5-4D74-8E59-C77095FF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0FA-D161-4E96-862B-F4BC64BA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8D9-E5EA-433C-B1BF-D5FE985C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8BD-6D21-4CE5-B7DE-7F605F8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BC2F-083A-43A1-95C5-C5FD7DE0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365-1213-4C81-8829-667EF89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725B-83AB-45E5-8179-E8E43B66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7B2-EB1D-4CD7-B03D-A4F2F36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5F8-019A-4700-A1BC-3ABCF32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96FB-34C0-4581-A2DD-7ED2068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9FF3-4DD8-4C0A-A6A1-E077F10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390-7080-4EA0-BC98-725BEE7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D0F-5ACC-47B2-8EEF-EDB988F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9533-2E9A-4C1C-A081-6E40F69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DA3E-53F2-48EF-A385-7F570F3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0C1-23B0-4D9A-B9EA-A313A8C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D27-D2E0-4A61-9462-C913534E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029-DB21-43ED-A1D5-BA56681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512-C9C1-47FF-BD76-0EA88E7F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BB1-FA33-41CA-A568-1BB27F1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EC0-2F9D-43EC-9535-BB6BC3F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FA7-C967-4582-9328-FABB584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9A2-E802-404C-9AD0-DA7F2CA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70D-689B-4422-91ED-F445A71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AD891F-301F-4D4F-99AB-DC8E908EF18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73F73-B611-4480-A985-B7C6BE4191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C:/Users/&#1045;&#1082;&#1072;&#1090;&#1077;&#1088;&#1080;&#1085;&#1072;/Desktop/&#1044;&#1048;&#1057;-4/&#1047;&#1072;&#1085;&#1103;&#1090;&#1080;&#1077;%206/&#1047;&#1072;&#1076;&#1072;&#1085;&#1080;&#1077;%206/&#1047;&#1072;&#1085;&#1103;&#1090;&#1080;&#1077;%206/&#1057;&#1086;&#1087;&#1088;&#1086;&#1074;&#1086;&#1078;&#1076;&#1077;&#1085;&#1080;&#1077;.wma" TargetMode="External"/><Relationship Id="rId3" Type="http://schemas.microsoft.com/office/2007/relationships/media" Target="file:///C:/Users/&#1045;&#1082;&#1072;&#1090;&#1077;&#1088;&#1080;&#1085;&#1072;/Desktop/&#1044;&#1048;&#1057;-4/&#1047;&#1072;&#1085;&#1103;&#1090;&#1080;&#1077;%206/&#1047;&#1072;&#1076;&#1072;&#1085;&#1080;&#1077;%206/&#1047;&#1072;&#1085;&#1103;&#1090;&#1080;&#1077;%206/&#1057;&#1086;&#1087;&#1088;&#1086;&#1074;&#1086;&#1078;&#1076;&#1077;&#1085;&#1080;&#1077;.wma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1760" y="428760"/>
            <a:ext cx="6071760" cy="146952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ff"/>
                </a:solidFill>
                <a:latin typeface="Monotype Corsiva"/>
              </a:rPr>
              <a:t>История фартука: </a:t>
            </a:r>
            <a:r>
              <a:rPr b="0" lang="ru-RU" sz="5300" spc="-1" strike="noStrike">
                <a:solidFill>
                  <a:srgbClr val="ffffff"/>
                </a:solidFill>
                <a:latin typeface="Monotype Corsiva"/>
              </a:rPr>
              <a:t>модный аксессуар</a:t>
            </a:r>
            <a:endParaRPr b="0" lang="ru-RU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0040" y="5429160"/>
            <a:ext cx="8143560" cy="107136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боту выполнила ученица 7 а класса Гусева Кр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14200" y="4929120"/>
            <a:ext cx="304560" cy="223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14880" y="0"/>
            <a:ext cx="457164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1822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3240" y="1000080"/>
            <a:ext cx="4643280" cy="856800"/>
          </a:xfrm>
          <a:prstGeom prst="rect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 приходом 19 века мода на фартуки не прошл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9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8920" y="142920"/>
            <a:ext cx="4643280" cy="6537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1820 – 1830 г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5857560" cy="7855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онец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XIX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оле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8840" y="214200"/>
            <a:ext cx="630036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66"/>
                </a:solidFill>
                <a:latin typeface="Monotype Corsiva"/>
              </a:rPr>
              <a:t>Начало </a:t>
            </a:r>
            <a:r>
              <a:rPr b="1" lang="en-US" sz="4400" spc="-1" strike="noStrike">
                <a:solidFill>
                  <a:srgbClr val="ffff66"/>
                </a:solidFill>
                <a:latin typeface="Monotype Corsiva"/>
              </a:rPr>
              <a:t>XX </a:t>
            </a:r>
            <a:r>
              <a:rPr b="1" lang="ru-RU" sz="4400" spc="-1" strike="noStrike">
                <a:solidFill>
                  <a:srgbClr val="ffff66"/>
                </a:solidFill>
                <a:latin typeface="Monotype Corsiva"/>
              </a:rPr>
              <a:t>ве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6120" y="5429160"/>
            <a:ext cx="5114520" cy="12139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txBody>
          <a:bodyPr anchor="t">
            <a:normAutofit fontScale="84000"/>
          </a:bodyPr>
          <a:p>
            <a:pPr marL="3114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артуки вышли из моды, стали лишь частью униформы прислуги и обслуживающего персонал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28960" y="0"/>
            <a:ext cx="57574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1920-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29160" y="1600200"/>
            <a:ext cx="3257280" cy="35431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С 1920-х годов, когда многие женщины стали сами выполнять работу по дому, в каждом доме снова появился фартук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4114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теперь такой фартук называется кухонны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Современност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00160" y="857160"/>
            <a:ext cx="4928760" cy="104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Фартук иногда используют для дополнения костюм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5071680" cy="164268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ревнейший вариант фарту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3571920"/>
            <a:ext cx="3971520" cy="7855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9a0000"/>
                </a:solidFill>
                <a:latin typeface="Georgia"/>
              </a:rPr>
              <a:t>Древний  Египе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2920" y="214200"/>
            <a:ext cx="5714640" cy="149976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Со времен  средневековья  фартуком пользовались,  чтобы  прикрыть, защитить  платье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85840" y="1857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0" y="214200"/>
            <a:ext cx="3928680" cy="9997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1715 – 1789 гг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0080" y="5572080"/>
            <a:ext cx="7357680" cy="114264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ртук  становится  модным аксессуаром для состоятельных  да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00240" y="0"/>
            <a:ext cx="3785760" cy="6426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е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114264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Начало  </a:t>
            </a: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ве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5880" y="1000080"/>
            <a:ext cx="7515000" cy="85680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t">
            <a:normAutofit fontScale="89000"/>
          </a:bodyPr>
          <a:p>
            <a:pPr marL="32976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Фартуки  украшаются  сложной  вышивкой, кружевом,  оборкам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28880" y="714240"/>
            <a:ext cx="36428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Фартучки из нежнейшего муслина,  вышитого  в тон белым   хлопком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240" cy="999720"/>
          </a:xfrm>
          <a:prstGeom prst="rect">
            <a:avLst/>
          </a:prstGeom>
          <a:noFill/>
          <a:ln w="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300" spc="-1" strike="noStrike">
                <a:solidFill>
                  <a:srgbClr val="ffffff"/>
                </a:solidFill>
                <a:latin typeface="Monotype Corsiva"/>
              </a:rPr>
              <a:t>Конец  </a:t>
            </a:r>
            <a:r>
              <a:rPr b="0" lang="en-US" sz="53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lang="ru-RU" sz="5300" spc="-1" strike="noStrike">
                <a:solidFill>
                  <a:srgbClr val="ffffff"/>
                </a:solidFill>
                <a:latin typeface="Monotype Corsiva"/>
              </a:rPr>
              <a:t>века</a:t>
            </a:r>
            <a:br>
              <a:rPr sz="4400"/>
            </a:br>
            <a:endParaRPr b="0" lang="ru-RU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71880" y="214200"/>
            <a:ext cx="328572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век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5880" y="5286240"/>
            <a:ext cx="7472160" cy="135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Модны были и такие шелковые фартуки, вышитые гладью и отделанные кружево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57120" y="2071800"/>
            <a:ext cx="371448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Georgia"/>
              </a:rPr>
              <a:t>Более знатные дамы носили ложную юбку – «tablier». Это был богато декорированный съемный передник из кружев, который прикалывали булавками к верхней юбке, когда садились к обеденному стол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Monotype Corsiva"/>
              </a:rPr>
              <a:t>XVIII </a:t>
            </a:r>
            <a:r>
              <a:rPr b="1" lang="ru-RU" sz="4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Monotype Corsiva"/>
              </a:rPr>
              <a:t>век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fade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  <Words>169</Words>
  <Paragraphs>2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5:20:29Z</dcterms:created>
  <dc:creator>Екатерина</dc:creator>
  <dc:description/>
  <dc:language>en-US</dc:language>
  <cp:lastModifiedBy>Альбина</cp:lastModifiedBy>
  <dcterms:modified xsi:type="dcterms:W3CDTF">2014-11-13T08:31:33Z</dcterms:modified>
  <cp:revision>129</cp:revision>
  <dc:subject/>
  <dc:title>История фартука: модный аксесс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2</vt:r8>
  </property>
  <property fmtid="{D5CDD505-2E9C-101B-9397-08002B2CF9AE}" pid="4" name="PresentationFormat">
    <vt:lpwstr>Экран (4:3)</vt:lpwstr>
  </property>
  <property fmtid="{D5CDD505-2E9C-101B-9397-08002B2CF9AE}" pid="5" name="Slides">
    <vt:r8>16</vt:r8>
  </property>
</Properties>
</file>