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gif" ContentType="image/gif"/>
  <Override PartName="/ppt/media/image13.png" ContentType="image/png"/>
  <Override PartName="/ppt/media/image12.jpeg" ContentType="image/jpeg"/>
  <Override PartName="/ppt/media/image29.jpeg" ContentType="image/jpeg"/>
  <Override PartName="/ppt/media/image2.gif" ContentType="image/gif"/>
  <Override PartName="/ppt/media/image8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04B63-16AC-4076-9DCE-856DF80DFB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50DA2-8AEA-405C-A06F-585AE135C7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0226D-65AD-4340-98AE-FEF86B511E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C14DF-6957-4F69-A28B-4314B93849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56D23-DCDD-4FA0-8042-028FDFE398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383E2-BE76-41A6-BBAB-A82589044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96261-DC36-4406-AB42-33421F158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B27C7-0E4D-4FF8-8898-06917BC7ED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AFE88-5E48-46F2-B33F-EDD1E1CAAF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9462E-8A49-46C1-80D1-89F128F6D0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4A04B-3FF9-4EA1-8A0A-22697A8778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6E37B-0F1D-4E9A-B7A7-9CA267509F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BFF90-3164-482B-8E73-3B20E9FBA0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A69D7-4F89-4DC6-BF85-CB8E45495F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902B5-A217-4A6B-81D7-AC26D65DEE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44811-35E0-410B-9547-23B285F01C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453B0-EC1F-462C-8021-8C64E61BB9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ECE8-FAEC-485E-BF4E-6689AF8843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9626-425F-4217-BD42-492BF42ED7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CB8E-E09B-46D1-A69A-BEEA43A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C170-20BB-4F48-B8C1-9166E72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FADA-472D-479F-8F59-84F59A180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5E95C-A96A-413B-B9C0-C25ACDC0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BE7F-5829-4EAD-830B-F36F51ED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F348-8014-4D18-9BD3-8F33B49C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2B2D-F265-44E4-AB23-6601C7BF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B052-C968-49BB-9347-66A503D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692E-AAAE-4557-A83F-238A14FE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55A2-F96D-4CC1-A491-A2103A5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01CB-D0E6-4E0F-AF23-8C199A3D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Century Gothic"/>
              </a:rPr>
              <a:t>29.11.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60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6546E2-2356-4441-876A-7FA7B5CE7AFB}" type="slidenum">
              <a:rPr b="0" lang="ru-RU" sz="1100" spc="-1" strike="noStrike">
                <a:solidFill>
                  <a:srgbClr val="b13f9a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9720" bIns="0" anchor="t">
            <a:normAutofit/>
          </a:bodyPr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87280" y="50835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Темперамен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 моя будущая профе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11718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101916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50920" y="5661000"/>
            <a:ext cx="990360" cy="6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5"/>
          <a:stretch/>
        </p:blipFill>
        <p:spPr>
          <a:xfrm>
            <a:off x="250920" y="1484280"/>
            <a:ext cx="9144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3059280" y="1052640"/>
            <a:ext cx="3935160" cy="4032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332000" y="25992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cc99"/>
                </a:solidFill>
                <a:latin typeface="Arial"/>
              </a:rPr>
              <a:t>Классный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2018160" y="476280"/>
            <a:ext cx="4350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Они флег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66000" y="2205000"/>
            <a:ext cx="1701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ылов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45440" y="5661000"/>
            <a:ext cx="177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утузов М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955840" y="2276640"/>
            <a:ext cx="149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. Нью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2360" y="314172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3203640" y="2276640"/>
            <a:ext cx="2303280" cy="280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5796000" y="3284640"/>
            <a:ext cx="2303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486520" y="549360"/>
            <a:ext cx="374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Они хол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52360" y="2205000"/>
            <a:ext cx="205272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1974600" cy="24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3276720" y="3932280"/>
            <a:ext cx="2065320" cy="244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770760" y="1628640"/>
            <a:ext cx="939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ётр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409560" y="3213000"/>
            <a:ext cx="1710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шкин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141960" y="1628640"/>
            <a:ext cx="16588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воров А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00340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419640" y="3716280"/>
            <a:ext cx="196992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1871640" cy="244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362320" y="404640"/>
            <a:ext cx="471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Они меланхол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54120" y="4724280"/>
            <a:ext cx="1589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голь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221280" y="3068640"/>
            <a:ext cx="2288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ермонтов М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838480" y="4797360"/>
            <a:ext cx="2331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айковский П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4309920" cy="5562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2971440" y="6308640"/>
            <a:ext cx="2381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.В. Су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756160" y="6308640"/>
            <a:ext cx="24012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.И. Кут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57200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4721400" cy="343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395280" y="3573360"/>
            <a:ext cx="748836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a2e4e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В будничных радостях и горестях жизни нужно быть сангвиником, в важных событиях жизни – меланхоликом, относительно впечатлений, глубоко затрагивающих наши интересы, – холериком и, наконец, в исполнении раз принятых решений – флегмат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Вильгельм Вундт</a:t>
            </a:r>
            <a:r>
              <a:rPr b="0" lang="ru-RU" sz="2400" spc="-1" strike="noStrike">
                <a:solidFill>
                  <a:srgbClr val="8a2e4e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Какие утверждения верны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овременную классификацию темперамента создал…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А) К. Линней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Б) Гиппократ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В) И.П. Павлов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Сильный, уравновешенный тип нервной системы делится на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А) неуравновешенный и слабый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Б) подвижный и неподвижный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Формирование типа нервной системы зависит от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А) влияния окружающей среды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Б) наследственности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В) наследственности и окружающей среды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826920" y="476280"/>
            <a:ext cx="727416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Темперамент –</a:t>
            </a:r>
            <a:r>
              <a:rPr b="0" lang="ru-RU" sz="4000" spc="-1" strike="noStrike">
                <a:solidFill>
                  <a:srgbClr val="d490c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ожденное свойство личности, то есть природно обусловленное, дано человеку от рождения и неизменимо в течение вс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5467320" cy="3995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73760" y="5157720"/>
            <a:ext cx="1985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К какому типу темперамента подходит данный поступок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" name="Picture 4" descr="SP_A0164"/>
          <p:cNvPicPr/>
          <p:nvPr/>
        </p:nvPicPr>
        <p:blipFill>
          <a:blip r:embed="rId1"/>
          <a:stretch/>
        </p:blipFill>
        <p:spPr>
          <a:xfrm>
            <a:off x="250920" y="227664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К какому типу темперамента подходит данный поступок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SP_A0165"/>
          <p:cNvPicPr/>
          <p:nvPr/>
        </p:nvPicPr>
        <p:blipFill>
          <a:blip r:embed="rId1"/>
          <a:stretch/>
        </p:blipFill>
        <p:spPr>
          <a:xfrm>
            <a:off x="179280" y="2565360"/>
            <a:ext cx="8686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К какому типу темперамента подходит данный поступок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" name="Picture 4" descr="SP_A0166"/>
          <p:cNvPicPr/>
          <p:nvPr/>
        </p:nvPicPr>
        <p:blipFill>
          <a:blip r:embed="rId1"/>
          <a:stretch/>
        </p:blipFill>
        <p:spPr>
          <a:xfrm>
            <a:off x="250920" y="2492280"/>
            <a:ext cx="8610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entury Gothic"/>
              </a:rPr>
              <a:t>К какому типу темперамента подходит данный поступок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SP_A0167"/>
          <p:cNvPicPr/>
          <p:nvPr/>
        </p:nvPicPr>
        <p:blipFill>
          <a:blip r:embed="rId1"/>
          <a:stretch/>
        </p:blipFill>
        <p:spPr>
          <a:xfrm>
            <a:off x="324000" y="2421000"/>
            <a:ext cx="8534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252360" y="1844640"/>
            <a:ext cx="74883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Больше всего мне запомнилось сегодн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На сегодняшней встрече мне не уда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Пожалуй, для себя я возьму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117440" y="836640"/>
            <a:ext cx="6904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7f10ee"/>
                </a:solidFill>
                <a:latin typeface="Arial"/>
              </a:rPr>
              <a:t>Закончите высказы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50920" y="1628640"/>
            <a:ext cx="864072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ончательный выбор только за тобой, выбирая профессию, ты выбираешь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удьбу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ое 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нтерес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ом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ности формируются в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выкай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аботать, трудиться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979640" y="260280"/>
            <a:ext cx="33843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Сове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6"/>
          <p:cNvSpPr/>
          <p:nvPr/>
        </p:nvSpPr>
        <p:spPr>
          <a:xfrm>
            <a:off x="900000" y="1484280"/>
            <a:ext cx="7272360" cy="3384720"/>
          </a:xfrm>
          <a:custGeom>
            <a:avLst/>
            <a:gdLst>
              <a:gd name="textAreaLeft" fmla="*/ 1818000 w 7272360"/>
              <a:gd name="textAreaRight" fmla="*/ 5454360 w 7272360"/>
              <a:gd name="textAreaTop" fmla="*/ 846000 h 3384720"/>
              <a:gd name="textAreaBottom" fmla="*/ 328464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3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7000"/>
              </a:lnSpc>
              <a:spcAft>
                <a:spcPts val="1426"/>
              </a:spcAft>
              <a:buClr>
                <a:srgbClr val="000099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Выготский Л.С. Основы дефектологии. – СПб.: Издательство «Лань», 2003. – 656с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7000"/>
              </a:lnSpc>
              <a:spcAft>
                <a:spcPts val="1426"/>
              </a:spcAft>
              <a:buClr>
                <a:srgbClr val="000099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актическая психология для преподавателей. – М.: Информационно-издательский дом «Филинъ», 1997.- 328с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7000"/>
              </a:lnSpc>
              <a:spcAft>
                <a:spcPts val="1426"/>
              </a:spcAft>
              <a:buClr>
                <a:srgbClr val="000099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айт: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http//psychotype.ru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7000"/>
              </a:lnSpc>
              <a:spcAft>
                <a:spcPts val="1426"/>
              </a:spcAft>
              <a:buClr>
                <a:srgbClr val="000099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айт: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http//psylife.ru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7000"/>
              </a:lnSpc>
              <a:spcAft>
                <a:spcPts val="1426"/>
              </a:spcAft>
              <a:buClr>
                <a:srgbClr val="000099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айт: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http//wwweffecton.ru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7000"/>
              </a:lnSpc>
              <a:spcAft>
                <a:spcPts val="1426"/>
              </a:spcAft>
              <a:buClr>
                <a:srgbClr val="000099"/>
              </a:buClr>
              <a:buFont typeface="Arial Black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айт: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http//wwwrusmedserver.ru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197000"/>
          <a:ext cx="8532720" cy="5192640"/>
        </p:xfrm>
        <a:graphic>
          <a:graphicData uri="http://schemas.openxmlformats.org/drawingml/2006/table">
            <a:tbl>
              <a:tblPr/>
              <a:tblGrid>
                <a:gridCol w="3495600"/>
                <a:gridCol w="1679760"/>
                <a:gridCol w="3357360"/>
              </a:tblGrid>
              <a:tr h="645480"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гви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гма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4960">
                <a:tc>
                  <a:txBody>
                    <a:bodyPr lIns="90000" rIns="90000" tIns="6336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ер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анхол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6336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равновеш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63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336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равновеш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80028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ер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1"/>
          <p:cNvSpPr/>
          <p:nvPr/>
        </p:nvSpPr>
        <p:spPr>
          <a:xfrm>
            <a:off x="179280" y="333360"/>
            <a:ext cx="8136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ип нервной системы по И.П.Пав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403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Круг Айзенк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9" descr="SP_A0157"/>
          <p:cNvPicPr/>
          <p:nvPr/>
        </p:nvPicPr>
        <p:blipFill>
          <a:blip r:embed="rId1"/>
          <a:stretch/>
        </p:blipFill>
        <p:spPr>
          <a:xfrm>
            <a:off x="0" y="83664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P_A0158"/>
          <p:cNvPicPr/>
          <p:nvPr/>
        </p:nvPicPr>
        <p:blipFill>
          <a:blip r:embed="rId2"/>
          <a:stretch/>
        </p:blipFill>
        <p:spPr>
          <a:xfrm>
            <a:off x="6372360" y="981000"/>
            <a:ext cx="173016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SP_A0159"/>
          <p:cNvPicPr/>
          <p:nvPr/>
        </p:nvPicPr>
        <p:blipFill>
          <a:blip r:embed="rId3"/>
          <a:stretch/>
        </p:blipFill>
        <p:spPr>
          <a:xfrm>
            <a:off x="0" y="3716280"/>
            <a:ext cx="1835280" cy="267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SP_A0161"/>
          <p:cNvPicPr/>
          <p:nvPr/>
        </p:nvPicPr>
        <p:blipFill>
          <a:blip r:embed="rId4"/>
          <a:stretch/>
        </p:blipFill>
        <p:spPr>
          <a:xfrm>
            <a:off x="6372360" y="3645000"/>
            <a:ext cx="1744560" cy="2590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4284720" y="4653000"/>
            <a:ext cx="2214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Меланх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д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в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чатл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сим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щ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835280" y="4581360"/>
            <a:ext cx="2214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Холе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дир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908000" y="1197000"/>
            <a:ext cx="192564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Сангви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ор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заб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а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356000" y="1197000"/>
            <a:ext cx="20703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"/>
              </a:rPr>
              <a:t>Флег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ум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люб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кой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760320"/>
            <a:ext cx="80992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ангви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ип работы: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сокая работоспособность, легко сосредотачивает внимание, может параллельно выполнять несколько дел. Легко загорается интересом к новой работе, но быстро угасает, загорается новым видом работы. Проявляет организаторские способности. Хорошие работники на ответственных и опасных местах. Не способен вникать в детали и не переносит однообразия и монотонности. Быстро может осваивать новую специа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Рекомендуемые профессии: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неджер, учитель, врач, м/с общего профиля, психолог, воспитатель, организатор, продавец,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фициант, инженер-технолог и др. Обладает социальными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мениями и нуждается в социальных контактах.</a:t>
            </a:r>
            <a:r>
              <a:rPr b="0" lang="ru-RU" sz="1800" spc="-1" strike="noStrike">
                <a:solidFill>
                  <a:srgbClr val="8a2e4e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189000"/>
            <a:ext cx="75610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комендации по выбору профессии с учетом темперамен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79280" y="260280"/>
            <a:ext cx="80996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Флег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ип работы: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тороплив в учебе и работе. Много внимания уделяет подготовительному периоду. Достигает успеха за счет упорства и терпеливости, продуманной организации труда. Склонен выполнять монотонную работу. Из них получаются высококлассные экономисты, бухгалтеры, делопроизводители. Способность флегматиков неторопливо и без паники проанализировать положение делает их незаменимыми в стрессовых ситуациях.  Возможно, не следует выбирать работу, где требуется постоянное общение с людьми, а вот «общение» с компьютерами для него подходит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Рекомендуемые профессии: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ашинопись, бухгалтерия, экономика, механик, электрик, инженер, агроном, водитель, научные – ботаник,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строном, физик, матем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404640"/>
            <a:ext cx="8099280" cy="60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2880" indent="-272880"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Холе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ип работы: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дходит работа, требующая, большой затраты энергии, связанная с напряжением. Любит трудности и препятствия, способен их преодолевать. Быстро включается в работу. Стремится к самостоятельности и плохо подчиняется власти. С холериками следует быть сдержанными, не допускать резкого тона, вместо замечаний, надо давать задания, которые позволяют исправить допущенную ошиб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Рекомендуемые профессии: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елерепортер, товаровед, артист, дипломат, журналист, снабженец, предприниматель и др. Обладает вербальными способностями. Избирае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дачи, позволяющие ему проявить свою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энергию, энтузиазм, импульсивность,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любовь к приключ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79280" y="404640"/>
            <a:ext cx="809964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Меланх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Тип работы:</a:t>
            </a: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работоспособность зависит от настро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работе меланхоликам необходимы постоянная поддержка и регулярный отдых. Меланхолики – тонкие и наблюдательные люди, способные замечать такие детали в поведении людей, которые те хотят скрыть. Возможно, не следует выбирать работу, где требуется постоянное общение с людьми, а вот «общение» с компьютерами для него подходит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Рекомендуемые профессии: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едагоги, деятели искусства, художник, швея-модельер, маляр, копировщик рисунков, композитор, писатель, ветеринарный врач, геолог, агроном, зоотехник, бухгалтер, машинопись, автослесарь, слесарь, токарь, радиомеханик и др. Склонность к творчеству,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актическому труду, наблюд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075400" y="620640"/>
            <a:ext cx="4292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Они сангви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2376360" cy="287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30508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305080" cy="2881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69400" y="5734080"/>
            <a:ext cx="1642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ерцен А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524400" y="3068640"/>
            <a:ext cx="1674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марше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187320" y="5373720"/>
            <a:ext cx="1698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напарт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5-04-20T05:50:34Z</dcterms:modified>
  <cp:revision>10</cp:revision>
  <dc:subject/>
  <dc:title>Слайд 1</dc:title>
</cp:coreProperties>
</file>