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6ECE7-9ACB-4B3F-BAB1-253C98EB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5A781-2C6A-4B19-AD21-BAC76010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11982-2A89-402F-99F8-63330A09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AFF69-7D6F-458E-B222-7F8DC066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B3BF-E2FF-4DD6-A8F5-48853BF1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B28E-27B6-4299-8258-9752F65C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B638-CB66-4866-A00A-1F4F0662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83DD-FA52-4E84-B7D1-14A6C686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BD6B-787E-4B6A-AA6B-ED948756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75A8-9720-45DF-A4F3-A66DFB9C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4703-FE86-4440-8FC1-7009D291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F99F8-94B7-4D55-8D94-7D941496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4AE3-FC40-4A05-81D2-15811A4F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97E9-C667-4E52-B7EF-4E8AD009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67CE-2233-4674-AD89-7FBD7534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DEF3-BC49-48D0-8F71-18BE9DE5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31FE-1AAE-4D55-8B05-D44291B2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8E211-97D4-4D9F-9532-41AD03F0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63E4D-A43F-4A91-90B2-4AF5B8AB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C0436-528C-4338-80B6-EA4AF58E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1621A-42BE-495E-ACC1-12D6ACAE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8B5A2-46E0-47A9-900F-B24BC453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28299-A405-4D4B-9D3B-520A42CF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0F23C-2DA0-4F69-B7C9-0570DFD2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B050-6977-4782-B514-9CB06A8AFC4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70E9-D0F2-4943-BFB0-AFF096D9EBD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71640" y="1197000"/>
            <a:ext cx="5848560" cy="1728720"/>
          </a:xfrm>
          <a:prstGeom prst="rect">
            <a:avLst/>
          </a:prstGeom>
          <a:solidFill>
            <a:srgbClr val="ff0000">
              <a:alpha val="27000"/>
            </a:srgbClr>
          </a:solidFill>
          <a:ln w="7632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ДЕЛЯ ПРАВОВЫХ ЗНА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16360" y="4653000"/>
            <a:ext cx="57909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МОУ СОШ №19</a:t>
            </a:r>
            <a:r>
              <a:rPr b="1" lang="ru-RU" sz="3000" spc="-1" strike="noStrike">
                <a:solidFill>
                  <a:srgbClr val="c00000"/>
                </a:solidFill>
                <a:latin typeface="Magneto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Magneto"/>
              </a:rPr>
              <a:t>с углубленным изучением отдельных предмет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708360" y="3284640"/>
            <a:ext cx="4103640" cy="1079280"/>
          </a:xfrm>
          <a:prstGeom prst="rect">
            <a:avLst/>
          </a:prstGeom>
          <a:solidFill>
            <a:srgbClr val="ff0000">
              <a:alpha val="27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узнецова Т.Г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42680" y="35676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ru-RU" sz="3900" spc="-1" strike="noStrike">
                <a:solidFill>
                  <a:srgbClr val="ff0000"/>
                </a:solidFill>
                <a:latin typeface="Arial"/>
              </a:rPr>
              <a:t>Учащиеся школы</a:t>
            </a:r>
            <a:br>
              <a:rPr sz="3900"/>
            </a:br>
            <a:r>
              <a:rPr b="1" lang="ru-RU" sz="3900" spc="-1" strike="noStrike">
                <a:solidFill>
                  <a:srgbClr val="ff0000"/>
                </a:solidFill>
                <a:latin typeface="Arial"/>
              </a:rPr>
              <a:t> обязаны: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071720" y="2000160"/>
            <a:ext cx="7643520" cy="4143600"/>
          </a:xfrm>
          <a:prstGeom prst="rect">
            <a:avLst/>
          </a:prstGeom>
          <a:gradFill rotWithShape="0">
            <a:gsLst>
              <a:gs pos="0">
                <a:srgbClr val="ffffcc">
                  <a:alpha val="83137"/>
                </a:srgbClr>
              </a:gs>
              <a:gs pos="100000">
                <a:srgbClr val="76765e"/>
              </a:gs>
            </a:gsLst>
            <a:lin ang="2700000"/>
          </a:gra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1357200" y="2512080"/>
            <a:ext cx="7072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бросовестно учить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ережно относиться к имуществу школ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важать честь и достоинство других участников образовательного процес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людать правила поведения учащих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ять законные требования работников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ru-RU" sz="3900" spc="-1" strike="noStrike">
                <a:solidFill>
                  <a:srgbClr val="ff0000"/>
                </a:solidFill>
                <a:latin typeface="Arial"/>
              </a:rPr>
              <a:t>Родители обязаны.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1071720" y="2000160"/>
            <a:ext cx="7643520" cy="4143600"/>
          </a:xfrm>
          <a:prstGeom prst="rect">
            <a:avLst/>
          </a:prstGeom>
          <a:gradFill rotWithShape="0">
            <a:gsLst>
              <a:gs pos="0">
                <a:srgbClr val="ffffcc">
                  <a:alpha val="83137"/>
                </a:srgbClr>
              </a:gs>
              <a:gs pos="100000">
                <a:srgbClr val="76765e"/>
              </a:gs>
            </a:gsLst>
            <a:lin ang="2700000"/>
          </a:gra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"/>
          <p:cNvSpPr/>
          <p:nvPr/>
        </p:nvSpPr>
        <p:spPr>
          <a:xfrm>
            <a:off x="1143000" y="2655000"/>
            <a:ext cx="7286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вать необходимые условия для получения своими детьми образования и заниматься их воспитание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сти ответственность за ликвидацию академической задолженности в течение го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ещать родительские собр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ять настоящий Уста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ru-RU" sz="3900" spc="-1" strike="noStrike">
                <a:solidFill>
                  <a:srgbClr val="ff0000"/>
                </a:solidFill>
                <a:latin typeface="Arial"/>
              </a:rPr>
              <a:t>Учащимся школы запрещается: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071720" y="2000160"/>
            <a:ext cx="7643520" cy="4143600"/>
          </a:xfrm>
          <a:prstGeom prst="rect">
            <a:avLst/>
          </a:prstGeom>
          <a:gradFill rotWithShape="0">
            <a:gsLst>
              <a:gs pos="0">
                <a:srgbClr val="ffffcc">
                  <a:alpha val="83137"/>
                </a:srgbClr>
              </a:gs>
              <a:gs pos="100000">
                <a:srgbClr val="76765e"/>
              </a:gs>
            </a:gsLst>
            <a:lin ang="2700000"/>
          </a:gra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1285920" y="2370600"/>
            <a:ext cx="7072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применение физической силы для выяснения отношений, вымогательство и другие противоправные действ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любые действия, влекущие опасные последствия для окружающи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употреблять непристойные выражения и жесты, шуметь, мешать заниматься и отдыхать друг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solidFill>
            <a:srgbClr val="ff0000">
              <a:alpha val="27000"/>
            </a:srgbClr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сеобщая декларация прав человека.</a:t>
            </a:r>
            <a:br>
              <a:rPr sz="28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нята и провозглашена генеральной Ассамблеей ООН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10 декабря 1948 года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76160" y="2133720"/>
            <a:ext cx="7010280" cy="3959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тья 2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Каждый человек имеет право на образование. Образование должно быть бесплатным по меньшей мере в том, что касается начального и общего образования. Начальное образование должно быть обязательным. Техническое и профессиональное образование должно быть общедоступным, и высшее образование должно быть одинаково доступным для всех на основе способностей каждог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Образование должно быть направлено к полному развитию человеческой личности и к увеличению уважения к правам человека и основным свобода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Родители имеют право приоритета в выборе вида образования для своих малолетних де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693800" y="999720"/>
            <a:ext cx="6593040" cy="4660920"/>
          </a:xfrm>
          <a:prstGeom prst="rect">
            <a:avLst/>
          </a:prstGeom>
          <a:solidFill>
            <a:srgbClr val="ff0000">
              <a:alpha val="27000"/>
            </a:srgbClr>
          </a:soli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дание генеральной ассамблеи О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6" descr="D:\ШКОЛА 2008_09 уч год\ВСЕОБЩАЯ ДЕКЛАРАЦИЯ\secr1.jpg"/>
          <p:cNvPicPr/>
          <p:nvPr/>
        </p:nvPicPr>
        <p:blipFill>
          <a:blip r:embed="rId1"/>
          <a:stretch/>
        </p:blipFill>
        <p:spPr>
          <a:xfrm>
            <a:off x="2214720" y="1500120"/>
            <a:ext cx="5572080" cy="4143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solidFill>
            <a:srgbClr val="ff0000">
              <a:alpha val="27000"/>
            </a:srgbClr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онвенция о правах ребёнка.</a:t>
            </a:r>
            <a:br>
              <a:rPr sz="2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нята и провозглашена генеральной Ассамблеей ООН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20 ноября 1989 года.</a:t>
            </a:r>
            <a:br>
              <a:rPr sz="14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solidFill>
            <a:srgbClr val="ff0000">
              <a:alpha val="27000"/>
            </a:srgbClr>
          </a:solidFill>
          <a:ln w="7632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атья 28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Государства – участники признают право ребёнка на образование и для этог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вводят бесплатное и обязательное начальное образовани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обеспечивают доступность среднего, профессионального образова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обеспечивают доступность высшего образования для всех на основе способностей каждого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принимают меры по содействию регулярному посещению школ и снижению числа учащихся, покинувших школ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атья 2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Государства – участники  соглашаются с тем, что образование ребёнка должно быть направлено 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развитие личности, талантов, умственных и физических способностей ребёнк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воспитание уважения к правам и свободам человек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одготовку ребёнка к сознательной жизни в свободном обществе в духе понимания мира, терпимости, равноправия и дружб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воспитания уважения к окружающей природ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1714680" y="1000080"/>
            <a:ext cx="6592680" cy="4678560"/>
          </a:xfrm>
          <a:prstGeom prst="rect">
            <a:avLst/>
          </a:prstGeom>
          <a:solidFill>
            <a:srgbClr val="ff0000">
              <a:alpha val="27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л заседаний генеральной ассамблеи О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7" descr="D:\ШКОЛА 2008_09 уч год\ВСЕОБЩАЯ ДЕКЛАРАЦИЯ\tour-10.gif"/>
          <p:cNvPicPr/>
          <p:nvPr/>
        </p:nvPicPr>
        <p:blipFill>
          <a:blip r:embed="rId1"/>
          <a:stretch/>
        </p:blipFill>
        <p:spPr>
          <a:xfrm>
            <a:off x="2143080" y="1785960"/>
            <a:ext cx="5715000" cy="3714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solidFill>
            <a:srgbClr val="ff0000">
              <a:alpha val="27000"/>
            </a:srgbClr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онституция Российской Федераци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нята всенародным голосованием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12 декабря 1993 года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676520" y="1981080"/>
            <a:ext cx="7010280" cy="4114800"/>
          </a:xfrm>
          <a:prstGeom prst="rect">
            <a:avLst/>
          </a:prstGeom>
          <a:solidFill>
            <a:srgbClr val="ff0000">
              <a:alpha val="27000"/>
            </a:srgbClr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атья 43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Каждый имеет право на образован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Гарантируется общедоступность и бесплатность дошкольного, основного общего и среднего профессионального образова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Каждый вправе на конкурсной основе бесплатно получить высшее образован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Основное общее образование обязательно. Родители или лица, их заменяющие, обеспечивают получение детьми основного общего образова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Российская Федерация устанавливает Федеральные государственные образовательные стандарты, поддерживает различные формы образования и самообразова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85560" y="2356920"/>
            <a:ext cx="7010280" cy="1295640"/>
          </a:xfrm>
          <a:prstGeom prst="rect">
            <a:avLst/>
          </a:prstGeom>
          <a:solidFill>
            <a:srgbClr val="ff0000">
              <a:alpha val="27000"/>
            </a:srgbClr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Закон Российской Федерации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«Об образовании».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14680" y="357120"/>
            <a:ext cx="6881760" cy="14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Устав МОУ СОШ №19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 углублённым изучением отдельных предметов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56800" y="2000160"/>
            <a:ext cx="7643880" cy="4143600"/>
          </a:xfrm>
          <a:prstGeom prst="rect">
            <a:avLst/>
          </a:prstGeom>
          <a:gradFill rotWithShape="0">
            <a:gsLst>
              <a:gs pos="0">
                <a:srgbClr val="ffffcc">
                  <a:alpha val="83137"/>
                </a:srgbClr>
              </a:gs>
              <a:gs pos="100000">
                <a:srgbClr val="76765e"/>
              </a:gs>
            </a:gsLst>
            <a:lin ang="2700000"/>
          </a:gradFill>
          <a:ln w="7632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щиеся имеют прав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чить основное общее образование в соответствии с государственными образовательными стандартам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ускоренный курс обучен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олучение дополнительных образовательных услуг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участие в управлении образование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уважение человеческого достоинства, на свободу совести, информац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бодное выражение собственных взглядов и убежден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бодное посещение мероприятий, не предусмотренных учебным плано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сплатное пользование библиотек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324000" y="5589720"/>
            <a:ext cx="822960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Родители обучающихся 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меют право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928800" y="2000160"/>
            <a:ext cx="7643880" cy="4143600"/>
          </a:xfrm>
          <a:prstGeom prst="rect">
            <a:avLst/>
          </a:prstGeom>
          <a:gradFill rotWithShape="0">
            <a:gsLst>
              <a:gs pos="0">
                <a:srgbClr val="ffffcc">
                  <a:alpha val="83137"/>
                </a:srgbClr>
              </a:gs>
              <a:gs pos="100000">
                <a:srgbClr val="76765e"/>
              </a:gs>
            </a:gsLst>
            <a:lin ang="2700000"/>
          </a:gra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1000080" y="215604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бирать формы обуч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комиться с ходом и содержанием образовательного процес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комиться с оценками успеваемости обучающих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щищать законные права и интересы обучающих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частвовать в управлении школ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03:00:29Z</dcterms:created>
  <dc:creator>User</dc:creator>
  <dc:description/>
  <dc:language>en-US</dc:language>
  <cp:lastModifiedBy>Татьяна</cp:lastModifiedBy>
  <dcterms:modified xsi:type="dcterms:W3CDTF">2008-11-12T21:59:42Z</dcterms:modified>
  <cp:revision>53</cp:revision>
  <dc:subject/>
  <dc:title>ИСТОРИЯ</dc:title>
</cp:coreProperties>
</file>