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F34-45DC-48F7-9EFC-138A35EA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903-F129-4E6A-BBBC-5078BE0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13E-0BF2-47EB-BEEB-98E3710F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D7A-0E08-46BA-9BB1-CF814A1E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69B5-29D4-497C-AE31-E98D1C4B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9591-745D-4B24-AD25-9DFBEB2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A39F-4912-42BF-95E7-C714CACF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B502-F162-4A0B-88E9-4CEE7E20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DE50-9BBF-4AF6-87CD-2D59FD4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1F03-DEFF-4C53-B385-543B8836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9F17-AC7A-46D3-8F13-039DACA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54C-A76B-45AA-AC6C-71DB09E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221-ACF3-4C2D-9132-649EA43D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8A08-2C1F-42C0-87B8-A458E891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8E51-0059-4992-B7EC-9EA6CDA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921D-1837-4AC3-8A53-99F38BCF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6D6E-E0A8-42B5-ACC2-DB26D33E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055A-02F5-44C9-8F0F-6DFA4EFA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72BC-1B65-4D01-835A-970BA749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8BCC-9099-43B9-8A23-F775647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0703-6217-4CF9-AB2A-3CCBA47E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55D6-40A8-4A5F-825F-C8841DEB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12B-818E-4FAC-86E5-87285FA3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C94E-2797-4F75-B2DC-3DF348AB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71CB-EA4C-4F5E-9D68-8032D9F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153E-6058-4EB9-A9F8-B573A8FD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2BD2-8523-413D-B1F5-D702D7BA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97B3-6A0E-49F8-B8D7-15AC5A9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285A-D021-49A7-B569-7404C414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D07E-F864-4C24-ABFA-513B7D95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30B9-DA27-4BF5-8386-426EE09E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578BF-A070-42C4-BD45-2AB8C8B8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881F-21F1-4149-8B02-7A2D7BA8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2A8-C4BC-45B8-9B47-9D8BA70B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08A06-D845-4BE0-A840-1A9B591C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8D46-A914-430C-9D44-BE9C7019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C0B4-3581-497A-B30D-6A402D9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CC580-A84F-465C-9470-B7C9BD4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5166-8727-41F8-A2B3-4F63B28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55F6-DD6B-4A54-BB3F-575F4AD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5350-BB7C-43D9-8262-9AA83B4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79E8-DD49-4E92-B826-941BCF9E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A162-5FE6-4734-90F9-6AC6FE85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B0451-BBA8-488B-8EA1-A7A72F48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5E2-83CB-463E-847D-A04B54E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F28A6-24A9-496C-843F-6366D9C5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A3E6B-7B7D-4C84-B60B-7AEE78E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D976-059B-4BBD-9467-D6993CF4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8AB1-DB70-4B16-916C-0BDA4B1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01785-F717-4E96-84F9-8606B7A4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A7D7-B3B3-459D-B2B2-3435163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C2ED-6262-40C9-9F5F-C44E9D23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37669-3716-43EE-90F1-9D23C710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9892B-7F95-4F71-9E2E-9B2B864E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00A2-C83C-4AC5-AD74-E2299480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F60-B0CE-492F-A02D-0C637871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0C59-8DB8-4A7A-9D6A-4D46283D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C5086-F10C-4765-B9D3-86D568FA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20B8-DAD2-4B83-AC95-66176F88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0175F-2816-4876-B036-D3A0B84A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63B3-99C7-4FDF-9181-66AB4A3E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16061-882C-4151-BC5C-37DBB014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BBC5C-557B-45EF-850E-FE6E48DB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37A1-2268-459F-8E4D-40CBFF6B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A67BA-5FA7-4E86-859A-1BF65CA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9DF02-8E5C-477B-9CE9-1BF1D5B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DEC-26AE-41C6-B254-F3922A32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6958E-9D60-4611-A298-3EEDAC28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81DA-56DD-44D2-9E78-25D173BD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30126-A512-41B0-8ADA-5DB6DDBA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7F76-8E0E-47A9-A570-6CB760DD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60C4D-BBA6-45D4-BD42-FAB0723C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54367-C6FA-48DB-9A4E-D11295C8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85770-F390-48CA-A9AE-9513BC72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2D3DB-C2D2-48EC-9FBE-FC2E65CF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CD1AB-12CD-4F4E-BD00-BDEB3041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1618C-A70B-46BB-813E-3001264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A53-F415-4A0C-B402-19664B5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59D22-F25C-4702-B2CE-2220D09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B3B05-63E0-486E-85E0-FA7214F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F2921-923D-4F2E-9A8C-AE0EBB9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70614-0241-43C5-9B87-7FADBFCD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4166-BB9C-4C73-A047-6EB82DFC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8DE-77D6-4C39-B0B5-E16A121D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1DD6-35EE-4424-85FB-ABE381EB559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D19E-EC09-4B12-969A-A90E1408A9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2F8B-3E4A-4644-B800-E7A8B2651F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5CC6-5FD5-419F-8919-8E42BC287B0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DCA9-21D3-43AA-A47E-3F32DFD96A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0A58-3024-4CDF-8004-AA05A2FED5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6C32-A1C6-4461-AC3E-E78BB6D296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98840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БЩЕНИЕ  ЗНАНИ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ТЕМЕ «АТОМЫ ХИМИЧЕСКИХ ЭЛЕМЕНТОВ. ХИМИЧЕСКАЯ СВЯЗЬ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86920" y="4149360"/>
            <a:ext cx="7272360" cy="23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готовка к контрольной работе по ТЕМЕ №1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900000" y="2276640"/>
          <a:ext cx="6985080" cy="3168360"/>
        </p:xfrm>
        <a:graphic>
          <a:graphicData uri="http://schemas.openxmlformats.org/drawingml/2006/table">
            <a:tbl>
              <a:tblPr/>
              <a:tblGrid>
                <a:gridCol w="1397160"/>
                <a:gridCol w="1395360"/>
                <a:gridCol w="1397160"/>
                <a:gridCol w="1396800"/>
                <a:gridCol w="1398600"/>
              </a:tblGrid>
              <a:tr h="12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вален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поля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вален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я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ариан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1533600" y="33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11280" y="1830240"/>
          <a:ext cx="8208720" cy="354492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41440"/>
                <a:gridCol w="1860480"/>
                <a:gridCol w="2027160"/>
              </a:tblGrid>
              <a:tr h="164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вален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поля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вален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я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I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АРИАН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1533600" y="33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Определите вид химической связи в соединениях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Calibri"/>
              </a:rPr>
              <a:t>Cl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  <a:ea typeface="Calibri"/>
              </a:rPr>
              <a:t>2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  <a:ea typeface="Calibri"/>
              </a:rPr>
              <a:t>   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Calibri"/>
              </a:rPr>
              <a:t>HC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Calibri"/>
              </a:rPr>
              <a:t>NaCl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II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АРИАН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5000"/>
              </a:lnSpc>
              <a:spcBef>
                <a:spcPts val="425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дача 1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ано:                                        Решение: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en-US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SO</a:t>
            </a:r>
            <a:r>
              <a:rPr b="1" lang="ru-RU" sz="1700" spc="-1" strike="noStrike" baseline="-25000">
                <a:solidFill>
                  <a:srgbClr val="073e87"/>
                </a:solidFill>
                <a:latin typeface="Times New Roman"/>
                <a:ea typeface="Times New Roman"/>
              </a:rPr>
              <a:t>3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_____________  </a:t>
            </a:r>
            <a:r>
              <a:rPr b="0" lang="ru-RU" sz="17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              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йти:                            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Mr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</a:t>
            </a:r>
            <a:r>
              <a:rPr b="1" lang="en-US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SO</a:t>
            </a:r>
            <a:r>
              <a:rPr b="1" lang="ru-RU" sz="1700" spc="-1" strike="noStrike" baseline="-25000">
                <a:solidFill>
                  <a:srgbClr val="073e87"/>
                </a:solidFill>
                <a:latin typeface="Times New Roman"/>
                <a:ea typeface="Times New Roman"/>
              </a:rPr>
              <a:t>3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) =  ?          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ω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</a:t>
            </a:r>
            <a:r>
              <a:rPr b="1" lang="en-US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S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) = ?                                     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ω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</a:t>
            </a:r>
            <a:r>
              <a:rPr b="1" lang="en-US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O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) =  ?                                                                           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е 7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вторение знаков химических элементов, формул вещест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вторение основных понятий и определений по тем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троение атом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ды химической связ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хождение относительной молекулярной массы и массовой доли элемента в молекуле веществ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  <a:ea typeface="Calibri"/>
              </a:rPr>
              <a:t>Повторение и обобщение изученного материал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пишите  знаки химических элементов и формулы веществ под диктовку  учител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дание 1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95280" y="1412640"/>
            <a:ext cx="8291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1.Что такое химический элемент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2. Что называется изотопо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3. Что такое химическая связ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лентные электроны расположены на ………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Что показывает № группы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6. Сколько валентных электронов в атоме  Са и N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колько выделяют видов химических связей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кие виды химической связи вы знаете?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торение определений и понятий по тем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Химическая связь,  образуемая  за счет  образования общих электронных пар называется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10. Ионная связь это … … …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1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Что такое ЭО? Стр.63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О в периоде слева направо ………, в группе сверху вниз … … … </a:t>
            </a:r>
            <a:br>
              <a:rPr sz="2000"/>
            </a:b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В чем сходство ковалентной неполярной и ковалентной полярной связи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В чем различие ковалентной неполярной и ковалентной полярной связи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br>
              <a:rPr sz="600"/>
            </a:b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Отвечаем на вопрос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Определите число протонов, нейтронов и электронов для атомов: углерода, кальция, фосфора и распишите электронную формул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ние3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      Индивидуальная работ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1b11"/>
                </a:solidFill>
                <a:latin typeface="Times New Roman"/>
              </a:rPr>
              <a:t>Назовите химические элементы, а также определите заряды ядер этих атомов, зная распределение электронов по энергетическим уровням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2ē,8 ē,4 ē;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2 ē,1 ē;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2 ē, 8ē; 8ē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Определите к какому типу элементов, они относятся (металлы или неметаллы).</a:t>
            </a:r>
            <a:r>
              <a:rPr b="1" lang="ru-RU" sz="2200" spc="-1" strike="noStrike">
                <a:solidFill>
                  <a:srgbClr val="1d1b11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5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1b11"/>
                </a:solidFill>
                <a:latin typeface="Times New Roman"/>
                <a:ea typeface="Calibri"/>
              </a:rPr>
              <a:t> 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1b11"/>
                </a:solidFill>
                <a:latin typeface="Candara"/>
                <a:ea typeface="Times New Roman"/>
              </a:rPr>
              <a:t>Задание 4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дивидуальная работ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определить вид связи и  показывать механизм образования связи в веществах формулы ,  которых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Calibri"/>
              </a:rPr>
              <a:t>N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а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Calibri"/>
              </a:rPr>
              <a:t>Cl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Cl2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HC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  <a:ea typeface="Calibri"/>
              </a:rPr>
              <a:t>Задание 5.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  <a:ea typeface="Calibri"/>
              </a:rPr>
              <a:t>Виды химической связи. Индивидуальная работа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Calibri"/>
              </a:rPr>
              <a:t>Определите виды химической связи в предложенных веществах и обведите в таблице соответствующие цифры. Для проверки правильности выполнения задания сложите обведенные цифры. Если сумма равна порядковому номеру фосфора, то задание выполнено правильно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  <a:ea typeface="Calibri"/>
              </a:rPr>
              <a:t>Задание 6.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4:42:48Z</dcterms:created>
  <dc:creator>татьяна</dc:creator>
  <dc:description/>
  <dc:language>en-US</dc:language>
  <cp:lastModifiedBy>татьяна</cp:lastModifiedBy>
  <dcterms:modified xsi:type="dcterms:W3CDTF">2012-10-23T17:09:18Z</dcterms:modified>
  <cp:revision>11</cp:revision>
  <dc:subject/>
  <dc:title>ОБОБЩЕНИЕ И СИСТЕМАТИЗАЦИЯ ЗНАНИЙ ПО ТЕМЕ «АТОМЫ ХИМИЧЕСКИХ ЭЛЕМЕНТОВ Химическая связь»</dc:title>
</cp:coreProperties>
</file>