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133-BFF6-4196-90FD-0CB1E645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94E-FFC3-4813-86F7-FAE6F77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4DC-8C89-4CC5-BB5C-08B3C18C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ECB-3E7D-47AE-8F6F-9DD35750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477C-D726-42C0-9B74-ADBCDE44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65D9-ADC7-4FA3-B55C-3D5AE9D5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626E-9E01-4744-90C3-3D93C9F7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E36B-A6E1-4046-B19D-F7D3431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0D67-A9C5-4E72-AA37-3897323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F45D-2132-4871-B25D-B12DC51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C8D5-13CA-445A-8AFE-E051248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C7D-6157-4050-8694-8DD0D25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55F9-E540-497B-97C2-D3B3580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468C-67FB-4FA0-A9C3-2624594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4226-7098-4D1D-8892-117194B4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F42A-3430-49D3-8D6F-FA60047D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C2F5-C9C6-47CC-866B-EBA75C2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EEA-E0E3-4E39-8F2C-B9D4EC1F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331-E56E-4690-B830-CD4E75D2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294-5D13-4429-BA10-22C196F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EDF-22EB-4EB4-A923-54C5BAEA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497-14B3-43ED-B0CC-A74B477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4E4-A2B4-4EAF-9791-4B3819A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E4B-D798-46BA-847A-41BC7E0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FBF-B794-492F-A9A0-5EE010E4627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2A73-0207-45E1-A77F-14774557733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бщество и человек</a:t>
            </a: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Century Gothic"/>
              </a:rPr>
              <a:t>9. Человек от животного отличаетс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Наличие мозга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Наличие инстинктов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Развитая кисть руки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Способность мыслить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468360" y="3068640"/>
            <a:ext cx="8280360" cy="30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Одним из основных отличий человека от животного является его способность мыслить. Благодаря мышлению человек не только приспосабливается к природным условиям, как животное, но и преобразует мир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0. Человек от животного отличает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личие инстинкт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личие сознани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пособность к воспроизводств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способляемость к окружающим условиям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826920" y="3716280"/>
            <a:ext cx="7705800" cy="252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Одним из основных отличий человека от животного: сознание и развития  (членораздельная речь)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1. Что свойственно и человеку и животному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Целенаправленная деятельнос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личие и инстинктов и рефлекс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личие развитого мозг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ленораздельная реч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2. Что свойственно и человеку и животному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способление к природным условиям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Целенаправленная деятельнос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пособность создавать орудия труд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звитая членораздельная речь.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3. Верны ли суждения о природе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. Природа – это совокупность естественных условий обитания человек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. Природа – это мир, созданный человек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. Верно только А                 3. Верны оба сужд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. Верно только Б                 4. Оба суждения невер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539640" y="3235320"/>
            <a:ext cx="8280360" cy="336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рирода  -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окружающий нас мир во всем бесконечном многообразии проявлений;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биосфера нашей планеты;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естественная среда обитания человека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5-конечная звезда 4"/>
          <p:cNvSpPr/>
          <p:nvPr/>
        </p:nvSpPr>
        <p:spPr>
          <a:xfrm>
            <a:off x="52560" y="19162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4. В приведённом списке указаны черты сходства и различия понятий общество и природа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ыберите и запишите в первую колонку таблицы порядковые номера черт сходства, а во вторую  колонку – порядковые номера черт отлич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 широком смысле это весь материальный мир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Это естественные условия обитания человек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Это окружающая человека сред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Это совокупность всех люд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4508640"/>
          <a:ext cx="8185320" cy="1657080"/>
        </p:xfrm>
        <a:graphic>
          <a:graphicData uri="http://schemas.openxmlformats.org/drawingml/2006/table">
            <a:tbl>
              <a:tblPr/>
              <a:tblGrid>
                <a:gridCol w="4092480"/>
                <a:gridCol w="4092840"/>
              </a:tblGrid>
              <a:tr h="828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Черты сх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Черты  отли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828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4"/>
          <p:cNvSpPr/>
          <p:nvPr/>
        </p:nvSpPr>
        <p:spPr>
          <a:xfrm>
            <a:off x="1619280" y="5373720"/>
            <a:ext cx="2305080" cy="719280"/>
          </a:xfrm>
          <a:prstGeom prst="rect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Palatino Linotype"/>
              </a:rPr>
              <a:t>1 3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5940360" y="5445000"/>
            <a:ext cx="1727280" cy="744840"/>
          </a:xfrm>
          <a:prstGeom prst="rect">
            <a:avLst/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Palatino Linotype"/>
              </a:rPr>
              <a:t>2 4 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5. Найдите в приведенном списке характеристики человека и выпишите в строку ответа цифры, по которыми они указа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личие инстинктов и рефлекс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личие потребност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звития мускулатур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звитая реч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пособность заботится о потомств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феры жизни обществ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6. Что из перечисленного относится к экономической сфере обществ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едвыборная компа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здание произведения искусств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учное открыти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здание материальных благ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468360" y="3645000"/>
            <a:ext cx="8351640" cy="212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Экономическая сфера: отношения связанные с производством, распределением, обменом и потреблением общественных благ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Фирмы, предприятия, заводы, банки, рынки, а также потоки денег и инвестиций, оборот капиталов и т.д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7</a:t>
            </a:r>
            <a:r>
              <a:rPr b="1" lang="ru-RU" sz="2800" spc="-1" strike="noStrike">
                <a:solidFill>
                  <a:srgbClr val="7f7f7f"/>
                </a:solidFill>
                <a:latin typeface="Century Gothic"/>
              </a:rPr>
              <a:t>. К экономической сфере общества относятся отношения  между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Несколькими народностями одной страны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Участниками биржевых торгов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Учителем и учениками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Бывшими супругам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8. </a:t>
            </a: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К политической сфере общества относятся отношения межд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спектором ГИБДД и водителем автобус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ндидатом в депутаты и его избирателям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ренером и его команд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одавцом и покупателем в магазин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684360" y="3068640"/>
            <a:ext cx="777528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 политической сфере общества от носят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государство, его основные органы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рмию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полицию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алоговую полицию и таможенные службы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 также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не государственные объединения – политические партии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Понятие «общество»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19. Что из перечисленного относится к политической  сфере обществ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ыплата пенси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ыставка карт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ъезд парти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одажа акций завод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0</a:t>
            </a: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. К сфере политико-правовых отношений можно отнести контакты межд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лицейским, едущим в автобусе, и пассажиром автобус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ндидатом в депутаты и учителем  в школе, где учится сы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Молодым человеком и инвалидом в метр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ладельцем угнанного автомобиля и участковым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68360" y="260280"/>
            <a:ext cx="792000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олитическая сфера или политико-правовая включает в себя отношения между людьми в процессе реализации их юридических прав и обязанностей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21. Что из перечисленного относится к социальной сфере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несение поправок в Конституцию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ъемка нового телесериал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ткрытия приюта для бездомных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троительства нефтепровод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22. К какой сфере общественной жизни относится работа органов здравоохранения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Экономическ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циальн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литическ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уховной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23. Какие из перечисленных отношений связаны с социальной  сферой жизни обществ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лавы государства и депутатов парламент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ежиссёра и актера театр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одавца и покупателя в магазин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одителей и дет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24. К социальной сфера общества относятся отношения межд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авительствами государств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едпринимателями одного государств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осударством и предпринимателям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осударством и пенсионерам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25. Какие из перечисленных отношений связанны с экономической сферой жизни обществ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оизводителя товара и его потребител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чителя и ученик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лав сопредельных государст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авонарушителя и адвокат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26. Российский фигуристы стали олимпийскими чемпионами в парном катаний. Это пример деятельности в сфер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. экономическ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. Политическ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. Культурн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социально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64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7. Установите соответствие между </a:t>
            </a: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бщественной сферой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 </a:t>
            </a: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тношениями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, которые она регул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Ответ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_______________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1397160"/>
          <a:ext cx="8064360" cy="317016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Отнош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Сферы 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А) поставщика сырья и производителя 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Б) избирателя и кандидата в депу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) лидера парламентской фракции и члена парт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Г) покупателя и продав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Palatino Linotype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Эконом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Palatino Linotype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олити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32" name="Прямоугольник 3"/>
          <p:cNvSpPr/>
          <p:nvPr/>
        </p:nvSpPr>
        <p:spPr>
          <a:xfrm>
            <a:off x="1763640" y="4941720"/>
            <a:ext cx="2232000" cy="77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1221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f5897"/>
                </a:solidFill>
                <a:latin typeface="Palatino Linotype"/>
              </a:rPr>
              <a:t>Типы обществ</a:t>
            </a:r>
            <a:endParaRPr b="0" lang="en-US" sz="6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8. Люди племени Р. живут  за счет охоты и собирательства. Они сами изготовляют себе одежду и предметы быта; живут большими многопоколенными семьями. Слово главы семьи является законом для ее членов. К какому типу относится общество этого племен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устриаль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радицион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тиндустриаль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формационном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Century Gothic"/>
              </a:rPr>
              <a:t>Традиционное общество </a:t>
            </a: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– все простые и дописьменные общества, общества охотников и собирателей, скотоводов и земледельцев, существовавшие в эпоху рабовладения и феодализма, основой экономики  в таких обществах были сельское хозяйство и ремесло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Для </a:t>
            </a:r>
            <a:r>
              <a:rPr b="1" lang="ru-RU" sz="2800" spc="-1" strike="noStrike">
                <a:solidFill>
                  <a:srgbClr val="7f7f7f"/>
                </a:solidFill>
                <a:latin typeface="Century Gothic"/>
              </a:rPr>
              <a:t>традиционного общества </a:t>
            </a:r>
            <a:r>
              <a:rPr b="0" lang="ru-RU" sz="2800" spc="-1" strike="noStrike">
                <a:solidFill>
                  <a:srgbClr val="7f7f7f"/>
                </a:solidFill>
                <a:latin typeface="Century Gothic"/>
              </a:rPr>
              <a:t>характерно следование однажды установленным традициям и обычаям, информация передается от поколения к поколению, от стариков к молодежи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9. Главным рычагом социального прогресса в данном обществе выступает передача знаний от стариков к молодежи,  строгое следование однажды установленным обычаям и традициям. Наука не вмешивается в общественное производство. Всеми общественными и жизненно важными явлениями руководит религия.  К какому типу относится данное общество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устриаль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радицион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тиндустриаль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формационном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0. К. -  небольшой островок, оторванный от цивилизации. Его жители собирают плоды, ловят рыбу, сами изготовляют себе одежду и домашнюю утварь. Они живут большими семьями, главами которых  являются старшие мужчины. Распоряжение главы семьи является обязательным для домочадцев.  К какому типу относится данное общество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устриаль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радицион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тиндустриальн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формационном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В узком смысле слова под обществом надо понима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. Конкретный этап в развитии народ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. территорию, имеющие четкие границ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. Социальную организацию стра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Часть материального мир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611280" y="3141720"/>
            <a:ext cx="8208720" cy="295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Общество – это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исторический этап в развитии человечества;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объединения  людей с какой-либо целью, группа людей, объединенных общностью положения, происхождения, интересов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1.  Жители этого общества владеют алфавитом  и фиксируют звуки на материальных носителях: клинописных таблицах, берестяных грамотах, в книгах или компьютерах. К какому типу относится данное общество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грарное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исьменное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описьменном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устриальному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351000" y="3860640"/>
            <a:ext cx="8640720" cy="259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редставлены  две типологии общества – аграрное и индустриальное и дописьменное и письменное общества (главный критерий наличие письменности)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2.   Основу экономики государства Б составляет промышленное производство, существует множество корпораций и фирм. К какому типу относится данное общество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радиционное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устриальное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тиндустриальном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формационном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Прямоугольник 1"/>
          <p:cNvSpPr/>
          <p:nvPr/>
        </p:nvSpPr>
        <p:spPr>
          <a:xfrm>
            <a:off x="351000" y="3573360"/>
            <a:ext cx="8640720" cy="302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Общество, основой экономики которого является промышленное производство, развиваются корпорации и фирмы, относятся к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ндустриальному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Характерна ведущая роль в социальной жизни промышленников и бизнесменов. Главная цель такого общества не власть , а деньги.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3.    В государстве П бурно развиваются наукоемкие  отрасли производства, новые виды массовых коммуникаций. К какому типу большинство населения занято в сфере образования и обслуживания. относится данное общество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радиционное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тиндустриальном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устриальное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описьменному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4. Верны ли следующие суждения о типах обществ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. Для традиционного общества характерна развитие системы промышленного производ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. В индустриальном основной отраслью экономики является сельское хозяй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ы оба сужд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а суждения не вер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5. В приведенном списке указаны черты традиционного общества и черты индустриального общества. Выберите и запишите в первую колонку таблицы порядковые номера черт традиционного, а во вторую колонку – порядковые номера черт индустриального обще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ередача знаний непосредственно от стариков к молодеж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звитие сети образовательных учреждени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осподство религи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урное развитие науки, совершение научных открыти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5084640"/>
          <a:ext cx="8209080" cy="154620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черты традиционного 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черты индустриального об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839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47" name="Прямоугольник 4"/>
          <p:cNvSpPr/>
          <p:nvPr/>
        </p:nvSpPr>
        <p:spPr>
          <a:xfrm>
            <a:off x="2556000" y="5810400"/>
            <a:ext cx="1368360" cy="78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4716360" y="5810400"/>
            <a:ext cx="16560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Palatino Linotype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6. Ниже приведен ряд характеристик. Все они за исключением одной, относятся к характеристике </a:t>
            </a: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аграрного общества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. Найдите и выпишите номер характеристики, выпадающий из ряд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звитое сельское хозяйство; 2. передача знаний от стариков к молодежи; 3. строгое следование традициям; 4. большая роль религии;  5.  активное развитие наук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твет:  </a:t>
            </a:r>
            <a:r>
              <a:rPr b="1" lang="ru-RU" sz="4000" spc="-1" strike="noStrike">
                <a:solidFill>
                  <a:srgbClr val="7f7f7f"/>
                </a:solidFill>
                <a:latin typeface="Century Gothic"/>
              </a:rPr>
              <a:t>5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 startAt="3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кажите правильную последовательность типов обще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устриальное обществ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щество охотников и собирател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Земледельческое обществ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щество огородник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щество скотовод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твет:  </a:t>
            </a:r>
            <a:r>
              <a:rPr b="1" lang="ru-RU" sz="4000" spc="-1" strike="noStrike">
                <a:solidFill>
                  <a:srgbClr val="7f7f7f"/>
                </a:solidFill>
                <a:latin typeface="Century Gothic"/>
              </a:rPr>
              <a:t>25431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f5897"/>
                </a:solidFill>
                <a:latin typeface="Palatino Linotype"/>
              </a:rPr>
              <a:t>Глобальные проблемы человечеств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68360" y="18900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f7f7f"/>
                </a:solidFill>
                <a:latin typeface="Century Gothic"/>
              </a:rPr>
              <a:t>Миграция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 - передвижение, перемещение. Миграция населения связана со сменой места житель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7f7f"/>
                </a:solidFill>
                <a:latin typeface="Century Gothic"/>
              </a:rPr>
              <a:t>Глобализация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– процесс всемирной экономической, политической и культурной интеграции (объединения), основными характеристиками которого являются распространение я по всему миру современной промышлености на базе рыночной экономики, мировое разделение труда, миграция в масштабах всей планеты денежных, человеческих и производственных ресурсов, стандартизация законодательства, экономических и технологических процессов, а также сближение культур разных стран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f7f7f"/>
                </a:solidFill>
                <a:latin typeface="Century Gothic"/>
              </a:rPr>
              <a:t>Милитаризация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- действия государственных органов в сфере экономики, политики и общества, направленные на наращивание военной мощи государств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i="1" lang="ru-RU" sz="3600" spc="-1" strike="noStrike">
                <a:solidFill>
                  <a:srgbClr val="7f7f7f"/>
                </a:solidFill>
                <a:latin typeface="Century Gothic"/>
              </a:rPr>
              <a:t>Деградация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– процесс ухудшения характеристик какого-либо объекта с течением времени, движение назад, постепенное ухудшение, упадок, снижение качества, разрушение материи в следствии внешнего воздействия по законам природы и времен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2. В узком смысле слова под обществом надо понима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ерриторию, имеющие четкую границ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циальную организацию стра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анцевальный коллекти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асть материального мир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3. В узком смысле слова под обществом надо понима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.Политическую организацию данной стра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. Социальную организацию стра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.Экипаж авиалайнер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Часть материального мир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8. Какая тенденция является основной в развитии современного обществ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Миграц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лобализац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Милитаризац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еградация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9. Что из перечисленного относится к глобальным проблемам человечеств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ереход к постиндустриальному обществ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звитие массовой культур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чезновение биологических вид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лобализация мировой экономик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24000" y="404640"/>
            <a:ext cx="8351640" cy="237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latino Linotype"/>
              </a:rPr>
              <a:t>Глобальны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– это проблемы, от решения  или не решения которых зависит  судьба всего человечества, само существование его на планете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0. Что из перечисленного относится к экологическим проблемам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еренаселенность стран Азии и Африк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чезновение некоторых биологических вид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спространение международного терроризм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урное развитие техник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395280" y="3716280"/>
            <a:ext cx="8424720" cy="24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Экологические проблемы связаны с изменением окружающей среды в результате воздействия на нее человека и продуктов жизнедеятельност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1. Глобальная экологическая проблема проявляетс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 угрозе мировой вой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 появлении новых вирусных болезн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 распространении международного терроризм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 истощении природных ресурсо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2. На планете Земля наблюдается истощение плодородного слоя почвы, уменьшаются запасы пресной воды, происходит полное уничтожение отдельных видов животных и растений. О наличии каких  проблем свидетельствует данная ситуация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Финансового кризис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Международного политического кризис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лобальных экологических проблем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уховного кризис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3. В результате данного процесса происходит сближение наций и народов, постепенно стираются границ и человечество превращается в   единую политическую и экономическую систему. Это процес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Эмиграци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емократизаци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лобализаци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рбанизаци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395280" y="3860640"/>
            <a:ext cx="8353440" cy="252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Эмиграция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– это переселение из одной в другую по экономическим, политическим или личным мотивам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Демократизация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– внедрение   демократических принципов в ту или иную систему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Урбанизация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– возрастание роли городов в развитии  общества, приток населения из сельской местности в города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44. В стране Х был проведен  социологический опрос граждан. Им был задан вопрос: «Как вы оцениваете обстановку в том городе, где вы живете?»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Мнения о том, что экологическая обстановка в их местности очень плохая, разделяют более четверти опрошенных граждан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ольшинство опрошенных граждан считает экологическую обстановку своем городе хороше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коло 1/3 опрошенных граждан положительно оценили экологическую обстановку в своем город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340000" y="1268280"/>
          <a:ext cx="5977080" cy="2684520"/>
        </p:xfrm>
        <a:graphic>
          <a:graphicData uri="http://schemas.openxmlformats.org/drawingml/2006/table">
            <a:tbl>
              <a:tblPr/>
              <a:tblGrid>
                <a:gridCol w="2989080"/>
                <a:gridCol w="2988000"/>
              </a:tblGrid>
              <a:tr h="85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Варианты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Количество голосов опрошенных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чень хоро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корее хоро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корее плох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Очень плох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Человек, личност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0560" y="189000"/>
            <a:ext cx="8435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5. Сергей В оказал помощь тонущему в пруду маленькому мальчику, несмотря на то, что мог  и сам утонуть. Этот поступок  характеризует Сергея как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Хорошего спортсмен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оспитанного мальчик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Личность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рушителя дисципли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314280" y="3632040"/>
            <a:ext cx="8567640" cy="28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– это результат воспитания или самовоспитания, самостоятельность  в поступках, способность нести ответственность и решать проблемы, контролировать свое поведение и обладать силой вол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5. Верны ли суждения о личност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. Личностью человек становится в результате преодоления трудностей и накопления социального опы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. Человек рождается личностью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ы оба сужд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а суждения не вер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6. Верны ли суждения о личности и обществе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. Общество и социальная среда способны влиять на личность в обоих направлениях – и подавляя и развивая е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.  Между развитие личности и общества существует прямая зависимо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ы оба сужд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а суждения не вер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6. Верны ли суждения о личност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.  Гениальным человека делает природа, а великим – обще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.  Личность формируется под влиянием социального ок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ы оба сужд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а суждения не вер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250920" y="4076640"/>
            <a:ext cx="864216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Гениальность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– это врожденная способность человека к более продуктивной  деятельности в той или иной области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Термин «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гений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» употребляется  как  как для обозначения способности человека к творчеству, так и для оценки результатов его деятельности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Прямоугольник 3"/>
          <p:cNvSpPr/>
          <p:nvPr/>
        </p:nvSpPr>
        <p:spPr>
          <a:xfrm>
            <a:off x="250920" y="4076640"/>
            <a:ext cx="864216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Личность формируется в ходе ее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оциализации,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усвоение человеком  тех норм, правил,  и традиций, которые приняты в данном обществе</a:t>
            </a: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Century Gothic"/>
              </a:rPr>
              <a:t>«Общество» </a:t>
            </a:r>
            <a:r>
              <a:rPr b="0" lang="ru-RU" sz="3600" spc="-1" strike="noStrike">
                <a:solidFill>
                  <a:srgbClr val="7f7f7f"/>
                </a:solidFill>
                <a:latin typeface="Century Gothic"/>
              </a:rPr>
              <a:t>в узком смысле слова – это определенная группа людей, объединившихся для общения, совместной деятельности, взаимопомощи и поддержк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Индивид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– отдельно взятый представитель человеческого род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Индивидуальность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– это специфика отдельного человека, носящая  как наследственный, так и случайный характе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Субъект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– это всякое лицо, любая вещь, о которых говорится, это индивид или группа как источник познания и преобразования действительности; носитель активности, осуществляющий изменение  в других людях и в себе самом, как в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Личность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– термин используется для  характеристики человека как участника социальных отношений и сомнительной деятельност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7. Учитель на родительском собрании, говоря о Васе П, отметил его способность контролировать свое поведение, нести ответственность и решать проблемы, подчеркнул его сильную волю и самостоятельность в поступка. То есть он характеризовал Васю как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ивид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ндивидуальнос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убъект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Личность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8. Формирование личности происходит под влиянием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родных особенност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бственных суждени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родного окруж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циального окруж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9. Укажите правильную последовательность потребностей человека в соответствии с тем порядком, в котором они представлены в пирамиде А. Масло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Духовные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Физиологически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 безопасност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естижны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циальные                          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539640" y="260280"/>
            <a:ext cx="8496360" cy="244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А. Маслоу распределил потребности человека в восходящем порядке, от низших биологических до высших духовных.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6300720" y="5084640"/>
            <a:ext cx="2374920" cy="122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23541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Деятельность человека, ее основные виды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Искусство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-  вид человеческой деятельности, нацеленный на удовлетворение одной из духовных потребностей человека (любовь к прекрасному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Религия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– мировоззрение и сопряжённое с ним поведение людей, определяемое верой в существование  сверхъестественной сферы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бразование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– деятельность, направленная на усвоение знаний, умений и навы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Наука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 – особый вид познавательной деятельности, направленный на  выработку  объективных , системно организованных и обоснованных знаний о мир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50. Основная цель этого вида деятельности -  выработка  теоритическая систематизация объективных знаний о действительности. Это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ств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елиг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бразовани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ука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4. В широком смысле слова под обществом надо понима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. Конкретный этап в развитии народ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. Часть материального мир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3. Коллектив учащихся одного класс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Хоккейную команд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611280" y="3141720"/>
            <a:ext cx="8208720" cy="295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Общество (в широком смысле слова)– это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обособившейся от природы, но тесно связанной с  ней часть материального мира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5. В широком смысле слова под обществом надо понима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руппу любителей почтовых марок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сех жителей данного город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чеников средней школы №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овокупность форм объединения людей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6. В широком смысле слова под обществом надо понимат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се человечеств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Рабовладельческое обществ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портивный коллекти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Население стра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58840" y="404640"/>
            <a:ext cx="83628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7. Верны ли следующие суждения об обществе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. Понятие «общество» применимо к любой исторической эпох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. Общество возникло раньше, чем государств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А                 3. Верны оба сужд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Верно только Б                 4. Оба суждения невер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8. Верны ли следующие суждения об обществе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А. Общество – это группа людей, объединившихся для выполнения какого-то действ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. Общество – конкретный этап в историческом развитии народ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. Верно только А                 3. Верны оба суждени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2. Верно только Б                 4. Оба суждения неверны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5-конечная звезда 3"/>
          <p:cNvSpPr/>
          <p:nvPr/>
        </p:nvSpPr>
        <p:spPr>
          <a:xfrm>
            <a:off x="8280360" y="1835280"/>
            <a:ext cx="468360" cy="457200"/>
          </a:xfrm>
          <a:custGeom>
            <a:avLst/>
            <a:gdLst/>
            <a:ahLst/>
            <a:rect l="l" t="t" r="r" b="b"/>
            <a:pathLst>
              <a:path w="468313" h="457200">
                <a:moveTo>
                  <a:pt x="0" y="174634"/>
                </a:moveTo>
                <a:lnTo>
                  <a:pt x="178881" y="174636"/>
                </a:lnTo>
                <a:lnTo>
                  <a:pt x="234157" y="0"/>
                </a:lnTo>
                <a:lnTo>
                  <a:pt x="289432" y="174636"/>
                </a:lnTo>
                <a:lnTo>
                  <a:pt x="468313" y="174634"/>
                </a:lnTo>
                <a:lnTo>
                  <a:pt x="323595" y="282564"/>
                </a:lnTo>
                <a:lnTo>
                  <a:pt x="378873" y="457199"/>
                </a:lnTo>
                <a:lnTo>
                  <a:pt x="234157" y="349267"/>
                </a:lnTo>
                <a:lnTo>
                  <a:pt x="89440" y="457199"/>
                </a:lnTo>
                <a:lnTo>
                  <a:pt x="144718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5-конечная звезда 4"/>
          <p:cNvSpPr/>
          <p:nvPr/>
        </p:nvSpPr>
        <p:spPr>
          <a:xfrm>
            <a:off x="8317080" y="4875120"/>
            <a:ext cx="610920" cy="457200"/>
          </a:xfrm>
          <a:custGeom>
            <a:avLst/>
            <a:gdLst/>
            <a:ahLst/>
            <a:rect l="l" t="t" r="r" b="b"/>
            <a:pathLst>
              <a:path w="611187" h="457200">
                <a:moveTo>
                  <a:pt x="1" y="174634"/>
                </a:moveTo>
                <a:lnTo>
                  <a:pt x="233454" y="174636"/>
                </a:lnTo>
                <a:lnTo>
                  <a:pt x="305594" y="0"/>
                </a:lnTo>
                <a:lnTo>
                  <a:pt x="377733" y="174636"/>
                </a:lnTo>
                <a:lnTo>
                  <a:pt x="611186" y="174634"/>
                </a:lnTo>
                <a:lnTo>
                  <a:pt x="422318" y="282564"/>
                </a:lnTo>
                <a:lnTo>
                  <a:pt x="494460" y="457199"/>
                </a:lnTo>
                <a:lnTo>
                  <a:pt x="305594" y="349267"/>
                </a:lnTo>
                <a:lnTo>
                  <a:pt x="116727" y="457199"/>
                </a:lnTo>
                <a:lnTo>
                  <a:pt x="188869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1371240"/>
            <a:ext cx="777240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заимосвязь общества и природы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40687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22:30:50Z</dcterms:created>
  <dc:creator>user</dc:creator>
  <dc:description/>
  <dc:language>en-US</dc:language>
  <cp:lastModifiedBy>user</cp:lastModifiedBy>
  <dcterms:modified xsi:type="dcterms:W3CDTF">2016-11-29T02:35:41Z</dcterms:modified>
  <cp:revision>49</cp:revision>
  <dc:subject/>
  <dc:title>Общество и человек</dc:title>
</cp:coreProperties>
</file>