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BCE3-FB3F-460E-8697-F86C83279D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8BC1-25D3-4EEC-9B0C-2073319EF5F7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DDCD-AFAD-4D47-ABA7-54CB35D2FC34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0983-ACA4-4347-89C9-FED12ACFE6A8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6F06-C083-49D0-AE19-784A1E706BD7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BD57-4D32-4198-8956-A9B43AD8C5CC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1675-2E93-424A-942C-BCD488435081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7857-47AB-4712-9EE1-41DF6ED53CCC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451A-A87B-4699-A309-2BA69B23AB57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26F-DC56-4B77-AA83-B83183E1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1EA-3382-42FF-B8B1-F4BD94B1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C3C-AD9C-4B8F-BC07-77C3F13B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595-D857-4E81-9290-D3B80CB1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B199-F6FF-4E0C-B9CC-723F06A3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7A8A-653E-4F2B-84BE-9BE3A085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8523-9B37-480B-A148-690A9B41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B02A-D6F5-42F4-A500-D7C50348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B3F0-7017-4B74-AFAB-8C77D503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FDFB-FBC3-4F59-9333-6DF94066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3D39-75E0-46E6-814F-CCF701BC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E704-EFFC-4E86-B8F3-2E1A0595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0999-6AAB-41C8-8F90-EE1B49E5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6B5E-285F-40B2-B3F2-4ADB5F54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7DD5-2F3F-4122-A105-C968E60E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2B24-FFB1-4C0E-9C4B-78CFCB5E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7654-1A41-447E-B418-993A2C33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2FA-5C66-4D23-8E7E-F5020976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4CA-214C-4EED-8CD2-8FC52B8B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AF6F-7CBB-45CA-9783-D6D65E17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9C2-002F-4333-8D39-51971D8A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B52-5C65-4A09-8CDC-ACBABD10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E0DE-231A-4E3E-83B2-F08EF5FC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EB0-2406-4BFA-838F-947F5BA3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7024-9A36-4D71-B20E-F335FA0235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D97C-63C8-410F-8173-07D6C63A231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10/mt-4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10/mt-5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10/mt-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10/mt-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08/tabl-3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08/tabl-4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08/tabl-1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ebygarden.ru/wp-content/uploads/2013/08/tabl-21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499680"/>
            <a:ext cx="8280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«Мнемотехника</a:t>
            </a:r>
            <a:br>
              <a:rPr sz="4800"/>
            </a:b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в развитии связной речи  дошкольников»</a:t>
            </a:r>
            <a:endParaRPr b="1" lang="en-US" sz="48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8" name="Рисунок 3" descr="1296798275_vesna.jpg"/>
          <p:cNvPicPr/>
          <p:nvPr/>
        </p:nvPicPr>
        <p:blipFill>
          <a:blip r:embed="rId1"/>
          <a:stretch/>
        </p:blipFill>
        <p:spPr>
          <a:xfrm>
            <a:off x="2286000" y="2643120"/>
            <a:ext cx="4786200" cy="34228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428760" y="6215040"/>
            <a:ext cx="84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оспитатель МКДОУ «ДС № 28» Стрепетова Елена Валентино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4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Примером мнемотехники в ДОУ могут быть таблицы, построенные на изображении последовательности процессов умывания, мытья рук, одевания, сервировки стола. Маленькому ребенку сложно запомнить весь алгоритм действий, придуманный взрослыми, поэтому наглядные картинки, расшифрованные на занятиях и самостоятельно пересказанные, позволят ребенку, каждый раз подходя к умывальнику или шкафчику с вещами, легко воспроизвести этапы.</a:t>
            </a:r>
            <a:br>
              <a:rPr sz="2000"/>
            </a:br>
            <a:endParaRPr b="1" lang="en-US" sz="2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0" name="Picture 2" descr="C:\Users\acer\Desktop\mnemotehnika_v_detskom_sadu_ris.1.jpg"/>
          <p:cNvPicPr/>
          <p:nvPr/>
        </p:nvPicPr>
        <p:blipFill>
          <a:blip r:embed="rId1"/>
          <a:stretch/>
        </p:blipFill>
        <p:spPr>
          <a:xfrm>
            <a:off x="1857240" y="2714760"/>
            <a:ext cx="51562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спользование мнемотаблиц в младшей группе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Развитие речи – одна из главных задач обучения детей. Как сделать этот процесс увлекательным и интересным для детей? Мы в своей работе широко используем мнемотаблицы, которые позволяют развивать связную, монологическую речь малыша, активизировать все мыслительные процессы. Начинать можно с составления рассказов из 2-3 предложений.</a:t>
            </a:r>
            <a:br>
              <a:rPr sz="2000"/>
            </a:br>
            <a:endParaRPr b="1" lang="en-US" sz="2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2" name="Рисунок 3" descr="мт 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85920" y="2643120"/>
            <a:ext cx="6858000" cy="23576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"/>
          <p:cNvSpPr/>
          <p:nvPr/>
        </p:nvSpPr>
        <p:spPr>
          <a:xfrm>
            <a:off x="428760" y="514368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Arial"/>
              </a:rPr>
              <a:t>На небе светило солнце. И вдруг пошёл дождь. После дождя на небе появилась красивая радуг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евочки и мальчики посадили на грядке – картошку, помидоры, огурцы. Поливают их водой. Овощи выросли большие и вкусные.</a:t>
            </a:r>
            <a:br>
              <a:rPr sz="2400"/>
            </a:br>
            <a:endParaRPr b="1" lang="en-US" sz="2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5" name="Рисунок 3" descr="мт 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00120" y="2571840"/>
            <a:ext cx="56437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аступила осень. Девочки и мальчики одевают теплые вещи. Небо покрыто серыми тучами и часто идет дождь. После дождя появляются в лесу много съедобных грибов. В лесу после дождя вырастают ядовитые грибы. Дикие животные делают запасы на зиму.</a:t>
            </a:r>
            <a:br>
              <a:rPr sz="2400"/>
            </a:br>
            <a:endParaRPr b="1" lang="en-US" sz="2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7" name="Рисунок 3" descr="мт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28880" y="2433600"/>
            <a:ext cx="57150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шел сильный дождь. После дождя в лесу выросли грибы. Девочки и мальчики собирают грибы в корзину.</a:t>
            </a:r>
            <a:br>
              <a:rPr sz="2400"/>
            </a:br>
            <a:endParaRPr b="1" lang="en-US" sz="2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9" name="Рисунок 3" descr="мт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1214280"/>
            <a:ext cx="6715080" cy="36435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4"/>
          <p:cNvSpPr/>
          <p:nvPr/>
        </p:nvSpPr>
        <p:spPr>
          <a:xfrm>
            <a:off x="285840" y="528624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Солнце светит ярко. Вдруг пошел сильный дождь. Девочки и мальчики вышли гулять на улицу с зонт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Зима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аступила зима. Небо закрыто серыми темными тучами. Часто идет холодный снег. Девочки и мальчики идут гулять на улицу. Они лепят из снега снежки и снежную бабу. Зимой ребята катаются на санках и коньках.</a:t>
            </a:r>
            <a:br>
              <a:rPr sz="2800"/>
            </a:br>
            <a:endParaRPr b="1" lang="en-US" sz="28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2" name="Содержимое 3" descr="tabl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2571840"/>
            <a:ext cx="6286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Лето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аступило лето. Солнце светит ярко и греет. Мальчики и девочки купаются в речке. Играют в мяч и бадминтон. Из песка строят башни, замки. Летом поспевают вкусные фрукты, ягоды и полезные овощи.</a:t>
            </a:r>
            <a:br>
              <a:rPr sz="2400"/>
            </a:br>
            <a:endParaRPr b="1" lang="en-US" sz="2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4" name="Рисунок 3" descr="tabl-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214720"/>
            <a:ext cx="65008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Осень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аступила осень. Солнце светит мало и не греет. Оно скрыто за серыми тучами. Часто идет дождь. Мы идем в детский сад под зонтом. Дует сильный ветер. И с деревьев слетает листва. Листья покрывают все вокруг красивым, красочным ковром.</a:t>
            </a:r>
            <a:br>
              <a:rPr sz="2400"/>
            </a:br>
            <a:endParaRPr b="1" lang="en-US" sz="2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6" name="Рисунок 3" descr="tabl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2286000"/>
            <a:ext cx="65721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Весна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аступила весна. Солнце пригревает сильнее и становится тепло. На улице тает снег, и бегут ручьи. Девочки и мальчики пускают кораблики по воде. На деревьях распускаются первые почки и появляются первые цветы. Из жарких стран прилетают птицы.</a:t>
            </a:r>
            <a:endParaRPr b="1" lang="en-US" sz="2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8" name="Рисунок 3" descr="tabl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495520"/>
            <a:ext cx="67867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C:\Users\acer\Desktop\12112014965.jpg"/>
          <p:cNvPicPr/>
          <p:nvPr/>
        </p:nvPicPr>
        <p:blipFill>
          <a:blip r:embed="rId1"/>
          <a:stretch/>
        </p:blipFill>
        <p:spPr>
          <a:xfrm>
            <a:off x="214200" y="21420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Users\acer\Desktop\12112014964.jpg"/>
          <p:cNvPicPr/>
          <p:nvPr/>
        </p:nvPicPr>
        <p:blipFill>
          <a:blip r:embed="rId2"/>
          <a:stretch/>
        </p:blipFill>
        <p:spPr>
          <a:xfrm>
            <a:off x="4643280" y="21420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C:\Users\acer\Desktop\12112014966.jpg"/>
          <p:cNvPicPr/>
          <p:nvPr/>
        </p:nvPicPr>
        <p:blipFill>
          <a:blip r:embed="rId3"/>
          <a:stretch/>
        </p:blipFill>
        <p:spPr>
          <a:xfrm>
            <a:off x="214200" y="350028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C:\Users\acer\Desktop\11112014962.jpg"/>
          <p:cNvPicPr/>
          <p:nvPr/>
        </p:nvPicPr>
        <p:blipFill>
          <a:blip r:embed="rId4"/>
          <a:stretch/>
        </p:blipFill>
        <p:spPr>
          <a:xfrm>
            <a:off x="4643280" y="3483000"/>
            <a:ext cx="42642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Задачи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1. Дать понятие мнемотехники, раскрыть актуальность, познакомить с особенностями, принципами технологии, этапами работ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2. Дать рекомендации педагогам по использованию карточек – схем на занятиях, образцы некоторых опорных схем, познакомить с литературой по данной тем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Стихотворения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64" name="Содержимое 3" descr="C:\Users\x61\Downloads\0238360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56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707080" cy="4303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3708360" y="2895480"/>
            <a:ext cx="525636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тихотворения</a:t>
            </a:r>
            <a:endParaRPr b="1" lang="en-US" sz="32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68" name="Picture 2" descr="http://bonisad.ru/obrazovatelnie_marshruti/zanyatiya_po_mnemotehnike/mnemotehnika1.gif?rand=41837173540028"/>
          <p:cNvPicPr/>
          <p:nvPr/>
        </p:nvPicPr>
        <p:blipFill>
          <a:blip r:embed="rId1"/>
          <a:stretch/>
        </p:blipFill>
        <p:spPr>
          <a:xfrm>
            <a:off x="1258920" y="1413000"/>
            <a:ext cx="7634160" cy="4859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ttp://www.maaam.ru/upload/blogs/84937f88c18d2b776f48115ae0016fd7.jpg.jpg"/>
          <p:cNvPicPr/>
          <p:nvPr/>
        </p:nvPicPr>
        <p:blipFill>
          <a:blip r:embed="rId1"/>
          <a:stretch/>
        </p:blipFill>
        <p:spPr>
          <a:xfrm>
            <a:off x="971640" y="189000"/>
            <a:ext cx="6913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://festival.1september.ru/articles/594284/img4.jpg"/>
          <p:cNvPicPr/>
          <p:nvPr/>
        </p:nvPicPr>
        <p:blipFill>
          <a:blip r:embed="rId1"/>
          <a:stretch/>
        </p:blipFill>
        <p:spPr>
          <a:xfrm>
            <a:off x="1476360" y="2276640"/>
            <a:ext cx="6335640" cy="394632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2"/>
          <p:cNvSpPr/>
          <p:nvPr/>
        </p:nvSpPr>
        <p:spPr>
          <a:xfrm>
            <a:off x="619200" y="263520"/>
            <a:ext cx="7632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Arial"/>
              </a:rPr>
              <a:t>Описание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Волк живёт в лесу. Он дикое животное. У него четыре ноги. Тело покрыто густой серой шерстью. Своих детёнышей волчица выкармливает молочком. Волк хищник, у него острые зуб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тоял в поле теремок. Мимо бежала мышка-норушка, стала она в теремке жить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Затем прибежала в теремок лягушка-квакушка, за ней зайчик-побегайчик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Затем прибежала лисичка-сестричка, волк – зубами щёлк, а потом пришёл медведь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еремок не выдержал, взял и развалился. Тут и сказке конец, а кто слушал – молодец.</a:t>
            </a:r>
            <a:br>
              <a:rPr sz="2000"/>
            </a:br>
            <a:endParaRPr b="1" lang="en-US" sz="2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73" name="Picture 2" descr="http://festival.1september.ru/articles/594284/img6.jpg"/>
          <p:cNvPicPr/>
          <p:nvPr/>
        </p:nvPicPr>
        <p:blipFill>
          <a:blip r:embed="rId1"/>
          <a:stretch/>
        </p:blipFill>
        <p:spPr>
          <a:xfrm>
            <a:off x="2214720" y="2644920"/>
            <a:ext cx="4214520" cy="39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Пересказ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75" name="Picture 5" descr="SL382663"/>
          <p:cNvPicPr/>
          <p:nvPr/>
        </p:nvPicPr>
        <p:blipFill>
          <a:blip r:embed="rId1"/>
          <a:stretch/>
        </p:blipFill>
        <p:spPr>
          <a:xfrm>
            <a:off x="324000" y="2205000"/>
            <a:ext cx="3671640" cy="3816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SL382664"/>
          <p:cNvPicPr/>
          <p:nvPr/>
        </p:nvPicPr>
        <p:blipFill>
          <a:blip r:embed="rId2"/>
          <a:stretch/>
        </p:blipFill>
        <p:spPr>
          <a:xfrm>
            <a:off x="4859280" y="2276640"/>
            <a:ext cx="39625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абота на занятиях по мнемотаблицам состоит из трех этапов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1 этап: Рассматривание таблицы и разбор того, что на ней изображе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2 этап: Осуществляется перекодирование информации, т.е. преобразование из абстрактных символов в образ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3 этап: После перекодирования осуществляется пересказ сказки или рассказ по заданной тем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 младших группах с помощью воспитателя, в старших – дети должны уметь самостоятельно (более подробно описано у Назаровой И. И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оследовательность работы с мнемотаблицами:</a:t>
            </a:r>
            <a:endParaRPr b="1" lang="en-US" sz="32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1. Введение элементов символов (формы, величины, действия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2. Использование опорных схем  на всех видах занятий, различных видов деятельности (для выработки у ребёнка привыкания, понимания, что символ универсале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3. Введение отрица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4. Сочетание символов, чтение цепочки 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5. Самостоятельный поиск детьми изображений, символизирующих какое-либо качество. (Задача этого этапа - активный поиск изображений, умение аргументировать свой выбор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6. Творческое создание детьми опорных сх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circl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Результаты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 детей увеличивается круг знаний об окружающем мир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оявляется желание пересказывать тексты, придумывать интересные истор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оявляется интерес к заучиванию стихов и потешек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ловарный запас выходит на более высокий уровен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дети преодолевают робость, застенчивость, учатся свободно держаться перед аудитори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24000">
    <p:checker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облемы речи детей дошкольного возраста:</a:t>
            </a:r>
            <a:endParaRPr b="1" lang="en-US" sz="32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0920" y="1143000"/>
            <a:ext cx="86421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дносложная, состоящая лишь из простых предложений речь. Неспособность грамматически правильно построить предлож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Бедность речи. Недостаточный словарный запа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Употребление нелитературных слов и выраж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Бедная диалогическая речь: неспособность грамотно и доступно сформулировать вопрос, построить краткий или развёрнутый отв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Неспособность построить монолог: например, сюжетный или описательный рассказ на предложенную тему, пересказ текста своими слов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тсутствие логического обоснования своих утверждений и вывод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Отсутствие навыков культуры речи: неумение использовать интонации, регулировать громкость голоса и темп речи и т. 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лохая дикц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5000">
    <p:randomBa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3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3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3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3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3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3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3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К . Д. Ушинский писал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«Учите ребёнка каким-нибудь неизвестным ему пяти словам- он будет долго и напрасно мучиться, но свяжите двадцать таких слов с картинками, и он усвоит на лету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Users\acer\Desktop\12112014968.jpg"/>
          <p:cNvPicPr/>
          <p:nvPr/>
        </p:nvPicPr>
        <p:blipFill>
          <a:blip r:embed="rId1"/>
          <a:stretch/>
        </p:blipFill>
        <p:spPr>
          <a:xfrm>
            <a:off x="0" y="0"/>
            <a:ext cx="4075200" cy="3056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acer\Desktop\11112014963.jpg"/>
          <p:cNvPicPr/>
          <p:nvPr/>
        </p:nvPicPr>
        <p:blipFill>
          <a:blip r:embed="rId2"/>
          <a:stretch/>
        </p:blipFill>
        <p:spPr>
          <a:xfrm>
            <a:off x="2857680" y="2143080"/>
            <a:ext cx="4192560" cy="3144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C:\Users\acer\Desktop\12112014967.jpg"/>
          <p:cNvPicPr/>
          <p:nvPr/>
        </p:nvPicPr>
        <p:blipFill>
          <a:blip r:embed="rId3"/>
          <a:stretch/>
        </p:blipFill>
        <p:spPr>
          <a:xfrm>
            <a:off x="5214960" y="391176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89" name="Picture 2" descr="C:\Users\acer\Desktop\11112014961.jpg"/>
          <p:cNvPicPr/>
          <p:nvPr/>
        </p:nvPicPr>
        <p:blipFill>
          <a:blip r:embed="rId1"/>
          <a:stretch/>
        </p:blipFill>
        <p:spPr>
          <a:xfrm>
            <a:off x="1143000" y="1214280"/>
            <a:ext cx="702792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Мнемотехника 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В переводе с греческого - «искусство запоминания».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Это система методов и приемов, обеспечивающих успешное запоминание, сохранение и воспроизведение информации, знаний об особенностях объектов природы, об окружающем мире, эффективное запоминание структуры рассказа, и, конечно, развитие речи</a:t>
            </a:r>
            <a:endParaRPr b="1" lang="en-US" sz="3200" spc="-1" strike="noStrike">
              <a:solidFill>
                <a:srgbClr val="fffdd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Отличительные особенности технологи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-имеет чёткое теоретическое и экспериментальное обосн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-приемы запоминания индивидуализирова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-широко используются образные код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беспечивающие быстрое запомин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-введено понятие ”навык запоминания” и разработана точная система контроля навыка запомин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214200" y="766080"/>
            <a:ext cx="857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немотехника помогает развивать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ссоциативное мышле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чь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зрительную и слуховую память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зрительное и слуховое внимани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воображени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0" y="2203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Цель обучения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 развитие связной реч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  преобразование абстрактных символов в образы (перекодирование информации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развитие мелкой моторики ру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 развитие основных психических процессов – памяти, внимания, образного мыш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 помогает овладение приёмами работы с мнемотаблицами и сокращает время обуч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7120" y="57168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Как любая работа, мнемотехника строится от простого к сложному 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 algn="ctr">
              <a:spcBef>
                <a:spcPts val="799"/>
              </a:spcBef>
              <a:buClr>
                <a:srgbClr val="fcddab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Мнемоквадра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Мнемодорож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Мнемотаблиц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13840" y="214200"/>
            <a:ext cx="857268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601"/>
              </a:spcBef>
              <a:buClr>
                <a:srgbClr val="fcddab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одержание мнемотаблицы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 - это графическое или частично графическое изображение персонажей сказки, явлений природы, некоторых действий и др. путем выделения главных смысловых звеньев сюжета рассказа. Главное – нужно передать условно-наглядную схему, изобразить так, чтобы нарисованное было понятно дет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 algn="just">
              <a:spcBef>
                <a:spcPts val="601"/>
              </a:spcBef>
              <a:buClr>
                <a:srgbClr val="fcddab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 algn="just">
              <a:spcBef>
                <a:spcPts val="601"/>
              </a:spcBef>
              <a:buClr>
                <a:srgbClr val="fcddab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  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хемы служат своеобразным зрительным планом для создания монологов, помогают детям выстраивать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 algn="just">
              <a:spcBef>
                <a:spcPts val="601"/>
              </a:spcBef>
              <a:buClr>
                <a:srgbClr val="fcddab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- строение рассказ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 algn="just">
              <a:spcBef>
                <a:spcPts val="601"/>
              </a:spcBef>
              <a:buClr>
                <a:srgbClr val="fcddab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- последовательность рассказ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 algn="just">
              <a:spcBef>
                <a:spcPts val="601"/>
              </a:spcBef>
              <a:buClr>
                <a:srgbClr val="fcddab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- лексико-грамматическую наполняемость рассказ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buClr>
                <a:srgbClr val="fcddab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499"/>
              </a:spcBef>
              <a:buClr>
                <a:srgbClr val="fcddab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7:00:28Z</dcterms:created>
  <dc:creator>Admin</dc:creator>
  <dc:description/>
  <dc:language>en-US</dc:language>
  <cp:lastModifiedBy>Пользователь Windows</cp:lastModifiedBy>
  <dcterms:modified xsi:type="dcterms:W3CDTF">2016-12-01T17:09:08Z</dcterms:modified>
  <cp:revision>53</cp:revision>
  <dc:subject/>
  <dc:title>«Мнемотехника в развитии связной речи у дошкольников»</dc:title>
</cp:coreProperties>
</file>