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FCC-58FA-47CB-B9EE-2D924455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147-51C5-4CCE-B15E-64C139AA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69E-82C9-4524-918E-BB06C860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47F-4D4A-4BB8-9D21-DCE65EF7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853-8033-476C-AE49-6EEDC23A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749-AE66-497C-BACF-6207E0C7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112-D231-4737-9955-FA29D076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1F2-1172-4C17-9361-5CBB8E5E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792-3392-4984-918F-6CEF855B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E65-792C-4A8A-BCE2-49C9B719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3D5-2573-43E7-95B8-E79F17A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008-A661-470D-AE36-4ECD3C3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493-9859-4295-9475-D87C0B291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124000" y="1413000"/>
            <a:ext cx="5977080" cy="18003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ВИТИЕ СОЦИАЛЬНО-КОММУНИКАТИВНЫХ НАВЫКОВ У ДОШКОЛЬНИКОВ В  ИГРОВ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140360" y="5013360"/>
            <a:ext cx="41767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робьёва Х.В., воспитатель МБ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 /с №4 «Аистёнок» г. Ку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2700360" y="17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, направляющие внимание на себя самого, свои чувства, со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, формирующие осознанное отношение к своей семье в целом, каждому ее члену в отдельности и к себе как значимому и полноправному члену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, активизирующие развитие навыков взаимодействия с другими люд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атрализован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549360"/>
            <a:ext cx="79912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-коммуникативное развитие детей является важной проблемой в педагогике. Её актуальность возрастает в современных условиях в связи с особенностями социального окружения ребёнка, в котором часто наблюдаются дефицит воспитанности, доброты, доброжелательности, речевой культуры во взаимоотношениях людей. В рамках реализации ФГОС в содержании образовательной деятельности дошкольных учреждений более пристальное внимание должно быть уделено достижению целей и решению задач социально-коммуникативно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411280" y="2205000"/>
            <a:ext cx="502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 – коммуникативное развитие - «процесс усвоения и дальнейшего развития индивидом социально-культурного опыта, необходимого для его включения в систему общественных отношени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124000" y="981000"/>
            <a:ext cx="64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развитие ребёнка дошкольного возраста - процесс, в течение которого ребенок усваивает ценности, традиции своего народа, культуру общества, в котором ему предстоит жить. Этот опыт представлен в структуре личности неповторимым сочетанием находящихся в тесной взаимозависимости четырех компонентов: (Социальные навыки, специфические знания, социальные качества, ролевое поведение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55640" y="196920"/>
            <a:ext cx="748836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 – коммуникативное развитие дошкольника направлено на решение следующих задач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положительного отношения и чувства принадлежности к своей семье, малой и большой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ние основ собственной безопасности и безопасности окружающего мира «в быту, социуме, природ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владение элементарными общепринятыми нормами и правилами поведения в социуме на основе первичных моральных представлений о том, «что такое хорошо и что такое плох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владение элементарными нормами и правилами здорового образа жизни (в питании, двигательном режиме, закаливании, при формировании полезных привычек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итие эмоционально – ценностного восприятия произведения искусства ( словесного, музыкального, изобразительного), мира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203640" y="836640"/>
            <a:ext cx="4572000" cy="424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е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о – творческие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 – ролевые, досуговые, обучающие, народные и дидактически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иль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ые п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досуги, развл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игры, презентации и 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258920" y="1052640"/>
            <a:ext cx="7416720" cy="24102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гры, воздействующие на физиологию дошкольн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ую очередь такие игры помогают снятию мышечных зажимов, развивают гибкость, пластичность тела, стимулируют самовыражение детей в эмоциональном дви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Прямоугольник 1"/>
          <p:cNvGrpSpPr/>
          <p:nvPr/>
        </p:nvGrpSpPr>
        <p:grpSpPr>
          <a:xfrm>
            <a:off x="1268280" y="2292480"/>
            <a:ext cx="7607520" cy="1401480"/>
            <a:chOff x="1268280" y="2292480"/>
            <a:chExt cx="7607520" cy="1401480"/>
          </a:xfrm>
        </p:grpSpPr>
        <p:pic>
          <p:nvPicPr>
            <p:cNvPr id="50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268280" y="2292480"/>
              <a:ext cx="760752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32000" y="2421000"/>
              <a:ext cx="748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Игры, развивающие вербальные и невербальные способы общения.</a:t>
              </a: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55640" y="0"/>
            <a:ext cx="7704000" cy="2235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0" y="2690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знакомящие с человеческими эмоциями, обучающие умению выражать свои эмоции и правильно распознавать эмоциональное состояние товарищ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9:15:41Z</dcterms:created>
  <dc:creator>DAY</dc:creator>
  <dc:description/>
  <dc:language>en-US</dc:language>
  <cp:lastModifiedBy>Bait</cp:lastModifiedBy>
  <dcterms:modified xsi:type="dcterms:W3CDTF">2016-04-04T17:28:59Z</dcterms:modified>
  <cp:revision>24</cp:revision>
  <dc:subject/>
  <dc:title>Слайд 1</dc:title>
</cp:coreProperties>
</file>