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CC3-FC6C-47E4-8B3B-DCB2E8D6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0C7-7B83-4AE7-85C9-FF1341B8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0D9-EEE5-42E5-982A-7877FFC2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1FE-41FF-46E2-AD10-FB78C43B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28D-2F54-44F2-A8A3-B8D2443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84D-83B4-4C47-9575-A7E3D65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AE3-6422-4CF9-984C-3F02EAC2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439-8608-4909-8866-0110B0BF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8C0-84B0-43AC-A438-3869260A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DFB-938D-4A69-8CE9-7FB0B3B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033-A678-46DD-92D3-65DEB8E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76E-80B1-408E-9313-51117A2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F03C-BC4D-4266-AA44-17EDA84DA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Сивуч - Редкие животные из красной кни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Картинки по запросу сивуч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096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инки по запросу сиву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и по запросу сивуч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же упоминалось выше, сивуч является крупным животным из семейства Ушастых тюленей. Самец в длину может вырастать до 3-3,5 метров и достигать в весе 800-1000кг.  Самки же намного меньше — предел длины тела — 260 см, вес -350кг. Детеныши рождаются с вес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20 кг, а к месячному возрасту достигают до 30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лежбища этих удивительных животных находятся в России (Курильские острова, Охотское море, Камчатка, Командорские острова), почти по всей части Тихого океана, включая Японию, Канаду и США ( Калифорния, Алеутские острова, Аляска). Излюбленные места обитания северных морских львов —  это скалы, каменные рифы. Основной рацион сивучей — головоногие и двустворчатые моллюски, кальмары, осьминоги, различная рыба ( песчанка, скаты, лососевые, сельдь, морские окуни, палтус, камбала, бычки, акулы, терпуги, мойва, минтай), иногда водоросли. Ассортимент в питании зависит от географической изменчивости.  Добывая пропитание, морской лев погружается в воду на 100-140 метров. Животное способно нырять с высоты 20-25 метров и является отличным пловц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м огромное 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и по запросу сивуч"/>
          <p:cNvPicPr/>
          <p:nvPr/>
        </p:nvPicPr>
        <p:blipFill>
          <a:blip r:embed="rId1"/>
          <a:stretch/>
        </p:blipFill>
        <p:spPr>
          <a:xfrm>
            <a:off x="0" y="1600200"/>
            <a:ext cx="9182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2:14:21Z</dcterms:created>
  <dc:creator>Роман</dc:creator>
  <dc:description/>
  <dc:language>en-US</dc:language>
  <cp:lastModifiedBy>Home</cp:lastModifiedBy>
  <dcterms:modified xsi:type="dcterms:W3CDTF">2016-12-01T14:59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