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593-4074-40B7-8E0C-ECF6399C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D9D-0E1A-4994-A142-3CC551A1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D47-3E46-4048-9D6B-1192B15A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F34-EF00-4BA2-A388-69D51C7F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8C9-2ADE-46E6-8D49-048C3B84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EA2-51FD-4546-A405-07B18FBB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078-A66B-402D-B1E2-1AD31F89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782-9C11-477C-B4B4-D6A9221B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C42-A51E-4BEB-9E24-1A82CF2D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9E3-8B88-4C51-BE1A-D255B150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169-7F2C-45BF-B60E-FBAFCB4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A90-E860-44BE-8C26-85044C2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CA4A-AE8D-4D3C-B012-8401EE0F8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Documents and Settings\Oksana\Мои документы\Мои статьи и общие документы\Школа№8\КАРТИНКИ И ФОНЫ ДЛЯ ПРЕЗЕНТАЦИЙ\Разное\413414-4a7054b9a7c7a9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26"/>
          <p:cNvSpPr/>
          <p:nvPr/>
        </p:nvSpPr>
        <p:spPr>
          <a:xfrm>
            <a:off x="490680" y="919080"/>
            <a:ext cx="8055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04.16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ждение процентов от числа и числа по его процент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8440" y="-3240"/>
            <a:ext cx="917244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Текст 4"/>
          <p:cNvSpPr/>
          <p:nvPr/>
        </p:nvSpPr>
        <p:spPr>
          <a:xfrm>
            <a:off x="971640" y="404640"/>
            <a:ext cx="40417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План нашей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971640" y="1268280"/>
            <a:ext cx="4680000" cy="302436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8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босновать ………………   прое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8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пределить цель и ………………   прое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8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оставить ………………   прое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8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……………  </a:t>
            </a: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исследование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8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бработать ………………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8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………………  </a:t>
            </a: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представления исследования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8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Разработать …………и ………….к продукту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8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формить …………….. в виде …………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8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………………    </a:t>
            </a:r>
            <a:r>
              <a:rPr b="1" lang="en-US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презентацию проду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Выгнутая вверх стрелка 7"/>
          <p:cNvSpPr/>
          <p:nvPr/>
        </p:nvSpPr>
        <p:spPr>
          <a:xfrm rot="16200000">
            <a:off x="663480" y="4384440"/>
            <a:ext cx="1490400" cy="731880"/>
          </a:xfrm>
          <a:custGeom>
            <a:avLst/>
            <a:gdLst>
              <a:gd name="textAreaLeft" fmla="*/ 303840 w 1490400"/>
              <a:gd name="textAreaRight" fmla="*/ 1095120 w 149040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2" hR="21600" stAng="10800000" swAng="5400000"/>
                <a:lnTo>
                  <a:pt x="11464" y="0"/>
                </a:lnTo>
                <a:arcTo wR="8812" hR="21600" stAng="-5400000" swAng="3460134"/>
                <a:lnTo>
                  <a:pt x="21320" y="16200"/>
                </a:lnTo>
                <a:lnTo>
                  <a:pt x="18949" y="21600"/>
                </a:lnTo>
                <a:lnTo>
                  <a:pt x="16018" y="16200"/>
                </a:lnTo>
                <a:lnTo>
                  <a:pt x="17343" y="16200"/>
                </a:lnTo>
                <a:arcTo wR="8812" hR="21600" stAng="-1939866" swAng="-3246937"/>
                <a:lnTo>
                  <a:pt x="10138" y="246"/>
                </a:lnTo>
                <a:arcTo wR="8812" hR="21600" stAng="-5613197" swAng="-5186803"/>
                <a:close/>
              </a:path>
              <a:path fill="darkenLess" w="21600" h="21600">
                <a:moveTo>
                  <a:pt x="0" y="21600"/>
                </a:moveTo>
                <a:arcTo wR="8812" hR="21600" stAng="10800000" swAng="5400000"/>
                <a:lnTo>
                  <a:pt x="8812" y="0"/>
                </a:lnTo>
                <a:arcTo wR="8812" hR="21600" stAng="-5400000" swAng="213197"/>
                <a:lnTo>
                  <a:pt x="10138" y="246"/>
                </a:lnTo>
                <a:arcTo wR="8812" hR="21600" stAng="-5613197" swAng="-5186803"/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miter/>
          </a:ln>
          <a:effectLst>
            <a:outerShdw dist="12727" dir="81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бъект 3"/>
          <p:cNvSpPr/>
          <p:nvPr/>
        </p:nvSpPr>
        <p:spPr>
          <a:xfrm>
            <a:off x="1979640" y="4869000"/>
            <a:ext cx="489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нные,  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блема,  </a:t>
            </a:r>
            <a:r>
              <a:rPr b="1" lang="en-US" sz="1600" spc="-1" strike="noStrike">
                <a:solidFill>
                  <a:srgbClr val="1106e8"/>
                </a:solidFill>
                <a:latin typeface="Times New Roman"/>
                <a:ea typeface="Times New Roman"/>
              </a:rPr>
              <a:t>требования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,  </a:t>
            </a:r>
            <a:r>
              <a:rPr b="1" lang="en-US" sz="1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ритерии,  </a:t>
            </a:r>
            <a:r>
              <a:rPr b="1" lang="en-US" sz="1600" spc="-1" strike="noStrike">
                <a:solidFill>
                  <a:srgbClr val="750114"/>
                </a:solidFill>
                <a:latin typeface="Times New Roman"/>
                <a:ea typeface="Times New Roman"/>
              </a:rPr>
              <a:t>подготовить,  </a:t>
            </a:r>
            <a:r>
              <a:rPr b="1" lang="en-US" sz="1600" spc="-1" strike="noStrike">
                <a:solidFill>
                  <a:srgbClr val="5a5744"/>
                </a:solidFill>
                <a:latin typeface="Times New Roman"/>
                <a:ea typeface="Times New Roman"/>
              </a:rPr>
              <a:t>план, </a:t>
            </a:r>
            <a:r>
              <a:rPr b="1" lang="en-US" sz="1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вести, </a:t>
            </a:r>
            <a:r>
              <a:rPr b="1" lang="en-US" sz="1600" spc="-1" strike="noStrike">
                <a:solidFill>
                  <a:srgbClr val="878947"/>
                </a:solidFill>
                <a:latin typeface="Times New Roman"/>
                <a:ea typeface="Times New Roman"/>
              </a:rPr>
              <a:t>результаты,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тер,  </a:t>
            </a:r>
            <a:r>
              <a:rPr b="1" lang="en-US" sz="1600" spc="-1" strike="noStrike">
                <a:solidFill>
                  <a:srgbClr val="5a5744"/>
                </a:solidFill>
                <a:latin typeface="Times New Roman"/>
                <a:ea typeface="Times New Roman"/>
              </a:rPr>
              <a:t>рассмотреть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Человек"/>
          <p:cNvPicPr/>
          <p:nvPr/>
        </p:nvPicPr>
        <p:blipFill>
          <a:blip r:embed="rId2"/>
          <a:stretch/>
        </p:blipFill>
        <p:spPr>
          <a:xfrm>
            <a:off x="5651640" y="1268280"/>
            <a:ext cx="2957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72440" cy="686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042920" y="260280"/>
          <a:ext cx="5834160" cy="2646360"/>
        </p:xfrm>
        <a:graphic>
          <a:graphicData uri="http://schemas.openxmlformats.org/drawingml/2006/table">
            <a:tbl>
              <a:tblPr/>
              <a:tblGrid>
                <a:gridCol w="583416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6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Шифрование: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6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6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6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2%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6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6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%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6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55640" y="3068640"/>
          <a:ext cx="8208720" cy="915840"/>
        </p:xfrm>
        <a:graphic>
          <a:graphicData uri="http://schemas.openxmlformats.org/drawingml/2006/table">
            <a:tbl>
              <a:tblPr/>
              <a:tblGrid>
                <a:gridCol w="615960"/>
                <a:gridCol w="761760"/>
                <a:gridCol w="762120"/>
                <a:gridCol w="765000"/>
                <a:gridCol w="1009800"/>
                <a:gridCol w="914400"/>
                <a:gridCol w="787320"/>
                <a:gridCol w="847800"/>
                <a:gridCol w="955800"/>
                <a:gridCol w="788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6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2" descr="D:\материалы к урокам\Я УЧУСЬ\ШАБЛОН ДЛЯ ПРЕЗЕНТАЦИИ\готовые шаблоны\Шаблон Школьная страна\Девочка для триггера.png"/>
          <p:cNvPicPr/>
          <p:nvPr/>
        </p:nvPicPr>
        <p:blipFill>
          <a:blip r:embed="rId2"/>
          <a:stretch/>
        </p:blipFill>
        <p:spPr>
          <a:xfrm>
            <a:off x="3924360" y="692280"/>
            <a:ext cx="2806560" cy="2286000"/>
          </a:xfrm>
          <a:prstGeom prst="rect">
            <a:avLst/>
          </a:prstGeom>
          <a:ln w="0">
            <a:noFill/>
          </a:ln>
        </p:spPr>
      </p:pic>
      <p:sp>
        <p:nvSpPr>
          <p:cNvPr id="53" name="Выноска-облако 4"/>
          <p:cNvSpPr/>
          <p:nvPr/>
        </p:nvSpPr>
        <p:spPr>
          <a:xfrm>
            <a:off x="7596360" y="189000"/>
            <a:ext cx="1079280" cy="936360"/>
          </a:xfrm>
          <a:prstGeom prst="cloudCallout">
            <a:avLst>
              <a:gd name="adj1" fmla="val -136324"/>
              <a:gd name="adj2" fmla="val 71694"/>
            </a:avLst>
          </a:prstGeom>
          <a:solidFill>
            <a:srgbClr val="bbe0e3">
              <a:alpha val="48000"/>
            </a:srgbClr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c99ff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429228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СТАТИСТИКА - отрасль знаний, в которой представлены общие вопросы сбора, измерения и анализа большого количества статистически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72440" cy="686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7561080" cy="51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042920" y="5516640"/>
          <a:ext cx="7489800" cy="100800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нфографика - это графический способ подачи информации, данных и знаний, целью которого является быстро и чётко преподносить сложную информац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61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3589560" cy="633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00720" y="189000"/>
            <a:ext cx="4319280" cy="316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30826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6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042920" y="476280"/>
          <a:ext cx="5041800" cy="958680"/>
        </p:xfrm>
        <a:graphic>
          <a:graphicData uri="http://schemas.openxmlformats.org/drawingml/2006/table">
            <a:tbl>
              <a:tblPr/>
              <a:tblGrid>
                <a:gridCol w="504180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ее задание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37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38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1104, 11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7381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8:13:56Z</dcterms:created>
  <dc:creator>Lenovo</dc:creator>
  <dc:description/>
  <dc:language>en-US</dc:language>
  <cp:lastModifiedBy>Lenovo</cp:lastModifiedBy>
  <dcterms:modified xsi:type="dcterms:W3CDTF">2016-04-12T07:16:10Z</dcterms:modified>
  <cp:revision>7</cp:revision>
  <dc:subject/>
  <dc:title>Слайд 1</dc:title>
</cp:coreProperties>
</file>