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001-B4C6-49BE-8B45-1B86CCF9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2ED-82CD-410F-B257-A539CB9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520-5D79-447C-BC6E-796A8504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C24-031B-4280-BFBC-2BBB4E78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74B-20DF-4EE8-90DA-23CD5DF4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8CB-7F7D-4A67-834E-06F0D23B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BC8-B50A-4B88-A086-7AA70E9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926-F34B-44B3-800E-B1C5E98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B36-2C6F-44CF-A6A4-C1613AFE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64B-158B-4D65-947E-DCB5E552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E60-1570-48A1-8856-25E5943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85E-5CB8-41B6-A158-73DB4BE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B12A-869E-4195-AA76-349E2019D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Documents and Settings\Oksana\Мои документы\Мои статьи и общие документы\Школа№8\КАРТИНКИ И ФОНЫ ДЛЯ ПРЕЗЕНТАЦИЙ\Разное\413414-4a7054b9a7c7a9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26"/>
          <p:cNvSpPr/>
          <p:nvPr/>
        </p:nvSpPr>
        <p:spPr>
          <a:xfrm>
            <a:off x="490680" y="919080"/>
            <a:ext cx="8055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04.16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059280" y="9079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роцесс 1"/>
          <p:cNvSpPr/>
          <p:nvPr/>
        </p:nvSpPr>
        <p:spPr>
          <a:xfrm>
            <a:off x="755640" y="4508640"/>
            <a:ext cx="1440000" cy="1152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2"/>
          <p:cNvSpPr/>
          <p:nvPr/>
        </p:nvSpPr>
        <p:spPr>
          <a:xfrm>
            <a:off x="2340000" y="4508640"/>
            <a:ext cx="1441440" cy="11523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 rot="10800000">
            <a:off x="3779640" y="4508640"/>
            <a:ext cx="1152360" cy="1125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Трапеция 9"/>
          <p:cNvSpPr/>
          <p:nvPr/>
        </p:nvSpPr>
        <p:spPr>
          <a:xfrm>
            <a:off x="5940360" y="4581360"/>
            <a:ext cx="1584360" cy="1008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638175" h="352425">
                <a:moveTo>
                  <a:pt x="0" y="352425"/>
                </a:moveTo>
                <a:lnTo>
                  <a:pt x="88106" y="0"/>
                </a:lnTo>
                <a:lnTo>
                  <a:pt x="550069" y="0"/>
                </a:lnTo>
                <a:lnTo>
                  <a:pt x="638175" y="352425"/>
                </a:lnTo>
                <a:lnTo>
                  <a:pt x="0" y="35242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43f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4"/>
          <p:cNvSpPr/>
          <p:nvPr/>
        </p:nvSpPr>
        <p:spPr>
          <a:xfrm>
            <a:off x="1476360" y="4508640"/>
            <a:ext cx="71928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ирог 25"/>
          <p:cNvSpPr/>
          <p:nvPr/>
        </p:nvSpPr>
        <p:spPr>
          <a:xfrm>
            <a:off x="3780000" y="4508640"/>
            <a:ext cx="1152360" cy="11523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33400" h="476250">
                <a:moveTo>
                  <a:pt x="533400" y="238125"/>
                </a:moveTo>
                <a:cubicBezTo>
                  <a:pt x="533400" y="369638"/>
                  <a:pt x="413994" y="476250"/>
                  <a:pt x="266700" y="476250"/>
                </a:cubicBezTo>
                <a:cubicBezTo>
                  <a:pt x="119406" y="476250"/>
                  <a:pt x="0" y="369638"/>
                  <a:pt x="0" y="238125"/>
                </a:cubicBezTo>
                <a:cubicBezTo>
                  <a:pt x="0" y="106612"/>
                  <a:pt x="119406" y="0"/>
                  <a:pt x="266700" y="0"/>
                </a:cubicBezTo>
                <a:lnTo>
                  <a:pt x="266700" y="238125"/>
                </a:lnTo>
                <a:lnTo>
                  <a:pt x="533400" y="2381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243f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данные 27"/>
          <p:cNvSpPr/>
          <p:nvPr/>
        </p:nvSpPr>
        <p:spPr>
          <a:xfrm>
            <a:off x="5219640" y="4581360"/>
            <a:ext cx="1108080" cy="1006560"/>
          </a:xfrm>
          <a:prstGeom prst="flowChartInputOutput">
            <a:avLst/>
          </a:prstGeom>
          <a:solidFill>
            <a:srgbClr val="1f497d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8"/>
          <p:cNvSpPr/>
          <p:nvPr/>
        </p:nvSpPr>
        <p:spPr>
          <a:xfrm>
            <a:off x="6084720" y="4581360"/>
            <a:ext cx="358920" cy="1008360"/>
          </a:xfrm>
          <a:prstGeom prst="rect">
            <a:avLst/>
          </a:prstGeom>
          <a:solidFill>
            <a:srgbClr val="1f497d"/>
          </a:solidFill>
          <a:ln w="25560">
            <a:solidFill>
              <a:srgbClr val="243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755640" y="1844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1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центы перевести в десятичную дроб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робь перевести в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ючевые задачи на проце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% фигуры закраш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5229360"/>
          <a:ext cx="2077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2" descr="D:\материалы к урокам\Я УЧУСЬ\ШАБЛОН ДЛЯ ПРЕЗЕНТАЦИИ\готовые шаблоны\Шаблон Школьная страна\мальчик для триггера.png"/>
          <p:cNvPicPr/>
          <p:nvPr/>
        </p:nvPicPr>
        <p:blipFill>
          <a:blip r:embed="rId2"/>
          <a:stretch/>
        </p:blipFill>
        <p:spPr>
          <a:xfrm>
            <a:off x="6732720" y="249228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200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635280" y="189000"/>
            <a:ext cx="2687760" cy="328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889440" cy="296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4"/>
          <p:cNvPicPr/>
          <p:nvPr/>
        </p:nvPicPr>
        <p:blipFill>
          <a:blip r:embed="rId4"/>
          <a:stretch/>
        </p:blipFill>
        <p:spPr>
          <a:xfrm>
            <a:off x="468360" y="2060640"/>
            <a:ext cx="3003480" cy="37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x_CGqcB-ie0"/>
          <p:cNvPicPr/>
          <p:nvPr/>
        </p:nvPicPr>
        <p:blipFill>
          <a:blip r:embed="rId5"/>
          <a:stretch/>
        </p:blipFill>
        <p:spPr>
          <a:xfrm>
            <a:off x="6588000" y="1268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684360" y="333360"/>
          <a:ext cx="7991280" cy="566892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5668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 к постер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остер должен представлять тему, выбранную учащимся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отражать или иллюстрировать анализ использования статистической информации для решения проблем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, использованные в постере, могут быть собраны самими учащимися или взяты из опубликованных ранее источников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оценки постер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- актуальность материал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- практическая напрвленность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- оригинальность материал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121212"/>
                          </a:solidFill>
                          <a:latin typeface="Times New Roman"/>
                          <a:ea typeface="Times New Roman"/>
                        </a:rPr>
                        <a:t>- качество художественного и графического оформл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3"/>
          <p:cNvSpPr/>
          <p:nvPr/>
        </p:nvSpPr>
        <p:spPr>
          <a:xfrm>
            <a:off x="3123000" y="-137880"/>
            <a:ext cx="28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естандартный подход к изготовлению;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55640" y="765000"/>
          <a:ext cx="6769080" cy="294336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29433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ашнее зада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§ 37 стр.257-258 № 1112, 111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ый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мать дизайн постера, принести все необходимое для его изготовления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11:59:27Z</dcterms:created>
  <dc:creator>Lenovo</dc:creator>
  <dc:description/>
  <dc:language>en-US</dc:language>
  <cp:lastModifiedBy>Lenovo</cp:lastModifiedBy>
  <dcterms:modified xsi:type="dcterms:W3CDTF">2016-12-01T09:57:52Z</dcterms:modified>
  <cp:revision>4</cp:revision>
  <dc:subject/>
  <dc:title>Слайд 1</dc:title>
</cp:coreProperties>
</file>