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98A5-226B-4756-8461-2811E59E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067E-25F4-4175-8940-24DCD7F1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0C5D-699C-4B4D-AFB8-5B012145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AFC-36AC-4C8E-B943-663C247A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BD07-3701-4705-BFD3-28E4777D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AFB-8B68-4DEE-A6A6-60F9229D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1F1-BA1B-41B4-B87B-6BD4B6FE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2D1-921C-444B-A249-EADAFEDB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2B8F-E9FB-4343-A47F-D3C08671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E41-5344-499D-8944-1A0A86D6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C133-37B5-4F25-A8E6-4E29D768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790C-2102-49E1-A6DE-7150428C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EF50-BC77-4E6D-AEB5-6B675BDDF6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с двумя скругленными противолежащими углами 6"/>
          <p:cNvGrpSpPr/>
          <p:nvPr/>
        </p:nvGrpSpPr>
        <p:grpSpPr>
          <a:xfrm>
            <a:off x="60480" y="73080"/>
            <a:ext cx="8950320" cy="6735600"/>
            <a:chOff x="60480" y="73080"/>
            <a:chExt cx="8950320" cy="6735600"/>
          </a:xfrm>
        </p:grpSpPr>
        <p:pic>
          <p:nvPicPr>
            <p:cNvPr id="6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60480" y="73080"/>
              <a:ext cx="8950320" cy="67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528480" y="528480"/>
              <a:ext cx="801540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Рисунок 7" descr="а.png"/>
          <p:cNvPicPr/>
          <p:nvPr/>
        </p:nvPicPr>
        <p:blipFill>
          <a:blip r:embed="rId3"/>
          <a:stretch/>
        </p:blipFill>
        <p:spPr>
          <a:xfrm>
            <a:off x="0" y="5500800"/>
            <a:ext cx="1062000" cy="150012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8" descr="О.png"/>
          <p:cNvPicPr/>
          <p:nvPr/>
        </p:nvPicPr>
        <p:blipFill>
          <a:blip r:embed="rId4"/>
          <a:stretch/>
        </p:blipFill>
        <p:spPr>
          <a:xfrm>
            <a:off x="8075520" y="-142920"/>
            <a:ext cx="1068480" cy="150984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9" descr="147217_html_14a4941f.gif"/>
          <p:cNvPicPr/>
          <p:nvPr/>
        </p:nvPicPr>
        <p:blipFill>
          <a:blip r:embed="rId5"/>
          <a:stretch/>
        </p:blipFill>
        <p:spPr>
          <a:xfrm>
            <a:off x="0" y="0"/>
            <a:ext cx="1214280" cy="116676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0" descr="13b14e4s-960.jpg"/>
          <p:cNvPicPr/>
          <p:nvPr/>
        </p:nvPicPr>
        <p:blipFill>
          <a:blip r:embed="rId6"/>
          <a:stretch/>
        </p:blipFill>
        <p:spPr>
          <a:xfrm rot="6088200">
            <a:off x="7546680" y="5505480"/>
            <a:ext cx="1629000" cy="126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5e21"/>
                </a:solidFill>
                <a:latin typeface="Times New Roman"/>
                <a:ea typeface="Times New Roman"/>
              </a:rPr>
              <a:t>Проверочная работа</a:t>
            </a:r>
            <a:br>
              <a:rPr sz="4400"/>
            </a:b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склонять словосочет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вариа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хш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ая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а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пящ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й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вариа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щ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й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стё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шенн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я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а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йте вывод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роли причастий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овосочетании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ём итог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астный оборо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роль играют причастия в словосочетания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ычно встречаются причасти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тной или письменной реч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его они необходим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Д/З: п.14 (с.37), упр.85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42472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NSimSun"/>
              </a:rPr>
              <a:t>Седьмое октябр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NSimSun"/>
              </a:rPr>
              <a:t>Классная работа</a:t>
            </a: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Monotype Corsiva"/>
                <a:ea typeface="NSimSun"/>
              </a:rPr>
              <a:t>Знаки препинания при причастном оборо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025e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5e21"/>
                </a:solidFill>
                <a:latin typeface="Monotype Corsiva"/>
              </a:rPr>
              <a:t>Уметь выделять запятыми причастный оборот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025e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5e21"/>
                </a:solidFill>
                <a:latin typeface="Monotype Corsiva"/>
              </a:rPr>
              <a:t>Выразительно читать предложения с причастными оборотами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025e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5e21"/>
                </a:solidFill>
                <a:latin typeface="Monotype Corsiva"/>
              </a:rPr>
              <a:t>Закрепление знаний о причастном обороте, его роли в предложен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ль причастий в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25e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5e21"/>
                </a:solidFill>
                <a:latin typeface="Times New Roman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25e21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25e21"/>
                </a:solidFill>
                <a:latin typeface="Times New Roman"/>
                <a:ea typeface="Times New Roman"/>
              </a:rPr>
              <a:t>устной реч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астия встречаются редко.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 письменной реч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астия необходимы дл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фоса, торжественности, кратк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С.Пушкин писал об этом так Причастия обычно избегаются в разговоре   Мы заменяем их вялыми оборот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ставьте ЗП, объясните с помощью схемы постановку З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ль причастий в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тной речи причастия встречаются редко. В письменной речи причастия необходимы для пафоса, торжественности, кратк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С.Пушкин писал об этом так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астия обычно избегаются в разговоре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заменяем их вялыми оборотами.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: «П.П.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ричастный оборот (ПО)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или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одиночное причастие (ОП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5e21"/>
                </a:solidFill>
                <a:latin typeface="Monotype Corsiva"/>
              </a:rPr>
              <a:t>               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Как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25e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5e21"/>
                </a:solidFill>
                <a:latin typeface="Monotype Corsiva"/>
              </a:rPr>
              <a:t>Проснувшееся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дитя   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О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5e21"/>
                </a:solidFill>
                <a:latin typeface="Monotype Corsiva"/>
              </a:rPr>
              <a:t>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ог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ПО </a:t>
            </a:r>
            <a:r>
              <a:rPr b="1" lang="ru-RU" sz="4400" spc="-1" strike="noStrike">
                <a:solidFill>
                  <a:srgbClr val="025e21"/>
                </a:solidFill>
                <a:latin typeface="Monotype Corsiva"/>
              </a:rPr>
              <a:t>     Рано проснувшееся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дит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Выгнутая вверх стрелка 3"/>
          <p:cNvSpPr/>
          <p:nvPr/>
        </p:nvSpPr>
        <p:spPr>
          <a:xfrm flipH="1">
            <a:off x="1475640" y="1557360"/>
            <a:ext cx="2808360" cy="1008000"/>
          </a:xfrm>
          <a:custGeom>
            <a:avLst/>
            <a:gdLst>
              <a:gd name="textAreaLeft" fmla="*/ 607320 w 2808360"/>
              <a:gd name="textAreaRight" fmla="*/ 2075040 w 280836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46" hR="21600" stAng="10800000" swAng="5400000"/>
                <a:lnTo>
                  <a:pt x="11285" y="0"/>
                </a:lnTo>
                <a:arcTo wR="9346" hR="21600" stAng="-5400000" swAng="3550437"/>
                <a:lnTo>
                  <a:pt x="21303" y="16200"/>
                </a:lnTo>
                <a:lnTo>
                  <a:pt x="19662" y="21600"/>
                </a:lnTo>
                <a:lnTo>
                  <a:pt x="17426" y="16200"/>
                </a:lnTo>
                <a:lnTo>
                  <a:pt x="18395" y="16200"/>
                </a:lnTo>
                <a:arcTo wR="9346" hR="21600" stAng="-1849563" swAng="-3395404"/>
                <a:lnTo>
                  <a:pt x="10316" y="117"/>
                </a:lnTo>
                <a:arcTo wR="9346" hR="21600" stAng="-5555032" swAng="-5244968"/>
                <a:close/>
              </a:path>
              <a:path fill="darkenLess" w="21600" h="21600">
                <a:moveTo>
                  <a:pt x="0" y="21600"/>
                </a:moveTo>
                <a:arcTo wR="9346" hR="21600" stAng="10800000" swAng="5400000"/>
                <a:lnTo>
                  <a:pt x="9346" y="0"/>
                </a:lnTo>
                <a:arcTo wR="9346" hR="21600" stAng="-5400000" swAng="155032"/>
                <a:lnTo>
                  <a:pt x="10316" y="117"/>
                </a:lnTo>
                <a:arcTo wR="9346" hR="21600" stAng="-5555032" swAng="-524496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Выгнутая вверх стрелка 4"/>
          <p:cNvSpPr/>
          <p:nvPr/>
        </p:nvSpPr>
        <p:spPr>
          <a:xfrm flipH="1">
            <a:off x="3492360" y="3141720"/>
            <a:ext cx="3456000" cy="1008000"/>
          </a:xfrm>
          <a:custGeom>
            <a:avLst/>
            <a:gdLst>
              <a:gd name="textAreaLeft" fmla="*/ 769320 w 3456000"/>
              <a:gd name="textAreaRight" fmla="*/ 2560680 w 345600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19" hR="21600" stAng="10800000" swAng="5400000"/>
                <a:lnTo>
                  <a:pt x="11195" y="0"/>
                </a:lnTo>
                <a:arcTo wR="9619" hR="21600" stAng="-5400000" swAng="3593613"/>
                <a:lnTo>
                  <a:pt x="21295" y="16200"/>
                </a:lnTo>
                <a:lnTo>
                  <a:pt x="20025" y="21600"/>
                </a:lnTo>
                <a:lnTo>
                  <a:pt x="18145" y="16200"/>
                </a:lnTo>
                <a:lnTo>
                  <a:pt x="18932" y="16200"/>
                </a:lnTo>
                <a:arcTo wR="9619" hR="21600" stAng="-1806387" swAng="-3467832"/>
                <a:lnTo>
                  <a:pt x="10407" y="73"/>
                </a:lnTo>
                <a:arcTo wR="9619" hR="21600" stAng="-5525781" swAng="-5274219"/>
                <a:close/>
              </a:path>
              <a:path fill="darkenLess" w="21600" h="21600">
                <a:moveTo>
                  <a:pt x="0" y="21600"/>
                </a:moveTo>
                <a:arcTo wR="9619" hR="21600" stAng="10800000" swAng="5400000"/>
                <a:lnTo>
                  <a:pt x="9619" y="0"/>
                </a:lnTo>
                <a:arcTo wR="9619" hR="21600" stAng="-5400000" swAng="125781"/>
                <a:lnTo>
                  <a:pt x="10407" y="73"/>
                </a:lnTo>
                <a:arcTo wR="9619" hR="21600" stAng="-5525781" swAng="-527421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Закрепление</a:t>
            </a: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Monotype Corsiva"/>
              </a:rPr>
              <a:t>Написанная карт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47640"/>
            <a:ext cx="824256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наки препинания при причастном оборо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Учебник, с.38. (пунктограмма  №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 данным причастным оборотам подберите определяемые слова и составьте предложения.  Прочитайте их, соблюдая правильную интон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1001"/>
              </a:spcBef>
              <a:buClr>
                <a:srgbClr val="025e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5e21"/>
                </a:solidFill>
                <a:latin typeface="Monotype Corsiva"/>
              </a:rPr>
              <a:t>Решённая учеником (1в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Monotype Corsiva"/>
              </a:rPr>
              <a:t>Сбегавшие с гор (2в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1001"/>
              </a:spcBef>
              <a:buClr>
                <a:srgbClr val="025e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5e21"/>
                </a:solidFill>
                <a:latin typeface="Monotype Corsiva"/>
              </a:rPr>
              <a:t>Усыпанные разноцветными листья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Monotype Corsiva"/>
              </a:rPr>
              <a:t>Много раз протоптанная туристам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Monotype Corsiva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Monotype Corsiva"/>
              </a:rPr>
              <a:t>   </a:t>
            </a:r>
            <a:r>
              <a:rPr b="1" lang="ru-RU" sz="4000" spc="-1" strike="noStrike">
                <a:solidFill>
                  <a:srgbClr val="0033cc"/>
                </a:solidFill>
                <a:latin typeface="Monotype Corsiva"/>
              </a:rPr>
              <a:t>1.            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,</a:t>
            </a:r>
            <a:r>
              <a:rPr b="1" lang="ru-RU" sz="4000" spc="-1" strike="noStrike">
                <a:solidFill>
                  <a:srgbClr val="0033cc"/>
                </a:solidFill>
                <a:latin typeface="Monotype Corsiva"/>
              </a:rPr>
              <a:t> ПО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, </a:t>
            </a:r>
            <a:r>
              <a:rPr b="1" lang="ru-RU" sz="4000" spc="-1" strike="noStrike">
                <a:solidFill>
                  <a:srgbClr val="0033cc"/>
                </a:solidFill>
                <a:latin typeface="Monotype Corsiva"/>
              </a:rPr>
              <a:t>…  .    2. ПО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кругленный прямоугольник 3"/>
          <p:cNvSpPr/>
          <p:nvPr/>
        </p:nvSpPr>
        <p:spPr>
          <a:xfrm>
            <a:off x="1547640" y="5373720"/>
            <a:ext cx="720720" cy="482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4"/>
          <p:cNvSpPr/>
          <p:nvPr/>
        </p:nvSpPr>
        <p:spPr>
          <a:xfrm>
            <a:off x="6300720" y="5300640"/>
            <a:ext cx="625680" cy="482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множение 5"/>
          <p:cNvSpPr/>
          <p:nvPr/>
        </p:nvSpPr>
        <p:spPr>
          <a:xfrm>
            <a:off x="6443640" y="5373720"/>
            <a:ext cx="360360" cy="358920"/>
          </a:xfrm>
          <a:custGeom>
            <a:avLst/>
            <a:gdLst>
              <a:gd name="textAreaLeft" fmla="*/ 56520 w 360360"/>
              <a:gd name="textAreaRight" fmla="*/ 303840 w 360360"/>
              <a:gd name="textAreaTop" fmla="*/ 56160 h 358920"/>
              <a:gd name="textAreaBottom" fmla="*/ 302760 h 358920"/>
            </a:gdLst>
            <a:ahLst/>
            <a:rect l="textAreaLeft" t="textAreaTop" r="textAreaRight" b="textAreaBottom"/>
            <a:pathLst>
              <a:path w="360040" h="360040">
                <a:moveTo>
                  <a:pt x="56533" y="116412"/>
                </a:moveTo>
                <a:lnTo>
                  <a:pt x="116412" y="56533"/>
                </a:lnTo>
                <a:lnTo>
                  <a:pt x="180020" y="120141"/>
                </a:lnTo>
                <a:lnTo>
                  <a:pt x="243628" y="56533"/>
                </a:lnTo>
                <a:lnTo>
                  <a:pt x="303507" y="116412"/>
                </a:lnTo>
                <a:lnTo>
                  <a:pt x="239899" y="180020"/>
                </a:lnTo>
                <a:lnTo>
                  <a:pt x="303507" y="243628"/>
                </a:lnTo>
                <a:lnTo>
                  <a:pt x="243628" y="303507"/>
                </a:lnTo>
                <a:lnTo>
                  <a:pt x="180020" y="239899"/>
                </a:lnTo>
                <a:lnTo>
                  <a:pt x="116412" y="303507"/>
                </a:lnTo>
                <a:lnTo>
                  <a:pt x="56533" y="243628"/>
                </a:lnTo>
                <a:lnTo>
                  <a:pt x="120141" y="18002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множение 6"/>
          <p:cNvSpPr/>
          <p:nvPr/>
        </p:nvSpPr>
        <p:spPr>
          <a:xfrm>
            <a:off x="1763640" y="5445000"/>
            <a:ext cx="287280" cy="360360"/>
          </a:xfrm>
          <a:custGeom>
            <a:avLst/>
            <a:gdLst>
              <a:gd name="textAreaLeft" fmla="*/ 42480 w 287280"/>
              <a:gd name="textAreaRight" fmla="*/ 244800 w 287280"/>
              <a:gd name="textAreaTop" fmla="*/ 65160 h 360360"/>
              <a:gd name="textAreaBottom" fmla="*/ 295200 h 360360"/>
            </a:gdLst>
            <a:ahLst/>
            <a:rect l="textAreaLeft" t="textAreaTop" r="textAreaRight" b="textAreaBottom"/>
            <a:pathLst>
              <a:path w="288032" h="360040">
                <a:moveTo>
                  <a:pt x="42728" y="107633"/>
                </a:moveTo>
                <a:lnTo>
                  <a:pt x="95628" y="65313"/>
                </a:lnTo>
                <a:lnTo>
                  <a:pt x="144016" y="125797"/>
                </a:lnTo>
                <a:lnTo>
                  <a:pt x="192404" y="65313"/>
                </a:lnTo>
                <a:lnTo>
                  <a:pt x="245304" y="107633"/>
                </a:lnTo>
                <a:lnTo>
                  <a:pt x="187394" y="180020"/>
                </a:lnTo>
                <a:lnTo>
                  <a:pt x="245304" y="252407"/>
                </a:lnTo>
                <a:lnTo>
                  <a:pt x="192404" y="294727"/>
                </a:lnTo>
                <a:lnTo>
                  <a:pt x="144016" y="234243"/>
                </a:lnTo>
                <a:lnTo>
                  <a:pt x="95628" y="294727"/>
                </a:lnTo>
                <a:lnTo>
                  <a:pt x="42728" y="252407"/>
                </a:lnTo>
                <a:lnTo>
                  <a:pt x="100638" y="18002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Monotype Corsiva"/>
              </a:rPr>
              <a:t>Второе октября</a:t>
            </a:r>
            <a:br>
              <a:rPr sz="6000"/>
            </a:br>
            <a:r>
              <a:rPr b="1" lang="ru-RU" sz="6000" spc="-1" strike="noStrike">
                <a:solidFill>
                  <a:srgbClr val="0033cc"/>
                </a:solidFill>
                <a:latin typeface="Monotype Corsiva"/>
              </a:rPr>
              <a:t>Классная работа</a:t>
            </a:r>
            <a:br>
              <a:rPr sz="6000"/>
            </a:br>
            <a:r>
              <a:rPr b="1" lang="ru-RU" sz="6000" spc="-1" strike="noStrike">
                <a:solidFill>
                  <a:srgbClr val="7030a0"/>
                </a:solidFill>
                <a:latin typeface="Monotype Corsiva"/>
              </a:rPr>
              <a:t>Причастный оборо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Подумай!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читель вызвал к доске двух учеников и дал им задание.  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Одинаковые ли по трудности зада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1 ученику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из предложений выписать причастный обор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2 ученику – из предложений  выписать причастие с зависимыми слов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интаксический разбор предложен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25e21"/>
                </a:solidFill>
                <a:latin typeface="Monotype Corsiva"/>
              </a:rPr>
              <a:t>Слова, имеющие несколько значений, называются многозначны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Monotype Corsiva"/>
              </a:rPr>
              <a:t>Упр. 91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йти ошибки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писать предложения, поставив П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до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после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пределяемого слова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 подчеркните как член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овтори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25e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5e21"/>
                </a:solidFill>
                <a:latin typeface="Monotype Corsiva"/>
              </a:rPr>
              <a:t>Что такое причастный оборо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Когда причастный оборот выделяется запят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аким членом предложения является П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Д/З: Правило, с. 85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Упр. 89, ПО подчеркнуть как ЧП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ствова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ритьс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т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3280" y="1268280"/>
            <a:ext cx="3683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ь от глаголов причастия по образцу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тица, которая летит –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тящая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т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лянд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к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словосочет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ич. + сущ.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анными слов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4-конечная звезда 4"/>
          <p:cNvSpPr/>
          <p:nvPr/>
        </p:nvSpPr>
        <p:spPr>
          <a:xfrm>
            <a:off x="7020000" y="3141720"/>
            <a:ext cx="43164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Выгнутая вверх стрелка 5"/>
          <p:cNvSpPr/>
          <p:nvPr/>
        </p:nvSpPr>
        <p:spPr>
          <a:xfrm flipH="1">
            <a:off x="5364000" y="2924280"/>
            <a:ext cx="1440000" cy="731880"/>
          </a:xfrm>
          <a:custGeom>
            <a:avLst/>
            <a:gdLst>
              <a:gd name="textAreaLeft" fmla="*/ 291240 w 1440000"/>
              <a:gd name="textAreaRight" fmla="*/ 1057320 w 144000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42" hR="21600" stAng="10800000" swAng="5400000"/>
                <a:lnTo>
                  <a:pt x="11487" y="0"/>
                </a:lnTo>
                <a:arcTo wR="8742" hR="21600" stAng="-5400000" swAng="3447722"/>
                <a:lnTo>
                  <a:pt x="21322" y="16200"/>
                </a:lnTo>
                <a:lnTo>
                  <a:pt x="18856" y="21600"/>
                </a:lnTo>
                <a:lnTo>
                  <a:pt x="15833" y="16200"/>
                </a:lnTo>
                <a:lnTo>
                  <a:pt x="17205" y="16200"/>
                </a:lnTo>
                <a:arcTo wR="8742" hR="21600" stAng="-1952278" swAng="-3226843"/>
                <a:lnTo>
                  <a:pt x="10114" y="268"/>
                </a:lnTo>
                <a:arcTo wR="8742" hR="21600" stAng="-5620879" swAng="-5179121"/>
                <a:close/>
              </a:path>
              <a:path fill="darkenLess" w="21600" h="21600">
                <a:moveTo>
                  <a:pt x="0" y="21600"/>
                </a:moveTo>
                <a:arcTo wR="8742" hR="21600" stAng="10800000" swAng="5400000"/>
                <a:lnTo>
                  <a:pt x="8742" y="0"/>
                </a:lnTo>
                <a:arcTo wR="8742" hR="21600" stAng="-5400000" swAng="220879"/>
                <a:lnTo>
                  <a:pt x="10114" y="268"/>
                </a:lnTo>
                <a:arcTo wR="8742" hR="21600" stAng="-5620879" swAng="-517912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ст-опрос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учи 5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обозначают причаст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кие бывают причаст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аким членом предложения обычно бывают  причаст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ак склоняются причаст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Найди четвёртый лиш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темневший, намокши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епчущий, звон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у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 какие вопросы отвечают причаст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к изменяются причаст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аким членом предложения причастия бывают редк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 проверить окончания причасти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Найди четвёртый лиш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e21"/>
                </a:solidFill>
                <a:latin typeface="Times New Roman"/>
                <a:ea typeface="Times New Roman"/>
              </a:rPr>
              <a:t>Белеющий, притихший,  шумный, шумящ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у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ъяснение новой т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по учебнику, с.3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вшие лист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че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вшие с топ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Умножение 3"/>
          <p:cNvSpPr/>
          <p:nvPr/>
        </p:nvSpPr>
        <p:spPr>
          <a:xfrm>
            <a:off x="5867280" y="2708280"/>
            <a:ext cx="433440" cy="504720"/>
          </a:xfrm>
          <a:custGeom>
            <a:avLst/>
            <a:gdLst>
              <a:gd name="textAreaLeft" fmla="*/ 65160 w 433440"/>
              <a:gd name="textAreaRight" fmla="*/ 368280 w 433440"/>
              <a:gd name="textAreaTop" fmla="*/ 87840 h 504720"/>
              <a:gd name="textAreaBottom" fmla="*/ 416880 h 504720"/>
            </a:gdLst>
            <a:ahLst/>
            <a:rect l="textAreaLeft" t="textAreaTop" r="textAreaRight" b="textAreaBottom"/>
            <a:pathLst>
              <a:path w="433388" h="504825">
                <a:moveTo>
                  <a:pt x="65418" y="154445"/>
                </a:moveTo>
                <a:lnTo>
                  <a:pt x="142760" y="88048"/>
                </a:lnTo>
                <a:lnTo>
                  <a:pt x="216694" y="174169"/>
                </a:lnTo>
                <a:lnTo>
                  <a:pt x="290628" y="88048"/>
                </a:lnTo>
                <a:lnTo>
                  <a:pt x="367970" y="154445"/>
                </a:lnTo>
                <a:lnTo>
                  <a:pt x="283866" y="252413"/>
                </a:lnTo>
                <a:lnTo>
                  <a:pt x="367970" y="350380"/>
                </a:lnTo>
                <a:lnTo>
                  <a:pt x="290628" y="416777"/>
                </a:lnTo>
                <a:lnTo>
                  <a:pt x="216694" y="330656"/>
                </a:lnTo>
                <a:lnTo>
                  <a:pt x="142760" y="416777"/>
                </a:lnTo>
                <a:lnTo>
                  <a:pt x="65418" y="350380"/>
                </a:lnTo>
                <a:lnTo>
                  <a:pt x="149522" y="2524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Умножение 4"/>
          <p:cNvSpPr/>
          <p:nvPr/>
        </p:nvSpPr>
        <p:spPr>
          <a:xfrm>
            <a:off x="2843280" y="4869000"/>
            <a:ext cx="433440" cy="431640"/>
          </a:xfrm>
          <a:custGeom>
            <a:avLst/>
            <a:gdLst>
              <a:gd name="textAreaLeft" fmla="*/ 68040 w 433440"/>
              <a:gd name="textAreaRight" fmla="*/ 365400 w 433440"/>
              <a:gd name="textAreaTop" fmla="*/ 67680 h 431640"/>
              <a:gd name="textAreaBottom" fmla="*/ 363960 h 431640"/>
            </a:gdLst>
            <a:ahLst/>
            <a:rect l="textAreaLeft" t="textAreaTop" r="textAreaRight" b="textAreaBottom"/>
            <a:pathLst>
              <a:path w="433387" h="431800">
                <a:moveTo>
                  <a:pt x="68248" y="139680"/>
                </a:moveTo>
                <a:lnTo>
                  <a:pt x="139929" y="67735"/>
                </a:lnTo>
                <a:lnTo>
                  <a:pt x="216694" y="144218"/>
                </a:lnTo>
                <a:lnTo>
                  <a:pt x="293458" y="67735"/>
                </a:lnTo>
                <a:lnTo>
                  <a:pt x="365139" y="139680"/>
                </a:lnTo>
                <a:lnTo>
                  <a:pt x="288639" y="215900"/>
                </a:lnTo>
                <a:lnTo>
                  <a:pt x="365139" y="292120"/>
                </a:lnTo>
                <a:lnTo>
                  <a:pt x="293458" y="364065"/>
                </a:lnTo>
                <a:lnTo>
                  <a:pt x="216694" y="287582"/>
                </a:lnTo>
                <a:lnTo>
                  <a:pt x="139929" y="364065"/>
                </a:lnTo>
                <a:lnTo>
                  <a:pt x="68248" y="292120"/>
                </a:lnTo>
                <a:lnTo>
                  <a:pt x="144748" y="2159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Круговая стрелка 5"/>
          <p:cNvSpPr/>
          <p:nvPr/>
        </p:nvSpPr>
        <p:spPr>
          <a:xfrm>
            <a:off x="3851280" y="4508640"/>
            <a:ext cx="1944720" cy="1555560"/>
          </a:xfrm>
          <a:custGeom>
            <a:avLst/>
            <a:gdLst>
              <a:gd name="textAreaLeft" fmla="*/ 353520 w 1944720"/>
              <a:gd name="textAreaRight" fmla="*/ 1591200 w 1944720"/>
              <a:gd name="textAreaTop" fmla="*/ 296280 h 1555560"/>
              <a:gd name="textAreaBottom" fmla="*/ 1259280 h 1555560"/>
            </a:gdLst>
            <a:ahLst/>
            <a:rect l="textAreaLeft" t="textAreaTop" r="textAreaRight" b="textAreaBottom"/>
            <a:pathLst>
              <a:path w="1944688" h="1555750">
                <a:moveTo>
                  <a:pt x="97234" y="777874"/>
                </a:moveTo>
                <a:lnTo>
                  <a:pt x="97234" y="777874"/>
                </a:lnTo>
                <a:arcTo wR="875110" hR="680641" stAng="-10799996" swAng="9802874"/>
                <a:lnTo>
                  <a:pt x="1873476" y="534020"/>
                </a:lnTo>
                <a:lnTo>
                  <a:pt x="1750219" y="777877"/>
                </a:lnTo>
                <a:lnTo>
                  <a:pt x="1484539" y="534019"/>
                </a:lnTo>
                <a:lnTo>
                  <a:pt x="1561172" y="534019"/>
                </a:lnTo>
                <a:lnTo>
                  <a:pt x="1561172" y="534019"/>
                </a:lnTo>
                <a:arcTo wR="680641" hR="486172" stAng="-1349769" swAng="-945022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Круговая стрелка 6"/>
          <p:cNvSpPr/>
          <p:nvPr/>
        </p:nvSpPr>
        <p:spPr>
          <a:xfrm flipH="1">
            <a:off x="3924360" y="2349360"/>
            <a:ext cx="1727280" cy="1440000"/>
          </a:xfrm>
          <a:custGeom>
            <a:avLst/>
            <a:gdLst>
              <a:gd name="textAreaLeft" fmla="*/ 316440 w 1727280"/>
              <a:gd name="textAreaRight" fmla="*/ 1410840 w 1727280"/>
              <a:gd name="textAreaTop" fmla="*/ 274320 h 1440000"/>
              <a:gd name="textAreaBottom" fmla="*/ 1165680 h 1440000"/>
            </a:gdLst>
            <a:ahLst/>
            <a:rect l="textAreaLeft" t="textAreaTop" r="textAreaRight" b="textAreaBottom"/>
            <a:pathLst>
              <a:path w="1727200" h="1439863">
                <a:moveTo>
                  <a:pt x="89991" y="719931"/>
                </a:moveTo>
                <a:lnTo>
                  <a:pt x="89991" y="719931"/>
                </a:lnTo>
                <a:arcTo wR="773609" hR="629940" stAng="-10799996" swAng="9805945"/>
                <a:lnTo>
                  <a:pt x="1670022" y="503760"/>
                </a:lnTo>
                <a:lnTo>
                  <a:pt x="1547217" y="719933"/>
                </a:lnTo>
                <a:lnTo>
                  <a:pt x="1310056" y="503759"/>
                </a:lnTo>
                <a:lnTo>
                  <a:pt x="1384230" y="503760"/>
                </a:lnTo>
                <a:lnTo>
                  <a:pt x="1384230" y="503760"/>
                </a:lnTo>
                <a:arcTo wR="593626" hR="449957" stAng="-1352922" swAng="-944707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50560" y="476280"/>
            <a:ext cx="8497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авшие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шуршали под ног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частный обор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Опавшие с топол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покрывали дорож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Листья,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авшие с топол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крывали дорожку. 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частный обор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Умножение 3"/>
          <p:cNvSpPr/>
          <p:nvPr/>
        </p:nvSpPr>
        <p:spPr>
          <a:xfrm>
            <a:off x="3132000" y="907920"/>
            <a:ext cx="360360" cy="433440"/>
          </a:xfrm>
          <a:custGeom>
            <a:avLst/>
            <a:gdLst>
              <a:gd name="textAreaLeft" fmla="*/ 54000 w 360360"/>
              <a:gd name="textAreaRight" fmla="*/ 306360 w 360360"/>
              <a:gd name="textAreaTop" fmla="*/ 77040 h 433440"/>
              <a:gd name="textAreaBottom" fmla="*/ 356400 h 433440"/>
            </a:gdLst>
            <a:ahLst/>
            <a:rect l="textAreaLeft" t="textAreaTop" r="textAreaRight" b="textAreaBottom"/>
            <a:pathLst>
              <a:path w="360362" h="433388">
                <a:moveTo>
                  <a:pt x="53964" y="131184"/>
                </a:moveTo>
                <a:lnTo>
                  <a:pt x="119135" y="76994"/>
                </a:lnTo>
                <a:lnTo>
                  <a:pt x="180181" y="150410"/>
                </a:lnTo>
                <a:lnTo>
                  <a:pt x="241227" y="76994"/>
                </a:lnTo>
                <a:lnTo>
                  <a:pt x="306398" y="131184"/>
                </a:lnTo>
                <a:lnTo>
                  <a:pt x="235296" y="216694"/>
                </a:lnTo>
                <a:lnTo>
                  <a:pt x="306398" y="302204"/>
                </a:lnTo>
                <a:lnTo>
                  <a:pt x="241227" y="356394"/>
                </a:lnTo>
                <a:lnTo>
                  <a:pt x="180181" y="282978"/>
                </a:lnTo>
                <a:lnTo>
                  <a:pt x="119135" y="356394"/>
                </a:lnTo>
                <a:lnTo>
                  <a:pt x="53964" y="302204"/>
                </a:lnTo>
                <a:lnTo>
                  <a:pt x="125066" y="21669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Умножение 4"/>
          <p:cNvSpPr/>
          <p:nvPr/>
        </p:nvSpPr>
        <p:spPr>
          <a:xfrm>
            <a:off x="4932360" y="1989000"/>
            <a:ext cx="431640" cy="503280"/>
          </a:xfrm>
          <a:custGeom>
            <a:avLst/>
            <a:gdLst>
              <a:gd name="textAreaLeft" fmla="*/ 65160 w 431640"/>
              <a:gd name="textAreaRight" fmla="*/ 366480 w 431640"/>
              <a:gd name="textAreaTop" fmla="*/ 87840 h 503280"/>
              <a:gd name="textAreaBottom" fmla="*/ 415440 h 503280"/>
            </a:gdLst>
            <a:ahLst/>
            <a:rect l="textAreaLeft" t="textAreaTop" r="textAreaRight" b="textAreaBottom"/>
            <a:pathLst>
              <a:path w="431800" h="503237">
                <a:moveTo>
                  <a:pt x="65170" y="153932"/>
                </a:moveTo>
                <a:lnTo>
                  <a:pt x="142245" y="87798"/>
                </a:lnTo>
                <a:lnTo>
                  <a:pt x="215900" y="173638"/>
                </a:lnTo>
                <a:lnTo>
                  <a:pt x="289555" y="87798"/>
                </a:lnTo>
                <a:lnTo>
                  <a:pt x="366630" y="153932"/>
                </a:lnTo>
                <a:lnTo>
                  <a:pt x="282811" y="251619"/>
                </a:lnTo>
                <a:lnTo>
                  <a:pt x="366630" y="349305"/>
                </a:lnTo>
                <a:lnTo>
                  <a:pt x="289555" y="415439"/>
                </a:lnTo>
                <a:lnTo>
                  <a:pt x="215900" y="329599"/>
                </a:lnTo>
                <a:lnTo>
                  <a:pt x="142245" y="415439"/>
                </a:lnTo>
                <a:lnTo>
                  <a:pt x="65170" y="349305"/>
                </a:lnTo>
                <a:lnTo>
                  <a:pt x="148989" y="251619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Умножение 5"/>
          <p:cNvSpPr/>
          <p:nvPr/>
        </p:nvSpPr>
        <p:spPr>
          <a:xfrm>
            <a:off x="1332000" y="3645000"/>
            <a:ext cx="503280" cy="431640"/>
          </a:xfrm>
          <a:custGeom>
            <a:avLst/>
            <a:gdLst>
              <a:gd name="textAreaLeft" fmla="*/ 87840 w 503280"/>
              <a:gd name="textAreaRight" fmla="*/ 415440 w 503280"/>
              <a:gd name="textAreaTop" fmla="*/ 65160 h 431640"/>
              <a:gd name="textAreaBottom" fmla="*/ 366480 h 431640"/>
            </a:gdLst>
            <a:ahLst/>
            <a:rect l="textAreaLeft" t="textAreaTop" r="textAreaRight" b="textAreaBottom"/>
            <a:pathLst>
              <a:path w="503237" h="431800">
                <a:moveTo>
                  <a:pt x="87798" y="142245"/>
                </a:moveTo>
                <a:lnTo>
                  <a:pt x="153932" y="65170"/>
                </a:lnTo>
                <a:lnTo>
                  <a:pt x="251619" y="148989"/>
                </a:lnTo>
                <a:lnTo>
                  <a:pt x="349305" y="65170"/>
                </a:lnTo>
                <a:lnTo>
                  <a:pt x="415439" y="142245"/>
                </a:lnTo>
                <a:lnTo>
                  <a:pt x="329599" y="215900"/>
                </a:lnTo>
                <a:lnTo>
                  <a:pt x="415439" y="289555"/>
                </a:lnTo>
                <a:lnTo>
                  <a:pt x="349305" y="366630"/>
                </a:lnTo>
                <a:lnTo>
                  <a:pt x="251619" y="282811"/>
                </a:lnTo>
                <a:lnTo>
                  <a:pt x="153932" y="366630"/>
                </a:lnTo>
                <a:lnTo>
                  <a:pt x="87798" y="289555"/>
                </a:lnTo>
                <a:lnTo>
                  <a:pt x="173638" y="2159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Прямая со стрелкой 7"/>
          <p:cNvCxnSpPr/>
          <p:nvPr/>
        </p:nvCxnSpPr>
        <p:spPr>
          <a:xfrm>
            <a:off x="2339640" y="2205000"/>
            <a:ext cx="108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Прямая со стрелкой 10"/>
          <p:cNvCxnSpPr/>
          <p:nvPr/>
        </p:nvCxnSpPr>
        <p:spPr>
          <a:xfrm>
            <a:off x="10476000" y="1989000"/>
            <a:ext cx="9151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Прямая со стрелкой 12"/>
          <p:cNvCxnSpPr/>
          <p:nvPr/>
        </p:nvCxnSpPr>
        <p:spPr>
          <a:xfrm flipV="1">
            <a:off x="3276720" y="4436640"/>
            <a:ext cx="7200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астный обор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05264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аспределите данные словосочет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 две групп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ч. + сущ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ч. + сущ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00720" y="1052640"/>
            <a:ext cx="4186080" cy="5400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янное пол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янное горох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e21"/>
                </a:solidFill>
                <a:latin typeface="Times New Roman"/>
                <a:ea typeface="Times New Roman"/>
              </a:rPr>
              <a:t>освещаемое лампо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e21"/>
                </a:solidFill>
                <a:latin typeface="Times New Roman"/>
                <a:ea typeface="Times New Roman"/>
              </a:rPr>
              <a:t>освещаемый за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лющийся над реко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лющийся тума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e21"/>
                </a:solidFill>
                <a:latin typeface="Times New Roman"/>
                <a:ea typeface="Times New Roman"/>
              </a:rPr>
              <a:t>задержанный  рейс, задержанный на улиц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Умножение 4"/>
          <p:cNvSpPr/>
          <p:nvPr/>
        </p:nvSpPr>
        <p:spPr>
          <a:xfrm>
            <a:off x="2556000" y="2565360"/>
            <a:ext cx="287280" cy="358920"/>
          </a:xfrm>
          <a:custGeom>
            <a:avLst/>
            <a:gdLst>
              <a:gd name="textAreaLeft" fmla="*/ 42480 w 287280"/>
              <a:gd name="textAreaRight" fmla="*/ 244800 w 287280"/>
              <a:gd name="textAreaTop" fmla="*/ 64800 h 358920"/>
              <a:gd name="textAreaBottom" fmla="*/ 294120 h 358920"/>
            </a:gdLst>
            <a:ahLst/>
            <a:rect l="textAreaLeft" t="textAreaTop" r="textAreaRight" b="textAreaBottom"/>
            <a:pathLst>
              <a:path w="287338" h="358775">
                <a:moveTo>
                  <a:pt x="42637" y="107292"/>
                </a:moveTo>
                <a:lnTo>
                  <a:pt x="95386" y="65045"/>
                </a:lnTo>
                <a:lnTo>
                  <a:pt x="143669" y="125332"/>
                </a:lnTo>
                <a:lnTo>
                  <a:pt x="191952" y="65045"/>
                </a:lnTo>
                <a:lnTo>
                  <a:pt x="244701" y="107292"/>
                </a:lnTo>
                <a:lnTo>
                  <a:pt x="186961" y="179388"/>
                </a:lnTo>
                <a:lnTo>
                  <a:pt x="244701" y="251483"/>
                </a:lnTo>
                <a:lnTo>
                  <a:pt x="191952" y="293730"/>
                </a:lnTo>
                <a:lnTo>
                  <a:pt x="143669" y="233443"/>
                </a:lnTo>
                <a:lnTo>
                  <a:pt x="95386" y="293730"/>
                </a:lnTo>
                <a:lnTo>
                  <a:pt x="42637" y="251483"/>
                </a:lnTo>
                <a:lnTo>
                  <a:pt x="100377" y="179388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множение 5"/>
          <p:cNvSpPr/>
          <p:nvPr/>
        </p:nvSpPr>
        <p:spPr>
          <a:xfrm>
            <a:off x="1476360" y="4221000"/>
            <a:ext cx="216000" cy="360360"/>
          </a:xfrm>
          <a:custGeom>
            <a:avLst/>
            <a:gdLst>
              <a:gd name="textAreaLeft" fmla="*/ 29880 w 216000"/>
              <a:gd name="textAreaRight" fmla="*/ 186120 w 216000"/>
              <a:gd name="textAreaTop" fmla="*/ 73440 h 360360"/>
              <a:gd name="textAreaBottom" fmla="*/ 286920 h 360360"/>
            </a:gdLst>
            <a:ahLst/>
            <a:rect l="textAreaLeft" t="textAreaTop" r="textAreaRight" b="textAreaBottom"/>
            <a:pathLst>
              <a:path w="215900" h="360362">
                <a:moveTo>
                  <a:pt x="30074" y="99599"/>
                </a:moveTo>
                <a:lnTo>
                  <a:pt x="73634" y="73501"/>
                </a:lnTo>
                <a:lnTo>
                  <a:pt x="107950" y="130779"/>
                </a:lnTo>
                <a:lnTo>
                  <a:pt x="142266" y="73501"/>
                </a:lnTo>
                <a:lnTo>
                  <a:pt x="185826" y="99599"/>
                </a:lnTo>
                <a:lnTo>
                  <a:pt x="137548" y="180181"/>
                </a:lnTo>
                <a:lnTo>
                  <a:pt x="185826" y="260763"/>
                </a:lnTo>
                <a:lnTo>
                  <a:pt x="142266" y="286861"/>
                </a:lnTo>
                <a:lnTo>
                  <a:pt x="107950" y="229583"/>
                </a:lnTo>
                <a:lnTo>
                  <a:pt x="73634" y="286861"/>
                </a:lnTo>
                <a:lnTo>
                  <a:pt x="30074" y="260763"/>
                </a:lnTo>
                <a:lnTo>
                  <a:pt x="78352" y="1801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2T14:37:12Z</dcterms:created>
  <dc:creator>Lenovo</dc:creator>
  <dc:description/>
  <dc:language>en-US</dc:language>
  <cp:lastModifiedBy>ТАТЬЯНА</cp:lastModifiedBy>
  <dcterms:modified xsi:type="dcterms:W3CDTF">2015-10-06T16:33:41Z</dcterms:modified>
  <cp:revision>34</cp:revision>
  <dc:subject/>
  <dc:title>Слайд 1</dc:title>
</cp:coreProperties>
</file>