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4.png" ContentType="image/png"/>
  <Override PartName="/ppt/media/image18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15.jpeg" ContentType="image/jpeg"/>
  <Override PartName="/ppt/media/image1.wmf" ContentType="image/x-wmf"/>
  <Override PartName="/ppt/media/image9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6CF3-100E-4D3E-BF25-11F6FDB1A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B452-A75A-4A3D-8AA6-4D0DBE45A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2725-3282-4492-8DDE-09E409060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679C-CA5D-4315-9C89-1D68C2278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1F36-D7FC-4282-9FEA-C31649301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DCA9-543D-4070-8CCD-0EE1711A5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8273-88B0-4AF8-A180-64801D1DC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363E-D61A-4475-AC37-4043CC099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24F3-0B8D-4EE6-A7D4-D3373D1B1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A2D1-BECA-4ADE-A756-A25C3714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E1B0-6DE7-413B-ACE1-86812678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ACC8-87ED-449B-A793-98A66159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88C4A-5AAC-446D-8DE0-C0440B2CF1B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" Target="slide5.xml"/><Relationship Id="rId4" Type="http://schemas.openxmlformats.org/officeDocument/2006/relationships/image" Target="../media/image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" Target="slide5.xml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" Target="slide5.xml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7.xml"/><Relationship Id="rId3" Type="http://schemas.openxmlformats.org/officeDocument/2006/relationships/slide" Target="slide18.xm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" Target="slide5.xml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" Target="slide5.xml"/><Relationship Id="rId4" Type="http://schemas.openxmlformats.org/officeDocument/2006/relationships/image" Target="../media/image6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5"/>
          <p:cNvSpPr txBox="1"/>
          <p:nvPr/>
        </p:nvSpPr>
        <p:spPr>
          <a:xfrm>
            <a:off x="1187280" y="801720"/>
            <a:ext cx="6913800" cy="17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сновные породы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ревесины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4883040" y="3421080"/>
            <a:ext cx="3240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Выполнил:</a:t>
            </a: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 учитель трудового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КУ «Радужнинская специальная(коррекционная) общеобразовательная школа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VIII </a:t>
            </a: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ви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Глушак Андрей Виктор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78" descr="NA00570_"/>
          <p:cNvPicPr/>
          <p:nvPr/>
        </p:nvPicPr>
        <p:blipFill>
          <a:blip r:embed="rId1"/>
          <a:stretch/>
        </p:blipFill>
        <p:spPr>
          <a:xfrm>
            <a:off x="900000" y="2924280"/>
            <a:ext cx="23320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395280" y="1557360"/>
            <a:ext cx="4321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евесина красноватая, хорош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батывается. Применяется д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готовления шпал, в строительст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лья, как материал для резьбы и д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5"/>
          <p:cNvSpPr txBox="1"/>
          <p:nvPr/>
        </p:nvSpPr>
        <p:spPr>
          <a:xfrm>
            <a:off x="3059280" y="692280"/>
            <a:ext cx="2808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едр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6" name="AutoShape 10">
            <a:hlinkClick r:id="rId3" action="ppaction://hlinksldjump"/>
          </p:cNvPr>
          <p:cNvSpPr/>
          <p:nvPr/>
        </p:nvSpPr>
        <p:spPr>
          <a:xfrm>
            <a:off x="8604360" y="6308640"/>
            <a:ext cx="288720" cy="28908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1600" h="21627">
                <a:moveTo>
                  <a:pt x="0" y="0"/>
                </a:moveTo>
                <a:lnTo>
                  <a:pt x="21600" y="0"/>
                </a:lnTo>
                <a:lnTo>
                  <a:pt x="21600" y="21627"/>
                </a:lnTo>
                <a:lnTo>
                  <a:pt x="0" y="21627"/>
                </a:lnTo>
                <a:close/>
              </a:path>
              <a:path fill="lightenLess" w="21600" h="216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7">
                <a:moveTo>
                  <a:pt x="21600" y="0"/>
                </a:moveTo>
                <a:lnTo>
                  <a:pt x="21600" y="21627"/>
                </a:lnTo>
                <a:lnTo>
                  <a:pt x="20200" y="20227"/>
                </a:lnTo>
                <a:lnTo>
                  <a:pt x="20200" y="1400"/>
                </a:lnTo>
                <a:close/>
              </a:path>
              <a:path fill="darkenLess" w="21600" h="21627">
                <a:moveTo>
                  <a:pt x="21600" y="21627"/>
                </a:moveTo>
                <a:lnTo>
                  <a:pt x="0" y="21627"/>
                </a:lnTo>
                <a:lnTo>
                  <a:pt x="1400" y="20227"/>
                </a:lnTo>
                <a:lnTo>
                  <a:pt x="20200" y="20227"/>
                </a:lnTo>
                <a:close/>
              </a:path>
              <a:path fill="lighten" w="21600" h="21627">
                <a:moveTo>
                  <a:pt x="0" y="216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7"/>
                </a:lnTo>
                <a:close/>
              </a:path>
              <a:path fill="darken" w="21600" h="21627">
                <a:moveTo>
                  <a:pt x="3794" y="7506"/>
                </a:moveTo>
                <a:lnTo>
                  <a:pt x="7301" y="7506"/>
                </a:lnTo>
                <a:lnTo>
                  <a:pt x="7301" y="12841"/>
                </a:lnTo>
                <a:cubicBezTo>
                  <a:pt x="7301" y="13764"/>
                  <a:pt x="8102" y="14495"/>
                  <a:pt x="9138" y="14495"/>
                </a:cubicBezTo>
                <a:lnTo>
                  <a:pt x="10800" y="14495"/>
                </a:lnTo>
                <a:cubicBezTo>
                  <a:pt x="11836" y="14495"/>
                  <a:pt x="12636" y="13764"/>
                  <a:pt x="12636" y="12841"/>
                </a:cubicBezTo>
                <a:lnTo>
                  <a:pt x="12636" y="7506"/>
                </a:lnTo>
                <a:lnTo>
                  <a:pt x="10800" y="7506"/>
                </a:lnTo>
                <a:lnTo>
                  <a:pt x="14308" y="3998"/>
                </a:lnTo>
                <a:lnTo>
                  <a:pt x="17981" y="7506"/>
                </a:lnTo>
                <a:lnTo>
                  <a:pt x="16144" y="7506"/>
                </a:lnTo>
                <a:lnTo>
                  <a:pt x="16144" y="12841"/>
                </a:lnTo>
                <a:cubicBezTo>
                  <a:pt x="16144" y="15609"/>
                  <a:pt x="13568" y="18168"/>
                  <a:pt x="10800" y="18168"/>
                </a:cubicBezTo>
                <a:lnTo>
                  <a:pt x="9138" y="18168"/>
                </a:lnTo>
                <a:cubicBezTo>
                  <a:pt x="6370" y="18168"/>
                  <a:pt x="3794" y="15609"/>
                  <a:pt x="3794" y="12841"/>
                </a:cubicBez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1" descr="лист кедра"/>
          <p:cNvPicPr/>
          <p:nvPr/>
        </p:nvPicPr>
        <p:blipFill>
          <a:blip r:embed="rId4"/>
          <a:stretch/>
        </p:blipFill>
        <p:spPr>
          <a:xfrm>
            <a:off x="611280" y="3213000"/>
            <a:ext cx="3887640" cy="2917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кедр"/>
          <p:cNvPicPr/>
          <p:nvPr/>
        </p:nvPicPr>
        <p:blipFill>
          <a:blip r:embed="rId5"/>
          <a:stretch/>
        </p:blipFill>
        <p:spPr>
          <a:xfrm>
            <a:off x="5148360" y="1557360"/>
            <a:ext cx="32605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30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30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6700"/>
                            </p:stCondLst>
                            <p:childTnLst>
                              <p:par>
                                <p:cTn id="31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8650"/>
                            </p:stCondLst>
                            <p:childTnLst>
                              <p:par>
                                <p:cTn id="31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9650"/>
                            </p:stCondLst>
                            <p:childTnLst>
                              <p:par>
                                <p:cTn id="32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395280" y="1557360"/>
            <a:ext cx="446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евесина желтоватая. Применяе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изготовления музыкаль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струментов, строительных деталей.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3"/>
          <p:cNvSpPr txBox="1"/>
          <p:nvPr/>
        </p:nvSpPr>
        <p:spPr>
          <a:xfrm>
            <a:off x="2987640" y="692280"/>
            <a:ext cx="280836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ихта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1" name="AutoShape 6">
            <a:hlinkClick r:id="rId3" action="ppaction://hlinksldjump"/>
          </p:cNvPr>
          <p:cNvSpPr/>
          <p:nvPr/>
        </p:nvSpPr>
        <p:spPr>
          <a:xfrm>
            <a:off x="8604360" y="6308640"/>
            <a:ext cx="288720" cy="28908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1600" h="21627">
                <a:moveTo>
                  <a:pt x="0" y="0"/>
                </a:moveTo>
                <a:lnTo>
                  <a:pt x="21600" y="0"/>
                </a:lnTo>
                <a:lnTo>
                  <a:pt x="21600" y="21627"/>
                </a:lnTo>
                <a:lnTo>
                  <a:pt x="0" y="21627"/>
                </a:lnTo>
                <a:close/>
              </a:path>
              <a:path fill="lightenLess" w="21600" h="216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7">
                <a:moveTo>
                  <a:pt x="21600" y="0"/>
                </a:moveTo>
                <a:lnTo>
                  <a:pt x="21600" y="21627"/>
                </a:lnTo>
                <a:lnTo>
                  <a:pt x="20200" y="20227"/>
                </a:lnTo>
                <a:lnTo>
                  <a:pt x="20200" y="1400"/>
                </a:lnTo>
                <a:close/>
              </a:path>
              <a:path fill="darkenLess" w="21600" h="21627">
                <a:moveTo>
                  <a:pt x="21600" y="21627"/>
                </a:moveTo>
                <a:lnTo>
                  <a:pt x="0" y="21627"/>
                </a:lnTo>
                <a:lnTo>
                  <a:pt x="1400" y="20227"/>
                </a:lnTo>
                <a:lnTo>
                  <a:pt x="20200" y="20227"/>
                </a:lnTo>
                <a:close/>
              </a:path>
              <a:path fill="lighten" w="21600" h="21627">
                <a:moveTo>
                  <a:pt x="0" y="216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7"/>
                </a:lnTo>
                <a:close/>
              </a:path>
              <a:path fill="darken" w="21600" h="21627">
                <a:moveTo>
                  <a:pt x="3794" y="7506"/>
                </a:moveTo>
                <a:lnTo>
                  <a:pt x="7301" y="7506"/>
                </a:lnTo>
                <a:lnTo>
                  <a:pt x="7301" y="12841"/>
                </a:lnTo>
                <a:cubicBezTo>
                  <a:pt x="7301" y="13764"/>
                  <a:pt x="8102" y="14495"/>
                  <a:pt x="9138" y="14495"/>
                </a:cubicBezTo>
                <a:lnTo>
                  <a:pt x="10800" y="14495"/>
                </a:lnTo>
                <a:cubicBezTo>
                  <a:pt x="11836" y="14495"/>
                  <a:pt x="12636" y="13764"/>
                  <a:pt x="12636" y="12841"/>
                </a:cubicBezTo>
                <a:lnTo>
                  <a:pt x="12636" y="7506"/>
                </a:lnTo>
                <a:lnTo>
                  <a:pt x="10800" y="7506"/>
                </a:lnTo>
                <a:lnTo>
                  <a:pt x="14308" y="3998"/>
                </a:lnTo>
                <a:lnTo>
                  <a:pt x="17981" y="7506"/>
                </a:lnTo>
                <a:lnTo>
                  <a:pt x="16144" y="7506"/>
                </a:lnTo>
                <a:lnTo>
                  <a:pt x="16144" y="12841"/>
                </a:lnTo>
                <a:cubicBezTo>
                  <a:pt x="16144" y="15609"/>
                  <a:pt x="13568" y="18168"/>
                  <a:pt x="10800" y="18168"/>
                </a:cubicBezTo>
                <a:lnTo>
                  <a:pt x="9138" y="18168"/>
                </a:lnTo>
                <a:cubicBezTo>
                  <a:pt x="6370" y="18168"/>
                  <a:pt x="3794" y="15609"/>
                  <a:pt x="3794" y="12841"/>
                </a:cubicBez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пихта"/>
          <p:cNvPicPr/>
          <p:nvPr/>
        </p:nvPicPr>
        <p:blipFill>
          <a:blip r:embed="rId4"/>
          <a:stretch/>
        </p:blipFill>
        <p:spPr>
          <a:xfrm>
            <a:off x="5148360" y="1484280"/>
            <a:ext cx="3213000" cy="4680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6"/>
          <p:cNvPicPr/>
          <p:nvPr/>
        </p:nvPicPr>
        <p:blipFill>
          <a:blip r:embed="rId5"/>
          <a:stretch/>
        </p:blipFill>
        <p:spPr>
          <a:xfrm>
            <a:off x="539640" y="3284640"/>
            <a:ext cx="424836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0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4750"/>
                            </p:stCondLst>
                            <p:childTnLst>
                              <p:par>
                                <p:cTn id="34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6850"/>
                            </p:stCondLst>
                            <p:childTnLst>
                              <p:par>
                                <p:cTn id="35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7850"/>
                            </p:stCondLst>
                            <p:childTnLst>
                              <p:par>
                                <p:cTn id="35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395280" y="1557360"/>
            <a:ext cx="44640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евесина желтовато–серая, про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подвержена гниению. Применя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строительных конструкций мост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достроении, в строительстве и др.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3"/>
          <p:cNvSpPr txBox="1"/>
          <p:nvPr/>
        </p:nvSpPr>
        <p:spPr>
          <a:xfrm>
            <a:off x="2050920" y="692280"/>
            <a:ext cx="3961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Лиственница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6" name="AutoShape 6">
            <a:hlinkClick r:id="rId3" action="ppaction://hlinksldjump"/>
          </p:cNvPr>
          <p:cNvSpPr/>
          <p:nvPr/>
        </p:nvSpPr>
        <p:spPr>
          <a:xfrm>
            <a:off x="8604360" y="6308640"/>
            <a:ext cx="288720" cy="28908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1600" h="21627">
                <a:moveTo>
                  <a:pt x="0" y="0"/>
                </a:moveTo>
                <a:lnTo>
                  <a:pt x="21600" y="0"/>
                </a:lnTo>
                <a:lnTo>
                  <a:pt x="21600" y="21627"/>
                </a:lnTo>
                <a:lnTo>
                  <a:pt x="0" y="21627"/>
                </a:lnTo>
                <a:close/>
              </a:path>
              <a:path fill="lightenLess" w="21600" h="216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7">
                <a:moveTo>
                  <a:pt x="21600" y="0"/>
                </a:moveTo>
                <a:lnTo>
                  <a:pt x="21600" y="21627"/>
                </a:lnTo>
                <a:lnTo>
                  <a:pt x="20200" y="20227"/>
                </a:lnTo>
                <a:lnTo>
                  <a:pt x="20200" y="1400"/>
                </a:lnTo>
                <a:close/>
              </a:path>
              <a:path fill="darkenLess" w="21600" h="21627">
                <a:moveTo>
                  <a:pt x="21600" y="21627"/>
                </a:moveTo>
                <a:lnTo>
                  <a:pt x="0" y="21627"/>
                </a:lnTo>
                <a:lnTo>
                  <a:pt x="1400" y="20227"/>
                </a:lnTo>
                <a:lnTo>
                  <a:pt x="20200" y="20227"/>
                </a:lnTo>
                <a:close/>
              </a:path>
              <a:path fill="lighten" w="21600" h="21627">
                <a:moveTo>
                  <a:pt x="0" y="216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7"/>
                </a:lnTo>
                <a:close/>
              </a:path>
              <a:path fill="darken" w="21600" h="21627">
                <a:moveTo>
                  <a:pt x="3794" y="7506"/>
                </a:moveTo>
                <a:lnTo>
                  <a:pt x="7301" y="7506"/>
                </a:lnTo>
                <a:lnTo>
                  <a:pt x="7301" y="12841"/>
                </a:lnTo>
                <a:cubicBezTo>
                  <a:pt x="7301" y="13764"/>
                  <a:pt x="8102" y="14495"/>
                  <a:pt x="9138" y="14495"/>
                </a:cubicBezTo>
                <a:lnTo>
                  <a:pt x="10800" y="14495"/>
                </a:lnTo>
                <a:cubicBezTo>
                  <a:pt x="11836" y="14495"/>
                  <a:pt x="12636" y="13764"/>
                  <a:pt x="12636" y="12841"/>
                </a:cubicBezTo>
                <a:lnTo>
                  <a:pt x="12636" y="7506"/>
                </a:lnTo>
                <a:lnTo>
                  <a:pt x="10800" y="7506"/>
                </a:lnTo>
                <a:lnTo>
                  <a:pt x="14308" y="3998"/>
                </a:lnTo>
                <a:lnTo>
                  <a:pt x="17981" y="7506"/>
                </a:lnTo>
                <a:lnTo>
                  <a:pt x="16144" y="7506"/>
                </a:lnTo>
                <a:lnTo>
                  <a:pt x="16144" y="12841"/>
                </a:lnTo>
                <a:cubicBezTo>
                  <a:pt x="16144" y="15609"/>
                  <a:pt x="13568" y="18168"/>
                  <a:pt x="10800" y="18168"/>
                </a:cubicBezTo>
                <a:lnTo>
                  <a:pt x="9138" y="18168"/>
                </a:lnTo>
                <a:cubicBezTo>
                  <a:pt x="6370" y="18168"/>
                  <a:pt x="3794" y="15609"/>
                  <a:pt x="3794" y="12841"/>
                </a:cubicBez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лиственница"/>
          <p:cNvPicPr/>
          <p:nvPr/>
        </p:nvPicPr>
        <p:blipFill>
          <a:blip r:embed="rId4"/>
          <a:stretch/>
        </p:blipFill>
        <p:spPr>
          <a:xfrm>
            <a:off x="4932360" y="1557360"/>
            <a:ext cx="3284640" cy="4608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1"/>
          <p:cNvPicPr/>
          <p:nvPr/>
        </p:nvPicPr>
        <p:blipFill>
          <a:blip r:embed="rId5"/>
          <a:stretch/>
        </p:blipFill>
        <p:spPr>
          <a:xfrm>
            <a:off x="684360" y="328464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3050"/>
                            </p:stCondLst>
                            <p:childTnLst>
                              <p:par>
                                <p:cTn id="37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5050"/>
                            </p:stCondLst>
                            <p:childTnLst>
                              <p:par>
                                <p:cTn id="37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7150"/>
                            </p:stCondLst>
                            <p:childTnLst>
                              <p:par>
                                <p:cTn id="38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9150"/>
                            </p:stCondLst>
                            <p:childTnLst>
                              <p:par>
                                <p:cTn id="39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10150"/>
                            </p:stCondLst>
                            <p:childTnLst>
                              <p:par>
                                <p:cTn id="39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4"/>
          <p:cNvSpPr txBox="1"/>
          <p:nvPr/>
        </p:nvSpPr>
        <p:spPr>
          <a:xfrm>
            <a:off x="1979640" y="333360"/>
            <a:ext cx="6408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гадки о деревьях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468360" y="2349360"/>
            <a:ext cx="432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меня длинней игол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м у ел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чень прямо я рос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высо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я не на опуш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тки только на макуш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4859280" y="259344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 сосне ближайший бр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растет в Сибир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 орешками богат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 вкуснее в ми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0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8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2"/>
          <p:cNvSpPr txBox="1"/>
          <p:nvPr/>
        </p:nvSpPr>
        <p:spPr>
          <a:xfrm>
            <a:off x="1979640" y="333360"/>
            <a:ext cx="6408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гадки о деревьях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4932360" y="2133720"/>
            <a:ext cx="33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же это за девиц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швея, не мастериц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чего сама не шь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в иголках круглый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395280" y="2133360"/>
            <a:ext cx="38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ть у родственницы ел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колючие игол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, в отличии от ел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адают те игол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8" descr="лиственница"/>
          <p:cNvPicPr/>
          <p:nvPr/>
        </p:nvPicPr>
        <p:blipFill>
          <a:blip r:embed="rId1"/>
          <a:stretch/>
        </p:blipFill>
        <p:spPr>
          <a:xfrm>
            <a:off x="1476360" y="3429000"/>
            <a:ext cx="1898640" cy="2664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пихта"/>
          <p:cNvPicPr/>
          <p:nvPr/>
        </p:nvPicPr>
        <p:blipFill>
          <a:blip r:embed="rId2"/>
          <a:stretch/>
        </p:blipFill>
        <p:spPr>
          <a:xfrm>
            <a:off x="5686560" y="3378240"/>
            <a:ext cx="18763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0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2840"/>
                            </p:stCondLst>
                            <p:childTnLst>
                              <p:par>
                                <p:cTn id="43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1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2960"/>
                            </p:stCondLst>
                            <p:childTnLst>
                              <p:par>
                                <p:cTn id="44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2"/>
          <p:cNvSpPr txBox="1"/>
          <p:nvPr/>
        </p:nvSpPr>
        <p:spPr>
          <a:xfrm>
            <a:off x="539640" y="620640"/>
            <a:ext cx="806472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иственные породы древесины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130400" y="2409840"/>
            <a:ext cx="19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6600"/>
                </a:solidFill>
                <a:uFillTx/>
                <a:latin typeface="Arial"/>
                <a:hlinkClick r:id="rId1" action="ppaction://hlinksldjump"/>
              </a:rPr>
              <a:t>Бере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1116000" y="3284640"/>
            <a:ext cx="19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6600"/>
                </a:solidFill>
                <a:uFillTx/>
                <a:latin typeface="Arial"/>
                <a:hlinkClick r:id="rId2" action="ppaction://hlinksldjump"/>
              </a:rPr>
              <a:t>Ос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1116000" y="4076640"/>
            <a:ext cx="19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6600"/>
                </a:solidFill>
                <a:uFillTx/>
                <a:latin typeface="Arial"/>
                <a:hlinkClick r:id="rId3" action="ppaction://hlinksldjump"/>
              </a:rPr>
              <a:t>Ду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1116000" y="4941720"/>
            <a:ext cx="19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Лип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971640" y="566100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льх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9" descr="береза"/>
          <p:cNvPicPr/>
          <p:nvPr/>
        </p:nvPicPr>
        <p:blipFill>
          <a:blip r:embed="rId4"/>
          <a:stretch/>
        </p:blipFill>
        <p:spPr>
          <a:xfrm>
            <a:off x="5219640" y="2095560"/>
            <a:ext cx="29638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0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3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468360" y="1484280"/>
            <a:ext cx="460836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евесина белая с буроватым оттенк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ердая. Применяется для изгото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неры, спортивного инвентаря, руч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инструментов, мебели, посуды и др.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WordArt 3"/>
          <p:cNvSpPr txBox="1"/>
          <p:nvPr/>
        </p:nvSpPr>
        <p:spPr>
          <a:xfrm>
            <a:off x="2340000" y="692280"/>
            <a:ext cx="3960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Береза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8604360" y="6237360"/>
            <a:ext cx="288720" cy="36036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360360"/>
              <a:gd name="textAreaBottom" fmla="*/ 341640 h 360360"/>
            </a:gdLst>
            <a:ahLst/>
            <a:rect l="textAreaLeft" t="textAreaTop" r="textAreaRight" b="textAreaBottom"/>
            <a:pathLst>
              <a:path w="21600" h="26953">
                <a:moveTo>
                  <a:pt x="0" y="0"/>
                </a:moveTo>
                <a:lnTo>
                  <a:pt x="21600" y="0"/>
                </a:lnTo>
                <a:lnTo>
                  <a:pt x="21600" y="26953"/>
                </a:lnTo>
                <a:lnTo>
                  <a:pt x="0" y="26953"/>
                </a:lnTo>
                <a:close/>
              </a:path>
              <a:path fill="lightenLess" w="21600" h="2695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53">
                <a:moveTo>
                  <a:pt x="21600" y="0"/>
                </a:moveTo>
                <a:lnTo>
                  <a:pt x="21600" y="26953"/>
                </a:lnTo>
                <a:lnTo>
                  <a:pt x="20200" y="25553"/>
                </a:lnTo>
                <a:lnTo>
                  <a:pt x="20200" y="1400"/>
                </a:lnTo>
                <a:close/>
              </a:path>
              <a:path fill="darkenLess" w="21600" h="26953">
                <a:moveTo>
                  <a:pt x="21600" y="26953"/>
                </a:moveTo>
                <a:lnTo>
                  <a:pt x="0" y="26953"/>
                </a:lnTo>
                <a:lnTo>
                  <a:pt x="1400" y="25553"/>
                </a:lnTo>
                <a:lnTo>
                  <a:pt x="20200" y="25553"/>
                </a:lnTo>
                <a:close/>
              </a:path>
              <a:path fill="lighten" w="21600" h="26953">
                <a:moveTo>
                  <a:pt x="0" y="26953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53"/>
                </a:lnTo>
                <a:close/>
              </a:path>
              <a:path fill="darken" w="21600" h="26953">
                <a:moveTo>
                  <a:pt x="3794" y="10169"/>
                </a:moveTo>
                <a:lnTo>
                  <a:pt x="7301" y="10169"/>
                </a:lnTo>
                <a:lnTo>
                  <a:pt x="7301" y="15504"/>
                </a:lnTo>
                <a:cubicBezTo>
                  <a:pt x="7301" y="16427"/>
                  <a:pt x="8102" y="17158"/>
                  <a:pt x="9138" y="17158"/>
                </a:cubicBezTo>
                <a:lnTo>
                  <a:pt x="10800" y="17158"/>
                </a:lnTo>
                <a:cubicBezTo>
                  <a:pt x="11836" y="17158"/>
                  <a:pt x="12636" y="16427"/>
                  <a:pt x="12636" y="15504"/>
                </a:cubicBezTo>
                <a:lnTo>
                  <a:pt x="12636" y="10169"/>
                </a:lnTo>
                <a:lnTo>
                  <a:pt x="10800" y="10169"/>
                </a:lnTo>
                <a:lnTo>
                  <a:pt x="14308" y="6661"/>
                </a:lnTo>
                <a:lnTo>
                  <a:pt x="17981" y="10169"/>
                </a:lnTo>
                <a:lnTo>
                  <a:pt x="16144" y="10169"/>
                </a:lnTo>
                <a:lnTo>
                  <a:pt x="16144" y="15504"/>
                </a:lnTo>
                <a:cubicBezTo>
                  <a:pt x="16144" y="18272"/>
                  <a:pt x="13568" y="20831"/>
                  <a:pt x="10800" y="20831"/>
                </a:cubicBezTo>
                <a:lnTo>
                  <a:pt x="9138" y="20831"/>
                </a:lnTo>
                <a:cubicBezTo>
                  <a:pt x="6370" y="20831"/>
                  <a:pt x="3794" y="18272"/>
                  <a:pt x="3794" y="15504"/>
                </a:cubicBez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береза"/>
          <p:cNvPicPr/>
          <p:nvPr/>
        </p:nvPicPr>
        <p:blipFill>
          <a:blip r:embed="rId3"/>
          <a:stretch/>
        </p:blipFill>
        <p:spPr>
          <a:xfrm>
            <a:off x="5262480" y="1628640"/>
            <a:ext cx="3324240" cy="4340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2"/>
          <p:cNvPicPr/>
          <p:nvPr/>
        </p:nvPicPr>
        <p:blipFill>
          <a:blip r:embed="rId4"/>
          <a:stretch/>
        </p:blipFill>
        <p:spPr>
          <a:xfrm>
            <a:off x="1187280" y="2997360"/>
            <a:ext cx="2448000" cy="31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0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50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50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7350"/>
                            </p:stCondLst>
                            <p:childTnLst>
                              <p:par>
                                <p:cTn id="51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9450"/>
                            </p:stCondLst>
                            <p:childTnLst>
                              <p:par>
                                <p:cTn id="52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0450"/>
                            </p:stCondLst>
                            <p:childTnLst>
                              <p:par>
                                <p:cTn id="52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2052720" y="1608120"/>
            <a:ext cx="4824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евесина белая с зеленоватым оттенк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ягкая, легкая, склонная к загнива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яется для изготовления спиче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грушек, посуды  и др.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WordArt 3"/>
          <p:cNvSpPr txBox="1"/>
          <p:nvPr/>
        </p:nvSpPr>
        <p:spPr>
          <a:xfrm>
            <a:off x="2484360" y="692280"/>
            <a:ext cx="396072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сина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1" name="AutoShape 6"/>
          <p:cNvSpPr/>
          <p:nvPr/>
        </p:nvSpPr>
        <p:spPr>
          <a:xfrm>
            <a:off x="8604360" y="6237360"/>
            <a:ext cx="288720" cy="36036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360360"/>
              <a:gd name="textAreaBottom" fmla="*/ 341640 h 360360"/>
            </a:gdLst>
            <a:ahLst/>
            <a:rect l="textAreaLeft" t="textAreaTop" r="textAreaRight" b="textAreaBottom"/>
            <a:pathLst>
              <a:path w="21600" h="26953">
                <a:moveTo>
                  <a:pt x="0" y="0"/>
                </a:moveTo>
                <a:lnTo>
                  <a:pt x="21600" y="0"/>
                </a:lnTo>
                <a:lnTo>
                  <a:pt x="21600" y="26953"/>
                </a:lnTo>
                <a:lnTo>
                  <a:pt x="0" y="26953"/>
                </a:lnTo>
                <a:close/>
              </a:path>
              <a:path fill="lightenLess" w="21600" h="2695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53">
                <a:moveTo>
                  <a:pt x="21600" y="0"/>
                </a:moveTo>
                <a:lnTo>
                  <a:pt x="21600" y="26953"/>
                </a:lnTo>
                <a:lnTo>
                  <a:pt x="20200" y="25553"/>
                </a:lnTo>
                <a:lnTo>
                  <a:pt x="20200" y="1400"/>
                </a:lnTo>
                <a:close/>
              </a:path>
              <a:path fill="darkenLess" w="21600" h="26953">
                <a:moveTo>
                  <a:pt x="21600" y="26953"/>
                </a:moveTo>
                <a:lnTo>
                  <a:pt x="0" y="26953"/>
                </a:lnTo>
                <a:lnTo>
                  <a:pt x="1400" y="25553"/>
                </a:lnTo>
                <a:lnTo>
                  <a:pt x="20200" y="25553"/>
                </a:lnTo>
                <a:close/>
              </a:path>
              <a:path fill="lighten" w="21600" h="26953">
                <a:moveTo>
                  <a:pt x="0" y="26953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53"/>
                </a:lnTo>
                <a:close/>
              </a:path>
              <a:path fill="darken" w="21600" h="26953">
                <a:moveTo>
                  <a:pt x="3794" y="10169"/>
                </a:moveTo>
                <a:lnTo>
                  <a:pt x="7301" y="10169"/>
                </a:lnTo>
                <a:lnTo>
                  <a:pt x="7301" y="15504"/>
                </a:lnTo>
                <a:cubicBezTo>
                  <a:pt x="7301" y="16427"/>
                  <a:pt x="8102" y="17158"/>
                  <a:pt x="9138" y="17158"/>
                </a:cubicBezTo>
                <a:lnTo>
                  <a:pt x="10800" y="17158"/>
                </a:lnTo>
                <a:cubicBezTo>
                  <a:pt x="11836" y="17158"/>
                  <a:pt x="12636" y="16427"/>
                  <a:pt x="12636" y="15504"/>
                </a:cubicBezTo>
                <a:lnTo>
                  <a:pt x="12636" y="10169"/>
                </a:lnTo>
                <a:lnTo>
                  <a:pt x="10800" y="10169"/>
                </a:lnTo>
                <a:lnTo>
                  <a:pt x="14308" y="6661"/>
                </a:lnTo>
                <a:lnTo>
                  <a:pt x="17981" y="10169"/>
                </a:lnTo>
                <a:lnTo>
                  <a:pt x="16144" y="10169"/>
                </a:lnTo>
                <a:lnTo>
                  <a:pt x="16144" y="15504"/>
                </a:lnTo>
                <a:cubicBezTo>
                  <a:pt x="16144" y="18272"/>
                  <a:pt x="13568" y="20831"/>
                  <a:pt x="10800" y="20831"/>
                </a:cubicBezTo>
                <a:lnTo>
                  <a:pt x="9138" y="20831"/>
                </a:lnTo>
                <a:cubicBezTo>
                  <a:pt x="6370" y="20831"/>
                  <a:pt x="3794" y="18272"/>
                  <a:pt x="3794" y="15504"/>
                </a:cubicBez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3"/>
          <p:cNvPicPr/>
          <p:nvPr/>
        </p:nvPicPr>
        <p:blipFill>
          <a:blip r:embed="rId3"/>
          <a:stretch/>
        </p:blipFill>
        <p:spPr>
          <a:xfrm>
            <a:off x="2627280" y="3479760"/>
            <a:ext cx="336060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0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54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5350"/>
                            </p:stCondLst>
                            <p:childTnLst>
                              <p:par>
                                <p:cTn id="54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7450"/>
                            </p:stCondLst>
                            <p:childTnLst>
                              <p:par>
                                <p:cTn id="55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8800"/>
                            </p:stCondLst>
                            <p:childTnLst>
                              <p:par>
                                <p:cTn id="55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250920" y="1557360"/>
            <a:ext cx="4465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евесина коричневато – серая,  твердая. Применяется для изготовления  и отделки мебели, получения изделий, на которые действуют большие нагрузки: паркет, конструкции мостов, вагонов и др.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WordArt 3"/>
          <p:cNvSpPr txBox="1"/>
          <p:nvPr/>
        </p:nvSpPr>
        <p:spPr>
          <a:xfrm>
            <a:off x="2627280" y="692280"/>
            <a:ext cx="2881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Дуб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8604360" y="6237360"/>
            <a:ext cx="288720" cy="36036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360360"/>
              <a:gd name="textAreaBottom" fmla="*/ 341640 h 360360"/>
            </a:gdLst>
            <a:ahLst/>
            <a:rect l="textAreaLeft" t="textAreaTop" r="textAreaRight" b="textAreaBottom"/>
            <a:pathLst>
              <a:path w="21600" h="26953">
                <a:moveTo>
                  <a:pt x="0" y="0"/>
                </a:moveTo>
                <a:lnTo>
                  <a:pt x="21600" y="0"/>
                </a:lnTo>
                <a:lnTo>
                  <a:pt x="21600" y="26953"/>
                </a:lnTo>
                <a:lnTo>
                  <a:pt x="0" y="26953"/>
                </a:lnTo>
                <a:close/>
              </a:path>
              <a:path fill="lightenLess" w="21600" h="2695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53">
                <a:moveTo>
                  <a:pt x="21600" y="0"/>
                </a:moveTo>
                <a:lnTo>
                  <a:pt x="21600" y="26953"/>
                </a:lnTo>
                <a:lnTo>
                  <a:pt x="20200" y="25553"/>
                </a:lnTo>
                <a:lnTo>
                  <a:pt x="20200" y="1400"/>
                </a:lnTo>
                <a:close/>
              </a:path>
              <a:path fill="darkenLess" w="21600" h="26953">
                <a:moveTo>
                  <a:pt x="21600" y="26953"/>
                </a:moveTo>
                <a:lnTo>
                  <a:pt x="0" y="26953"/>
                </a:lnTo>
                <a:lnTo>
                  <a:pt x="1400" y="25553"/>
                </a:lnTo>
                <a:lnTo>
                  <a:pt x="20200" y="25553"/>
                </a:lnTo>
                <a:close/>
              </a:path>
              <a:path fill="lighten" w="21600" h="26953">
                <a:moveTo>
                  <a:pt x="0" y="26953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53"/>
                </a:lnTo>
                <a:close/>
              </a:path>
              <a:path fill="darken" w="21600" h="26953">
                <a:moveTo>
                  <a:pt x="3794" y="10169"/>
                </a:moveTo>
                <a:lnTo>
                  <a:pt x="7301" y="10169"/>
                </a:lnTo>
                <a:lnTo>
                  <a:pt x="7301" y="15504"/>
                </a:lnTo>
                <a:cubicBezTo>
                  <a:pt x="7301" y="16427"/>
                  <a:pt x="8102" y="17158"/>
                  <a:pt x="9138" y="17158"/>
                </a:cubicBezTo>
                <a:lnTo>
                  <a:pt x="10800" y="17158"/>
                </a:lnTo>
                <a:cubicBezTo>
                  <a:pt x="11836" y="17158"/>
                  <a:pt x="12636" y="16427"/>
                  <a:pt x="12636" y="15504"/>
                </a:cubicBezTo>
                <a:lnTo>
                  <a:pt x="12636" y="10169"/>
                </a:lnTo>
                <a:lnTo>
                  <a:pt x="10800" y="10169"/>
                </a:lnTo>
                <a:lnTo>
                  <a:pt x="14308" y="6661"/>
                </a:lnTo>
                <a:lnTo>
                  <a:pt x="17981" y="10169"/>
                </a:lnTo>
                <a:lnTo>
                  <a:pt x="16144" y="10169"/>
                </a:lnTo>
                <a:lnTo>
                  <a:pt x="16144" y="15504"/>
                </a:lnTo>
                <a:cubicBezTo>
                  <a:pt x="16144" y="18272"/>
                  <a:pt x="13568" y="20831"/>
                  <a:pt x="10800" y="20831"/>
                </a:cubicBezTo>
                <a:lnTo>
                  <a:pt x="9138" y="20831"/>
                </a:lnTo>
                <a:cubicBezTo>
                  <a:pt x="6370" y="20831"/>
                  <a:pt x="3794" y="18272"/>
                  <a:pt x="3794" y="15504"/>
                </a:cubicBez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4"/>
          <p:cNvPicPr/>
          <p:nvPr/>
        </p:nvPicPr>
        <p:blipFill>
          <a:blip r:embed="rId3"/>
          <a:stretch/>
        </p:blipFill>
        <p:spPr>
          <a:xfrm>
            <a:off x="1258920" y="3284640"/>
            <a:ext cx="2155680" cy="2852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5"/>
          <p:cNvPicPr/>
          <p:nvPr/>
        </p:nvPicPr>
        <p:blipFill>
          <a:blip r:embed="rId4"/>
          <a:stretch/>
        </p:blipFill>
        <p:spPr>
          <a:xfrm>
            <a:off x="4356000" y="1700280"/>
            <a:ext cx="4388040" cy="44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0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9600"/>
                            </p:stCondLst>
                            <p:childTnLst>
                              <p:par>
                                <p:cTn id="57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10600"/>
                            </p:stCondLst>
                            <p:childTnLst>
                              <p:par>
                                <p:cTn id="58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0" y="0"/>
            <a:ext cx="1258920" cy="6858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1258920" y="0"/>
            <a:ext cx="1225440" cy="6858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2484360" y="0"/>
            <a:ext cx="1440000" cy="6858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3851280" y="0"/>
            <a:ext cx="1297080" cy="6858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5148360" y="0"/>
            <a:ext cx="1368360" cy="6858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6516720" y="0"/>
            <a:ext cx="1295280" cy="6858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7775640" y="0"/>
            <a:ext cx="1368360" cy="6858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Картинка 31 из 9787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611280" y="549360"/>
            <a:ext cx="1101600" cy="1101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Картинка 31 из 9787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7451640" y="404640"/>
            <a:ext cx="1101960" cy="1101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Картинка 31 из 9787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4067280" y="2781360"/>
            <a:ext cx="1101600" cy="1101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Картинка 31 из 9787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611280" y="5300640"/>
            <a:ext cx="1101600" cy="1101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Картинка 31 из 9787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7524720" y="5300640"/>
            <a:ext cx="1101600" cy="1101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4" descr="Картинка 31 из 9787"/>
          <p:cNvPicPr/>
          <p:nvPr/>
        </p:nvPicPr>
        <p:blipFill>
          <a:blip r:embed="rId6">
            <a:lum bright="-6000"/>
          </a:blip>
          <a:stretch/>
        </p:blipFill>
        <p:spPr>
          <a:xfrm>
            <a:off x="4067280" y="404640"/>
            <a:ext cx="1101600" cy="11019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5" descr="Картинка 31 из 9787"/>
          <p:cNvPicPr/>
          <p:nvPr/>
        </p:nvPicPr>
        <p:blipFill>
          <a:blip r:embed="rId7">
            <a:lum bright="-6000"/>
          </a:blip>
          <a:stretch/>
        </p:blipFill>
        <p:spPr>
          <a:xfrm>
            <a:off x="4140360" y="5300640"/>
            <a:ext cx="1101600" cy="1101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6" descr="Картинка 31 из 9787"/>
          <p:cNvPicPr/>
          <p:nvPr/>
        </p:nvPicPr>
        <p:blipFill>
          <a:blip r:embed="rId8">
            <a:lum bright="-6000"/>
          </a:blip>
          <a:stretch/>
        </p:blipFill>
        <p:spPr>
          <a:xfrm>
            <a:off x="7020000" y="2924280"/>
            <a:ext cx="1101600" cy="1101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7" descr="Картинка 31 из 9787"/>
          <p:cNvPicPr/>
          <p:nvPr/>
        </p:nvPicPr>
        <p:blipFill>
          <a:blip r:embed="rId9">
            <a:lum bright="-6000"/>
          </a:blip>
          <a:stretch/>
        </p:blipFill>
        <p:spPr>
          <a:xfrm>
            <a:off x="1547640" y="2708280"/>
            <a:ext cx="1101960" cy="11016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8" descr=""/>
          <p:cNvPicPr/>
          <p:nvPr/>
        </p:nvPicPr>
        <p:blipFill>
          <a:blip r:embed="rId10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5" name="WordArt 19"/>
          <p:cNvSpPr txBox="1"/>
          <p:nvPr/>
        </p:nvSpPr>
        <p:spPr>
          <a:xfrm>
            <a:off x="4971960" y="189000"/>
            <a:ext cx="4172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6633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имнастика для глаз</a:t>
            </a:r>
            <a:endParaRPr b="0" lang="en-US" sz="1800" spc="1" strike="noStrike">
              <a:ln w="19080">
                <a:solidFill>
                  <a:srgbClr val="006633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0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8" dur="1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0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14" nodeType="afterEffect" fill="hold" presetClass="entr" presetID="3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21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625" nodeType="afterEffect" fill="hold" presetClass="exit" presetID="10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629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633" nodeType="afterEffect" fill="hold" presetClass="exit" presetID="10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637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641" nodeType="afterEffect" fill="hold" presetClass="exit" presetID="10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645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649" nodeType="afterEffect" fill="hold" presetClass="exit" presetID="10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653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4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658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9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663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4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668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9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673" nodeType="afterEffect" fill="hold" presetClass="path" presetID="3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712 -0.00208 L 0.01823 -0.34282 L 0.2941 -0.00208 L 0.01823 0.33935 L -0.25712 -0.00208 Z">
                                      <p:cBhvr>
                                        <p:cTn id="674" dur="3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5"/>
          <p:cNvSpPr txBox="1"/>
          <p:nvPr/>
        </p:nvSpPr>
        <p:spPr>
          <a:xfrm>
            <a:off x="684360" y="404640"/>
            <a:ext cx="7920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Цели и задачи урока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4643280" y="1557360"/>
            <a:ext cx="4178520" cy="46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ыясни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м отличаются деревья, которые мы видим в лес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ими свойствами обладает древесина разных пор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Узнаем:</a:t>
            </a: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им способом можно отличить древесину одних деревьев от друг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предели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представленным образцам пород древесины определим из каких деревьев они получе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03"/>
          <p:cNvPicPr/>
          <p:nvPr/>
        </p:nvPicPr>
        <p:blipFill>
          <a:blip r:embed="rId1"/>
          <a:stretch/>
        </p:blipFill>
        <p:spPr>
          <a:xfrm>
            <a:off x="611280" y="1700280"/>
            <a:ext cx="3941640" cy="4465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9300"/>
                            </p:stCondLst>
                            <p:childTnLst>
                              <p:par>
                                <p:cTn id="6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250920" y="1557360"/>
            <a:ext cx="48243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евесина белая с нежно розовы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тенком, мягкая. Применяется д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готовления чертежных досо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андашей, посуды, как материал д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ьбы, точения и др.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WordArt 3"/>
          <p:cNvSpPr txBox="1"/>
          <p:nvPr/>
        </p:nvSpPr>
        <p:spPr>
          <a:xfrm>
            <a:off x="2627280" y="692280"/>
            <a:ext cx="288144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Липа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8604360" y="6237360"/>
            <a:ext cx="288720" cy="36036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360360"/>
              <a:gd name="textAreaBottom" fmla="*/ 341640 h 360360"/>
            </a:gdLst>
            <a:ahLst/>
            <a:rect l="textAreaLeft" t="textAreaTop" r="textAreaRight" b="textAreaBottom"/>
            <a:pathLst>
              <a:path w="21600" h="26953">
                <a:moveTo>
                  <a:pt x="0" y="0"/>
                </a:moveTo>
                <a:lnTo>
                  <a:pt x="21600" y="0"/>
                </a:lnTo>
                <a:lnTo>
                  <a:pt x="21600" y="26953"/>
                </a:lnTo>
                <a:lnTo>
                  <a:pt x="0" y="26953"/>
                </a:lnTo>
                <a:close/>
              </a:path>
              <a:path fill="lightenLess" w="21600" h="2695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53">
                <a:moveTo>
                  <a:pt x="21600" y="0"/>
                </a:moveTo>
                <a:lnTo>
                  <a:pt x="21600" y="26953"/>
                </a:lnTo>
                <a:lnTo>
                  <a:pt x="20200" y="25553"/>
                </a:lnTo>
                <a:lnTo>
                  <a:pt x="20200" y="1400"/>
                </a:lnTo>
                <a:close/>
              </a:path>
              <a:path fill="darkenLess" w="21600" h="26953">
                <a:moveTo>
                  <a:pt x="21600" y="26953"/>
                </a:moveTo>
                <a:lnTo>
                  <a:pt x="0" y="26953"/>
                </a:lnTo>
                <a:lnTo>
                  <a:pt x="1400" y="25553"/>
                </a:lnTo>
                <a:lnTo>
                  <a:pt x="20200" y="25553"/>
                </a:lnTo>
                <a:close/>
              </a:path>
              <a:path fill="lighten" w="21600" h="26953">
                <a:moveTo>
                  <a:pt x="0" y="26953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53"/>
                </a:lnTo>
                <a:close/>
              </a:path>
              <a:path fill="darken" w="21600" h="26953">
                <a:moveTo>
                  <a:pt x="3794" y="10169"/>
                </a:moveTo>
                <a:lnTo>
                  <a:pt x="7301" y="10169"/>
                </a:lnTo>
                <a:lnTo>
                  <a:pt x="7301" y="15504"/>
                </a:lnTo>
                <a:cubicBezTo>
                  <a:pt x="7301" y="16427"/>
                  <a:pt x="8102" y="17158"/>
                  <a:pt x="9138" y="17158"/>
                </a:cubicBezTo>
                <a:lnTo>
                  <a:pt x="10800" y="17158"/>
                </a:lnTo>
                <a:cubicBezTo>
                  <a:pt x="11836" y="17158"/>
                  <a:pt x="12636" y="16427"/>
                  <a:pt x="12636" y="15504"/>
                </a:cubicBezTo>
                <a:lnTo>
                  <a:pt x="12636" y="10169"/>
                </a:lnTo>
                <a:lnTo>
                  <a:pt x="10800" y="10169"/>
                </a:lnTo>
                <a:lnTo>
                  <a:pt x="14308" y="6661"/>
                </a:lnTo>
                <a:lnTo>
                  <a:pt x="17981" y="10169"/>
                </a:lnTo>
                <a:lnTo>
                  <a:pt x="16144" y="10169"/>
                </a:lnTo>
                <a:lnTo>
                  <a:pt x="16144" y="15504"/>
                </a:lnTo>
                <a:cubicBezTo>
                  <a:pt x="16144" y="18272"/>
                  <a:pt x="13568" y="20831"/>
                  <a:pt x="10800" y="20831"/>
                </a:cubicBezTo>
                <a:lnTo>
                  <a:pt x="9138" y="20831"/>
                </a:lnTo>
                <a:cubicBezTo>
                  <a:pt x="6370" y="20831"/>
                  <a:pt x="3794" y="18272"/>
                  <a:pt x="3794" y="15504"/>
                </a:cubicBez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8" descr="6"/>
          <p:cNvPicPr/>
          <p:nvPr/>
        </p:nvPicPr>
        <p:blipFill>
          <a:blip r:embed="rId3"/>
          <a:srcRect l="19223" t="5046" r="18982" b="7068"/>
          <a:stretch/>
        </p:blipFill>
        <p:spPr>
          <a:xfrm>
            <a:off x="1547640" y="3573360"/>
            <a:ext cx="2362320" cy="25196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0" descr="7"/>
          <p:cNvPicPr/>
          <p:nvPr/>
        </p:nvPicPr>
        <p:blipFill>
          <a:blip r:embed="rId4"/>
          <a:stretch/>
        </p:blipFill>
        <p:spPr>
          <a:xfrm>
            <a:off x="4643280" y="1989000"/>
            <a:ext cx="401328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nodeType="clickEffect" fill="hold">
                      <p:stCondLst>
                        <p:cond delay="0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68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4750"/>
                            </p:stCondLst>
                            <p:childTnLst>
                              <p:par>
                                <p:cTn id="69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nodeType="afterEffect" fill="hold">
                            <p:stCondLst>
                              <p:cond delay="6550"/>
                            </p:stCondLst>
                            <p:childTnLst>
                              <p:par>
                                <p:cTn id="70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8600"/>
                            </p:stCondLst>
                            <p:childTnLst>
                              <p:par>
                                <p:cTn id="70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nodeType="afterEffect" fill="hold">
                            <p:stCondLst>
                              <p:cond delay="9950"/>
                            </p:stCondLst>
                            <p:childTnLst>
                              <p:par>
                                <p:cTn id="71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10950"/>
                            </p:stCondLst>
                            <p:childTnLst>
                              <p:par>
                                <p:cTn id="71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250920" y="1557360"/>
            <a:ext cx="4824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евесина белая, на воздухе быстр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снеет, мягкая. Применяется д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готовления фанеры, ящиков, 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риал для художественной резьбы.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WordArt 3"/>
          <p:cNvSpPr txBox="1"/>
          <p:nvPr/>
        </p:nvSpPr>
        <p:spPr>
          <a:xfrm>
            <a:off x="2556000" y="692280"/>
            <a:ext cx="2881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льха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3" name="AutoShape 6"/>
          <p:cNvSpPr/>
          <p:nvPr/>
        </p:nvSpPr>
        <p:spPr>
          <a:xfrm>
            <a:off x="8604360" y="6237360"/>
            <a:ext cx="288720" cy="36036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360360"/>
              <a:gd name="textAreaBottom" fmla="*/ 341640 h 360360"/>
            </a:gdLst>
            <a:ahLst/>
            <a:rect l="textAreaLeft" t="textAreaTop" r="textAreaRight" b="textAreaBottom"/>
            <a:pathLst>
              <a:path w="21600" h="26953">
                <a:moveTo>
                  <a:pt x="0" y="0"/>
                </a:moveTo>
                <a:lnTo>
                  <a:pt x="21600" y="0"/>
                </a:lnTo>
                <a:lnTo>
                  <a:pt x="21600" y="26953"/>
                </a:lnTo>
                <a:lnTo>
                  <a:pt x="0" y="26953"/>
                </a:lnTo>
                <a:close/>
              </a:path>
              <a:path fill="lightenLess" w="21600" h="2695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53">
                <a:moveTo>
                  <a:pt x="21600" y="0"/>
                </a:moveTo>
                <a:lnTo>
                  <a:pt x="21600" y="26953"/>
                </a:lnTo>
                <a:lnTo>
                  <a:pt x="20200" y="25553"/>
                </a:lnTo>
                <a:lnTo>
                  <a:pt x="20200" y="1400"/>
                </a:lnTo>
                <a:close/>
              </a:path>
              <a:path fill="darkenLess" w="21600" h="26953">
                <a:moveTo>
                  <a:pt x="21600" y="26953"/>
                </a:moveTo>
                <a:lnTo>
                  <a:pt x="0" y="26953"/>
                </a:lnTo>
                <a:lnTo>
                  <a:pt x="1400" y="25553"/>
                </a:lnTo>
                <a:lnTo>
                  <a:pt x="20200" y="25553"/>
                </a:lnTo>
                <a:close/>
              </a:path>
              <a:path fill="lighten" w="21600" h="26953">
                <a:moveTo>
                  <a:pt x="0" y="26953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53"/>
                </a:lnTo>
                <a:close/>
              </a:path>
              <a:path fill="darken" w="21600" h="26953">
                <a:moveTo>
                  <a:pt x="3794" y="10169"/>
                </a:moveTo>
                <a:lnTo>
                  <a:pt x="7301" y="10169"/>
                </a:lnTo>
                <a:lnTo>
                  <a:pt x="7301" y="15504"/>
                </a:lnTo>
                <a:cubicBezTo>
                  <a:pt x="7301" y="16427"/>
                  <a:pt x="8102" y="17158"/>
                  <a:pt x="9138" y="17158"/>
                </a:cubicBezTo>
                <a:lnTo>
                  <a:pt x="10800" y="17158"/>
                </a:lnTo>
                <a:cubicBezTo>
                  <a:pt x="11836" y="17158"/>
                  <a:pt x="12636" y="16427"/>
                  <a:pt x="12636" y="15504"/>
                </a:cubicBezTo>
                <a:lnTo>
                  <a:pt x="12636" y="10169"/>
                </a:lnTo>
                <a:lnTo>
                  <a:pt x="10800" y="10169"/>
                </a:lnTo>
                <a:lnTo>
                  <a:pt x="14308" y="6661"/>
                </a:lnTo>
                <a:lnTo>
                  <a:pt x="17981" y="10169"/>
                </a:lnTo>
                <a:lnTo>
                  <a:pt x="16144" y="10169"/>
                </a:lnTo>
                <a:lnTo>
                  <a:pt x="16144" y="15504"/>
                </a:lnTo>
                <a:cubicBezTo>
                  <a:pt x="16144" y="18272"/>
                  <a:pt x="13568" y="20831"/>
                  <a:pt x="10800" y="20831"/>
                </a:cubicBezTo>
                <a:lnTo>
                  <a:pt x="9138" y="20831"/>
                </a:lnTo>
                <a:cubicBezTo>
                  <a:pt x="6370" y="20831"/>
                  <a:pt x="3794" y="18272"/>
                  <a:pt x="3794" y="15504"/>
                </a:cubicBez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лист ольхи"/>
          <p:cNvPicPr/>
          <p:nvPr/>
        </p:nvPicPr>
        <p:blipFill>
          <a:blip r:embed="rId3"/>
          <a:stretch/>
        </p:blipFill>
        <p:spPr>
          <a:xfrm>
            <a:off x="1187280" y="3141720"/>
            <a:ext cx="2832120" cy="30258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ольха"/>
          <p:cNvPicPr/>
          <p:nvPr/>
        </p:nvPicPr>
        <p:blipFill>
          <a:blip r:embed="rId4"/>
          <a:stretch/>
        </p:blipFill>
        <p:spPr>
          <a:xfrm>
            <a:off x="4932360" y="1484280"/>
            <a:ext cx="32320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nodeType="clickEffect" fill="hold">
                      <p:stCondLst>
                        <p:cond delay="0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2950"/>
                            </p:stCondLst>
                            <p:childTnLst>
                              <p:par>
                                <p:cTn id="73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74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6800"/>
                            </p:stCondLst>
                            <p:childTnLst>
                              <p:par>
                                <p:cTn id="74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8850"/>
                            </p:stCondLst>
                            <p:childTnLst>
                              <p:par>
                                <p:cTn id="75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nodeType="afterEffect" fill="hold">
                            <p:stCondLst>
                              <p:cond delay="9850"/>
                            </p:stCondLst>
                            <p:childTnLst>
                              <p:par>
                                <p:cTn id="75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179"/>
          <p:cNvSpPr/>
          <p:nvPr/>
        </p:nvSpPr>
        <p:spPr>
          <a:xfrm>
            <a:off x="4859280" y="1700280"/>
            <a:ext cx="3311640" cy="446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WordArt 2"/>
          <p:cNvSpPr txBox="1"/>
          <p:nvPr/>
        </p:nvSpPr>
        <p:spPr>
          <a:xfrm>
            <a:off x="684360" y="476280"/>
            <a:ext cx="741672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машнее задание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8" name="Text Box 177"/>
          <p:cNvSpPr/>
          <p:nvPr/>
        </p:nvSpPr>
        <p:spPr>
          <a:xfrm>
            <a:off x="755640" y="1989000"/>
            <a:ext cx="31687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рисовать рисунок формат А4 (на альбомном листе) одного из понравившихся деревье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думать загад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78" descr="NA00570_"/>
          <p:cNvPicPr/>
          <p:nvPr/>
        </p:nvPicPr>
        <p:blipFill>
          <a:blip r:embed="rId1"/>
          <a:stretch/>
        </p:blipFill>
        <p:spPr>
          <a:xfrm>
            <a:off x="5364000" y="1700280"/>
            <a:ext cx="2332080" cy="30240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80"/>
          <p:cNvSpPr/>
          <p:nvPr/>
        </p:nvSpPr>
        <p:spPr>
          <a:xfrm>
            <a:off x="5508720" y="4797360"/>
            <a:ext cx="2160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имой и летом одним цве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ел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nodeType="clickEffect" fill="hold">
                      <p:stCondLst>
                        <p:cond delay="0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9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0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1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nodeType="afterEffect" fill="hold">
                            <p:stCondLst>
                              <p:cond delay="4640"/>
                            </p:stCondLst>
                            <p:childTnLst>
                              <p:par>
                                <p:cTn id="77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nodeType="afterEffect" fill="hold">
                            <p:stCondLst>
                              <p:cond delay="5640"/>
                            </p:stCondLst>
                            <p:childTnLst>
                              <p:par>
                                <p:cTn id="7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9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0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1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Прямоугольник 1"/>
          <p:cNvSpPr/>
          <p:nvPr/>
        </p:nvSpPr>
        <p:spPr>
          <a:xfrm>
            <a:off x="2286000" y="35712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Информационные ресурс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826920" y="1413000"/>
            <a:ext cx="77756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оронкова, В.В. Программы для 5–9 классов специальных (коррекционных) учреждений 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III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ида: Сборник 2. [Текст] /В.В. Воронкова, Г.В. Васенков, С.Л.Мирский. – М.: Гуманит. изд. центр  ВЛАДОС, 2000. – 240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Журавлев Б.А. Столярное дело. Учебное пособие для 5-6 классов вспомогательной школы. [Текст] / Б.А. Журавлев. –  Издательство «Просвещение», 1988го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арабанов И.А. Справочник по трудовому обучению. [Текст]  / И.А. Карабанов «Просвещение»,  Москва 1991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Интернет- ресурсы: www.yande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ximage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u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.,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ww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qraZa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u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4"/>
          <p:cNvSpPr txBox="1"/>
          <p:nvPr/>
        </p:nvSpPr>
        <p:spPr>
          <a:xfrm>
            <a:off x="611280" y="404640"/>
            <a:ext cx="8064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чем вам все это нужно знать?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539640" y="1341360"/>
            <a:ext cx="4032360" cy="46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бы правильно определить по внешним признакам из древесины какой породы выполнена детал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я характеристики породы древесины, правильно подобрать инструменты для обработки детал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нимать как будет выглядеть готовое изделие  если изготовить его из древесины той или иной пор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ывать сколько необходимо потратить сил , чтобы изготовить деталь из древесины твердой пор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4"/>
          <p:cNvPicPr/>
          <p:nvPr/>
        </p:nvPicPr>
        <p:blipFill>
          <a:blip r:embed="rId1"/>
          <a:stretch/>
        </p:blipFill>
        <p:spPr>
          <a:xfrm>
            <a:off x="5580000" y="1413000"/>
            <a:ext cx="2324160" cy="44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400"/>
                            </p:stCondLst>
                            <p:childTnLst>
                              <p:par>
                                <p:cTn id="10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3"/>
          <p:cNvSpPr txBox="1"/>
          <p:nvPr/>
        </p:nvSpPr>
        <p:spPr>
          <a:xfrm>
            <a:off x="1187280" y="692280"/>
            <a:ext cx="65534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роды древесины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395280" y="2637000"/>
            <a:ext cx="331308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хвойные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4" name="WordArt 5"/>
          <p:cNvSpPr txBox="1"/>
          <p:nvPr/>
        </p:nvSpPr>
        <p:spPr>
          <a:xfrm>
            <a:off x="4643280" y="2852640"/>
            <a:ext cx="3961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лиственные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5" name="Line 6"/>
          <p:cNvSpPr/>
          <p:nvPr/>
        </p:nvSpPr>
        <p:spPr>
          <a:xfrm>
            <a:off x="5651640" y="1628640"/>
            <a:ext cx="1008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7"/>
          <p:cNvSpPr/>
          <p:nvPr/>
        </p:nvSpPr>
        <p:spPr>
          <a:xfrm flipH="1">
            <a:off x="2050920" y="1628640"/>
            <a:ext cx="9367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лист кедра"/>
          <p:cNvPicPr/>
          <p:nvPr/>
        </p:nvPicPr>
        <p:blipFill>
          <a:blip r:embed="rId1"/>
          <a:stretch/>
        </p:blipFill>
        <p:spPr>
          <a:xfrm>
            <a:off x="468360" y="3716280"/>
            <a:ext cx="3384360" cy="2430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3"/>
          <p:cNvPicPr/>
          <p:nvPr/>
        </p:nvPicPr>
        <p:blipFill>
          <a:blip r:embed="rId2"/>
          <a:stretch/>
        </p:blipFill>
        <p:spPr>
          <a:xfrm>
            <a:off x="4788000" y="3645000"/>
            <a:ext cx="352908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5"/>
          <p:cNvSpPr txBox="1"/>
          <p:nvPr/>
        </p:nvSpPr>
        <p:spPr>
          <a:xfrm>
            <a:off x="539640" y="620640"/>
            <a:ext cx="806472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Хвойные породы древесины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1116000" y="2133720"/>
            <a:ext cx="19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6600"/>
                </a:solidFill>
                <a:uFillTx/>
                <a:latin typeface="Arial"/>
                <a:hlinkClick r:id="rId1" action="ppaction://hlinksldjump"/>
              </a:rPr>
              <a:t>Сос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1116000" y="2997360"/>
            <a:ext cx="19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6600"/>
                </a:solidFill>
                <a:uFillTx/>
                <a:latin typeface="Arial"/>
                <a:hlinkClick r:id="rId2" action="ppaction://hlinksldjump"/>
              </a:rPr>
              <a:t>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1116000" y="3789360"/>
            <a:ext cx="19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6600"/>
                </a:solidFill>
                <a:uFillTx/>
                <a:latin typeface="Arial"/>
                <a:hlinkClick r:id="rId3" action="ppaction://hlinksldjump"/>
              </a:rPr>
              <a:t>Кед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1116000" y="4581360"/>
            <a:ext cx="19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6600"/>
                </a:solidFill>
                <a:uFillTx/>
                <a:latin typeface="Arial"/>
                <a:hlinkClick r:id="rId4" action="ppaction://hlinksldjump"/>
              </a:rPr>
              <a:t>Пих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1042920" y="544500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6600"/>
                </a:solidFill>
                <a:uFillTx/>
                <a:latin typeface="Arial"/>
                <a:hlinkClick r:id="rId5" action="ppaction://hlinksldjump"/>
              </a:rPr>
              <a:t>Лиственниц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1" descr="3"/>
          <p:cNvPicPr/>
          <p:nvPr/>
        </p:nvPicPr>
        <p:blipFill>
          <a:blip r:embed="rId6"/>
          <a:stretch/>
        </p:blipFill>
        <p:spPr>
          <a:xfrm>
            <a:off x="4932360" y="1628640"/>
            <a:ext cx="353520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395280" y="1557360"/>
            <a:ext cx="44640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евесина красновато-желта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еет небольшое количество суч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яется  в строительстве мост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гонов, судов, в настилке полов и др.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3"/>
          <p:cNvSpPr txBox="1"/>
          <p:nvPr/>
        </p:nvSpPr>
        <p:spPr>
          <a:xfrm>
            <a:off x="2916360" y="692280"/>
            <a:ext cx="28080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осна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8" name="AutoShape 6">
            <a:hlinkClick r:id="rId3" action="ppaction://hlinksldjump"/>
          </p:cNvPr>
          <p:cNvSpPr/>
          <p:nvPr/>
        </p:nvSpPr>
        <p:spPr>
          <a:xfrm>
            <a:off x="8604360" y="6308640"/>
            <a:ext cx="288720" cy="28908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1600" h="21627">
                <a:moveTo>
                  <a:pt x="0" y="0"/>
                </a:moveTo>
                <a:lnTo>
                  <a:pt x="21600" y="0"/>
                </a:lnTo>
                <a:lnTo>
                  <a:pt x="21600" y="21627"/>
                </a:lnTo>
                <a:lnTo>
                  <a:pt x="0" y="21627"/>
                </a:lnTo>
                <a:close/>
              </a:path>
              <a:path fill="lightenLess" w="21600" h="216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7">
                <a:moveTo>
                  <a:pt x="21600" y="0"/>
                </a:moveTo>
                <a:lnTo>
                  <a:pt x="21600" y="21627"/>
                </a:lnTo>
                <a:lnTo>
                  <a:pt x="20200" y="20227"/>
                </a:lnTo>
                <a:lnTo>
                  <a:pt x="20200" y="1400"/>
                </a:lnTo>
                <a:close/>
              </a:path>
              <a:path fill="darkenLess" w="21600" h="21627">
                <a:moveTo>
                  <a:pt x="21600" y="21627"/>
                </a:moveTo>
                <a:lnTo>
                  <a:pt x="0" y="21627"/>
                </a:lnTo>
                <a:lnTo>
                  <a:pt x="1400" y="20227"/>
                </a:lnTo>
                <a:lnTo>
                  <a:pt x="20200" y="20227"/>
                </a:lnTo>
                <a:close/>
              </a:path>
              <a:path fill="lighten" w="21600" h="21627">
                <a:moveTo>
                  <a:pt x="0" y="216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7"/>
                </a:lnTo>
                <a:close/>
              </a:path>
              <a:path fill="darken" w="21600" h="21627">
                <a:moveTo>
                  <a:pt x="3794" y="7506"/>
                </a:moveTo>
                <a:lnTo>
                  <a:pt x="7301" y="7506"/>
                </a:lnTo>
                <a:lnTo>
                  <a:pt x="7301" y="12841"/>
                </a:lnTo>
                <a:cubicBezTo>
                  <a:pt x="7301" y="13764"/>
                  <a:pt x="8102" y="14495"/>
                  <a:pt x="9138" y="14495"/>
                </a:cubicBezTo>
                <a:lnTo>
                  <a:pt x="10800" y="14495"/>
                </a:lnTo>
                <a:cubicBezTo>
                  <a:pt x="11836" y="14495"/>
                  <a:pt x="12636" y="13764"/>
                  <a:pt x="12636" y="12841"/>
                </a:cubicBezTo>
                <a:lnTo>
                  <a:pt x="12636" y="7506"/>
                </a:lnTo>
                <a:lnTo>
                  <a:pt x="10800" y="7506"/>
                </a:lnTo>
                <a:lnTo>
                  <a:pt x="14308" y="3998"/>
                </a:lnTo>
                <a:lnTo>
                  <a:pt x="17981" y="7506"/>
                </a:lnTo>
                <a:lnTo>
                  <a:pt x="16144" y="7506"/>
                </a:lnTo>
                <a:lnTo>
                  <a:pt x="16144" y="12841"/>
                </a:lnTo>
                <a:cubicBezTo>
                  <a:pt x="16144" y="15609"/>
                  <a:pt x="13568" y="18168"/>
                  <a:pt x="10800" y="18168"/>
                </a:cubicBezTo>
                <a:lnTo>
                  <a:pt x="9138" y="18168"/>
                </a:lnTo>
                <a:cubicBezTo>
                  <a:pt x="6370" y="18168"/>
                  <a:pt x="3794" y="15609"/>
                  <a:pt x="3794" y="12841"/>
                </a:cubicBez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9" descr="сосна"/>
          <p:cNvPicPr/>
          <p:nvPr/>
        </p:nvPicPr>
        <p:blipFill>
          <a:blip r:embed="rId4"/>
          <a:stretch/>
        </p:blipFill>
        <p:spPr>
          <a:xfrm>
            <a:off x="4932360" y="1557360"/>
            <a:ext cx="3456000" cy="4608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лист сосны"/>
          <p:cNvPicPr/>
          <p:nvPr/>
        </p:nvPicPr>
        <p:blipFill>
          <a:blip r:embed="rId5"/>
          <a:stretch/>
        </p:blipFill>
        <p:spPr>
          <a:xfrm>
            <a:off x="1403280" y="3284640"/>
            <a:ext cx="214632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18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19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6850"/>
                            </p:stCondLst>
                            <p:childTnLst>
                              <p:par>
                                <p:cTn id="20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8900"/>
                            </p:stCondLst>
                            <p:childTnLst>
                              <p:par>
                                <p:cTn id="20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9900"/>
                            </p:stCondLst>
                            <p:childTnLst>
                              <p:par>
                                <p:cTn id="21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468360" y="1341360"/>
            <a:ext cx="44640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евесина белая с желтоваты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тенком, сучковатая. Применя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изготовления музыкаль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струментов, строительных деталей и др.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3"/>
          <p:cNvSpPr txBox="1"/>
          <p:nvPr/>
        </p:nvSpPr>
        <p:spPr>
          <a:xfrm>
            <a:off x="2916360" y="692280"/>
            <a:ext cx="2808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Ель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" name="AutoShape 6">
            <a:hlinkClick r:id="rId3" action="ppaction://hlinksldjump"/>
          </p:cNvPr>
          <p:cNvSpPr/>
          <p:nvPr/>
        </p:nvSpPr>
        <p:spPr>
          <a:xfrm>
            <a:off x="8604360" y="6308640"/>
            <a:ext cx="288720" cy="28908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1600" h="21627">
                <a:moveTo>
                  <a:pt x="0" y="0"/>
                </a:moveTo>
                <a:lnTo>
                  <a:pt x="21600" y="0"/>
                </a:lnTo>
                <a:lnTo>
                  <a:pt x="21600" y="21627"/>
                </a:lnTo>
                <a:lnTo>
                  <a:pt x="0" y="21627"/>
                </a:lnTo>
                <a:close/>
              </a:path>
              <a:path fill="lightenLess" w="21600" h="216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7">
                <a:moveTo>
                  <a:pt x="21600" y="0"/>
                </a:moveTo>
                <a:lnTo>
                  <a:pt x="21600" y="21627"/>
                </a:lnTo>
                <a:lnTo>
                  <a:pt x="20200" y="20227"/>
                </a:lnTo>
                <a:lnTo>
                  <a:pt x="20200" y="1400"/>
                </a:lnTo>
                <a:close/>
              </a:path>
              <a:path fill="darkenLess" w="21600" h="21627">
                <a:moveTo>
                  <a:pt x="21600" y="21627"/>
                </a:moveTo>
                <a:lnTo>
                  <a:pt x="0" y="21627"/>
                </a:lnTo>
                <a:lnTo>
                  <a:pt x="1400" y="20227"/>
                </a:lnTo>
                <a:lnTo>
                  <a:pt x="20200" y="20227"/>
                </a:lnTo>
                <a:close/>
              </a:path>
              <a:path fill="lighten" w="21600" h="21627">
                <a:moveTo>
                  <a:pt x="0" y="216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7"/>
                </a:lnTo>
                <a:close/>
              </a:path>
              <a:path fill="darken" w="21600" h="21627">
                <a:moveTo>
                  <a:pt x="3794" y="7506"/>
                </a:moveTo>
                <a:lnTo>
                  <a:pt x="7301" y="7506"/>
                </a:lnTo>
                <a:lnTo>
                  <a:pt x="7301" y="12841"/>
                </a:lnTo>
                <a:cubicBezTo>
                  <a:pt x="7301" y="13764"/>
                  <a:pt x="8102" y="14495"/>
                  <a:pt x="9138" y="14495"/>
                </a:cubicBezTo>
                <a:lnTo>
                  <a:pt x="10800" y="14495"/>
                </a:lnTo>
                <a:cubicBezTo>
                  <a:pt x="11836" y="14495"/>
                  <a:pt x="12636" y="13764"/>
                  <a:pt x="12636" y="12841"/>
                </a:cubicBezTo>
                <a:lnTo>
                  <a:pt x="12636" y="7506"/>
                </a:lnTo>
                <a:lnTo>
                  <a:pt x="10800" y="7506"/>
                </a:lnTo>
                <a:lnTo>
                  <a:pt x="14308" y="3998"/>
                </a:lnTo>
                <a:lnTo>
                  <a:pt x="17981" y="7506"/>
                </a:lnTo>
                <a:lnTo>
                  <a:pt x="16144" y="7506"/>
                </a:lnTo>
                <a:lnTo>
                  <a:pt x="16144" y="12841"/>
                </a:lnTo>
                <a:cubicBezTo>
                  <a:pt x="16144" y="15609"/>
                  <a:pt x="13568" y="18168"/>
                  <a:pt x="10800" y="18168"/>
                </a:cubicBezTo>
                <a:lnTo>
                  <a:pt x="9138" y="18168"/>
                </a:lnTo>
                <a:cubicBezTo>
                  <a:pt x="6370" y="18168"/>
                  <a:pt x="3794" y="15609"/>
                  <a:pt x="3794" y="12841"/>
                </a:cubicBez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3"/>
          <p:cNvPicPr/>
          <p:nvPr/>
        </p:nvPicPr>
        <p:blipFill>
          <a:blip r:embed="rId4"/>
          <a:stretch/>
        </p:blipFill>
        <p:spPr>
          <a:xfrm>
            <a:off x="4932360" y="1628640"/>
            <a:ext cx="3535200" cy="4562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4"/>
          <p:cNvPicPr/>
          <p:nvPr/>
        </p:nvPicPr>
        <p:blipFill>
          <a:blip r:embed="rId5"/>
          <a:stretch/>
        </p:blipFill>
        <p:spPr>
          <a:xfrm>
            <a:off x="1476360" y="2924280"/>
            <a:ext cx="200808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22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23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6450"/>
                            </p:stCondLst>
                            <p:childTnLst>
                              <p:par>
                                <p:cTn id="23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8700"/>
                            </p:stCondLst>
                            <p:childTnLst>
                              <p:par>
                                <p:cTn id="24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9700"/>
                            </p:stCondLst>
                            <p:childTnLst>
                              <p:par>
                                <p:cTn id="24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AutoShape 6">
            <a:hlinkClick r:id="rId1" action="ppaction://hlinksldjump"/>
          </p:cNvPr>
          <p:cNvSpPr/>
          <p:nvPr/>
        </p:nvSpPr>
        <p:spPr>
          <a:xfrm>
            <a:off x="8604360" y="6308640"/>
            <a:ext cx="288720" cy="28908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1600" h="21627">
                <a:moveTo>
                  <a:pt x="0" y="0"/>
                </a:moveTo>
                <a:lnTo>
                  <a:pt x="21600" y="0"/>
                </a:lnTo>
                <a:lnTo>
                  <a:pt x="21600" y="21627"/>
                </a:lnTo>
                <a:lnTo>
                  <a:pt x="0" y="21627"/>
                </a:lnTo>
                <a:close/>
              </a:path>
              <a:path fill="lightenLess" w="21600" h="216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7">
                <a:moveTo>
                  <a:pt x="21600" y="0"/>
                </a:moveTo>
                <a:lnTo>
                  <a:pt x="21600" y="21627"/>
                </a:lnTo>
                <a:lnTo>
                  <a:pt x="20200" y="20227"/>
                </a:lnTo>
                <a:lnTo>
                  <a:pt x="20200" y="1400"/>
                </a:lnTo>
                <a:close/>
              </a:path>
              <a:path fill="darkenLess" w="21600" h="21627">
                <a:moveTo>
                  <a:pt x="21600" y="21627"/>
                </a:moveTo>
                <a:lnTo>
                  <a:pt x="0" y="21627"/>
                </a:lnTo>
                <a:lnTo>
                  <a:pt x="1400" y="20227"/>
                </a:lnTo>
                <a:lnTo>
                  <a:pt x="20200" y="20227"/>
                </a:lnTo>
                <a:close/>
              </a:path>
              <a:path fill="lighten" w="21600" h="21627">
                <a:moveTo>
                  <a:pt x="0" y="216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7"/>
                </a:lnTo>
                <a:close/>
              </a:path>
              <a:path fill="darken" w="21600" h="21627">
                <a:moveTo>
                  <a:pt x="3794" y="7506"/>
                </a:moveTo>
                <a:lnTo>
                  <a:pt x="7301" y="7506"/>
                </a:lnTo>
                <a:lnTo>
                  <a:pt x="7301" y="12841"/>
                </a:lnTo>
                <a:cubicBezTo>
                  <a:pt x="7301" y="13764"/>
                  <a:pt x="8102" y="14495"/>
                  <a:pt x="9138" y="14495"/>
                </a:cubicBezTo>
                <a:lnTo>
                  <a:pt x="10800" y="14495"/>
                </a:lnTo>
                <a:cubicBezTo>
                  <a:pt x="11836" y="14495"/>
                  <a:pt x="12636" y="13764"/>
                  <a:pt x="12636" y="12841"/>
                </a:cubicBezTo>
                <a:lnTo>
                  <a:pt x="12636" y="7506"/>
                </a:lnTo>
                <a:lnTo>
                  <a:pt x="10800" y="7506"/>
                </a:lnTo>
                <a:lnTo>
                  <a:pt x="14308" y="3998"/>
                </a:lnTo>
                <a:lnTo>
                  <a:pt x="17981" y="7506"/>
                </a:lnTo>
                <a:lnTo>
                  <a:pt x="16144" y="7506"/>
                </a:lnTo>
                <a:lnTo>
                  <a:pt x="16144" y="12841"/>
                </a:lnTo>
                <a:cubicBezTo>
                  <a:pt x="16144" y="15609"/>
                  <a:pt x="13568" y="18168"/>
                  <a:pt x="10800" y="18168"/>
                </a:cubicBezTo>
                <a:lnTo>
                  <a:pt x="9138" y="18168"/>
                </a:lnTo>
                <a:cubicBezTo>
                  <a:pt x="6370" y="18168"/>
                  <a:pt x="3794" y="15609"/>
                  <a:pt x="3794" y="12841"/>
                </a:cubicBez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16"/>
          <p:cNvSpPr txBox="1"/>
          <p:nvPr/>
        </p:nvSpPr>
        <p:spPr>
          <a:xfrm>
            <a:off x="1979640" y="404640"/>
            <a:ext cx="6121440" cy="107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тгадай ребус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8" name="Picture 17" descr="10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1547640" y="1773360"/>
            <a:ext cx="6913800" cy="1904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8" descr="11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1692360" y="4221000"/>
            <a:ext cx="6913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AutoShape 6">
            <a:hlinkClick r:id="rId1" action="ppaction://hlinksldjump"/>
          </p:cNvPr>
          <p:cNvSpPr/>
          <p:nvPr/>
        </p:nvSpPr>
        <p:spPr>
          <a:xfrm>
            <a:off x="8604360" y="6308640"/>
            <a:ext cx="288720" cy="28908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1600" h="21627">
                <a:moveTo>
                  <a:pt x="0" y="0"/>
                </a:moveTo>
                <a:lnTo>
                  <a:pt x="21600" y="0"/>
                </a:lnTo>
                <a:lnTo>
                  <a:pt x="21600" y="21627"/>
                </a:lnTo>
                <a:lnTo>
                  <a:pt x="0" y="21627"/>
                </a:lnTo>
                <a:close/>
              </a:path>
              <a:path fill="lightenLess" w="21600" h="216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7">
                <a:moveTo>
                  <a:pt x="21600" y="0"/>
                </a:moveTo>
                <a:lnTo>
                  <a:pt x="21600" y="21627"/>
                </a:lnTo>
                <a:lnTo>
                  <a:pt x="20200" y="20227"/>
                </a:lnTo>
                <a:lnTo>
                  <a:pt x="20200" y="1400"/>
                </a:lnTo>
                <a:close/>
              </a:path>
              <a:path fill="darkenLess" w="21600" h="21627">
                <a:moveTo>
                  <a:pt x="21600" y="21627"/>
                </a:moveTo>
                <a:lnTo>
                  <a:pt x="0" y="21627"/>
                </a:lnTo>
                <a:lnTo>
                  <a:pt x="1400" y="20227"/>
                </a:lnTo>
                <a:lnTo>
                  <a:pt x="20200" y="20227"/>
                </a:lnTo>
                <a:close/>
              </a:path>
              <a:path fill="lighten" w="21600" h="21627">
                <a:moveTo>
                  <a:pt x="0" y="216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7"/>
                </a:lnTo>
                <a:close/>
              </a:path>
              <a:path fill="darken" w="21600" h="21627">
                <a:moveTo>
                  <a:pt x="3794" y="7506"/>
                </a:moveTo>
                <a:lnTo>
                  <a:pt x="7301" y="7506"/>
                </a:lnTo>
                <a:lnTo>
                  <a:pt x="7301" y="12841"/>
                </a:lnTo>
                <a:cubicBezTo>
                  <a:pt x="7301" y="13764"/>
                  <a:pt x="8102" y="14495"/>
                  <a:pt x="9138" y="14495"/>
                </a:cubicBezTo>
                <a:lnTo>
                  <a:pt x="10800" y="14495"/>
                </a:lnTo>
                <a:cubicBezTo>
                  <a:pt x="11836" y="14495"/>
                  <a:pt x="12636" y="13764"/>
                  <a:pt x="12636" y="12841"/>
                </a:cubicBezTo>
                <a:lnTo>
                  <a:pt x="12636" y="7506"/>
                </a:lnTo>
                <a:lnTo>
                  <a:pt x="10800" y="7506"/>
                </a:lnTo>
                <a:lnTo>
                  <a:pt x="14308" y="3998"/>
                </a:lnTo>
                <a:lnTo>
                  <a:pt x="17981" y="7506"/>
                </a:lnTo>
                <a:lnTo>
                  <a:pt x="16144" y="7506"/>
                </a:lnTo>
                <a:lnTo>
                  <a:pt x="16144" y="12841"/>
                </a:lnTo>
                <a:cubicBezTo>
                  <a:pt x="16144" y="15609"/>
                  <a:pt x="13568" y="18168"/>
                  <a:pt x="10800" y="18168"/>
                </a:cubicBezTo>
                <a:lnTo>
                  <a:pt x="9138" y="18168"/>
                </a:lnTo>
                <a:cubicBezTo>
                  <a:pt x="6370" y="18168"/>
                  <a:pt x="3794" y="15609"/>
                  <a:pt x="3794" y="12841"/>
                </a:cubicBez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WordArt 3"/>
          <p:cNvSpPr txBox="1"/>
          <p:nvPr/>
        </p:nvSpPr>
        <p:spPr>
          <a:xfrm>
            <a:off x="1979640" y="404640"/>
            <a:ext cx="6121440" cy="107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тгадай ребус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2" name="Picture 6" descr="7"/>
          <p:cNvPicPr/>
          <p:nvPr/>
        </p:nvPicPr>
        <p:blipFill>
          <a:blip r:embed="rId2"/>
          <a:stretch/>
        </p:blipFill>
        <p:spPr>
          <a:xfrm>
            <a:off x="1763640" y="1989000"/>
            <a:ext cx="6480360" cy="1905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12"/>
          <p:cNvPicPr/>
          <p:nvPr/>
        </p:nvPicPr>
        <p:blipFill>
          <a:blip r:embed="rId3"/>
          <a:stretch/>
        </p:blipFill>
        <p:spPr>
          <a:xfrm>
            <a:off x="1547640" y="4292640"/>
            <a:ext cx="69120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21:00:30Z</dcterms:created>
  <dc:creator>Root</dc:creator>
  <dc:description/>
  <dc:language>en-US</dc:language>
  <cp:lastModifiedBy>Глушак ТК</cp:lastModifiedBy>
  <dcterms:modified xsi:type="dcterms:W3CDTF">2016-12-01T16:23:22Z</dcterms:modified>
  <cp:revision>46</cp:revision>
  <dc:subject/>
  <dc:title>Слайд 1</dc:title>
</cp:coreProperties>
</file>