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28.jpeg" ContentType="image/jpeg"/>
  <Override PartName="/ppt/media/image34.jpeg" ContentType="image/jpeg"/>
  <Override PartName="/ppt/media/image18.png" ContentType="image/png"/>
  <Override PartName="/ppt/media/image6.jpeg" ContentType="image/jpeg"/>
  <Override PartName="/ppt/media/image30.wmf" ContentType="image/x-wmf"/>
  <Override PartName="/ppt/media/image33.jpeg" ContentType="image/jpeg"/>
  <Override PartName="/ppt/media/image27.jpeg" ContentType="image/jpeg"/>
  <Override PartName="/ppt/media/image8.png" ContentType="image/png"/>
  <Override PartName="/ppt/media/image7.jpeg" ContentType="image/jpeg"/>
  <Override PartName="/ppt/media/image5.gif" ContentType="image/gif"/>
  <Override PartName="/ppt/media/image11.jpeg" ContentType="image/jpeg"/>
  <Override PartName="/ppt/media/image29.jpeg" ContentType="image/jpeg"/>
  <Override PartName="/ppt/media/image13.jpeg" ContentType="image/jpeg"/>
  <Override PartName="/ppt/media/image31.jpeg" ContentType="image/jpeg"/>
  <Override PartName="/ppt/media/image4.wmf" ContentType="image/x-wmf"/>
  <Override PartName="/ppt/media/image3.gif" ContentType="image/gif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108-918C-464D-B709-0CBC9E60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04A-EE1D-4E94-B446-86E67765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BAD-8D5C-49DA-985B-EAD76BA7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F08-9D00-4F44-AAD0-42916960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3787-9904-4D9C-95D0-267C7BDC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2B14-F812-42E3-A971-70B5B41D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164E-134E-4435-9BAB-6AEAB33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B458-12D0-43C4-9FC9-1C8E9D98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8157-568F-4667-A4CE-D8B5EE1F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5954-7922-4FAA-9BC4-3895DB05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3C13-AA1F-473F-802C-1660E34E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B02-85FE-441C-98A4-F447E41C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53A2-8CFB-49C8-8814-9510063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3B47-D736-4C13-9E88-D38DA124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EC65-404F-4C26-B58C-18BD9A58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CF04-EF47-4993-A89C-3EFF5C81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95C3-01C5-4A97-9196-912FC048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BF548-6A07-430F-B124-5F9F773D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F9792-84CA-4D5E-BD2E-7F17DC17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D3B46-0C59-4A39-ABCE-5C89C7E3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E3C9E-63A6-4968-BBE7-307D09A5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F940C-B873-49E8-8227-1BD1215B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838-6794-4EE2-9C57-FE805F62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9CAD0-DE8F-438E-8ABC-AA830F98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BC79D-EE82-4A18-8E3A-5F96B41A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E9BF6-C7AC-475D-A331-D8F3B5F3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30CEC-B86C-439A-B703-BD56B3FE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8D92B-13C9-4BE2-A8F3-4A5C7089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23241-2BB9-41B7-8878-48DED115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2ABFD-78EA-437F-87BF-D2C4549A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D887-15F5-4E87-A70B-AF65514B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6547-13DA-4C7F-8B0C-FB694AE2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55034-D2E8-4FC1-89E1-6C1A4BFD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0FF-B1C3-401A-BEBB-F0A352CE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0020E-DFF5-4753-8B73-1E374143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85E31-C31B-486B-A49D-C7CA3BE1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3C4C-1FD9-4295-8626-FC88930D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8D10B-0786-4A4A-81E4-540BCD23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5B60-1D3A-4D12-ABE7-05606F5A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A211D-030C-4084-8637-69CA1DCE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98377-20B2-4ABC-BFCF-E53FC02C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6053-D1CC-4DAC-AB41-A4D5AF2E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CA9AB-B279-411F-8BF5-A31DF3B3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BAB-C33B-478F-B5E5-5CE59FFF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978-7391-4C59-BDDC-F2D9D63F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C3D-0D9B-43ED-A5D1-0194D04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80E-10E6-4C32-8D8D-66462074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C09-D7FE-419F-8686-9A7209A2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07D3-0801-4A53-BE81-C5258BBEC9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2A3A-D6C8-471F-8A7A-A7727F1885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8E72-4B22-493C-A668-50373E70CC57}" type="slidenum">
              <a:rPr b="0" lang="en-US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C3D9-5239-4421-9137-75A2D0C21C7C}" type="slidenum">
              <a:rPr b="0" lang="en-US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17524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14800" y="533520"/>
            <a:ext cx="3733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оект по математик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3962520"/>
            <a:ext cx="7315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00b2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ринные меры </a:t>
            </a:r>
            <a:endParaRPr b="0" i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00b2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00b2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уроках математики.</a:t>
            </a:r>
            <a:endParaRPr b="0" i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00b2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5" name="Picture 0" descr="1052237326_bg"/>
          <p:cNvPicPr/>
          <p:nvPr/>
        </p:nvPicPr>
        <p:blipFill>
          <a:blip r:embed="rId2"/>
          <a:stretch/>
        </p:blipFill>
        <p:spPr>
          <a:xfrm>
            <a:off x="228600" y="228600"/>
            <a:ext cx="3505320" cy="2666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Мелкие меры дли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ПЯДЬ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пядница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АЛАЯ ПЯД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с 17-го века она называлась - "четверть" &lt;аршина&gt;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17,78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ОЛЬШАЯ ПЯДЬ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стояние между концами большого пальца и мизинца =22-23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 Я Д Ь С КУВЫРКОМ (по Далю)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ядь с прибавкой двух суставов указательного палиц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27-31 с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Picture 5" descr="1"/>
          <p:cNvPicPr/>
          <p:nvPr/>
        </p:nvPicPr>
        <p:blipFill>
          <a:blip r:embed="rId1"/>
          <a:stretch/>
        </p:blipFill>
        <p:spPr>
          <a:xfrm>
            <a:off x="179280" y="333360"/>
            <a:ext cx="1524240" cy="18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ША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средняя длина человеческого шага = 71 см. Одна из древнейших мер длин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Picture 4" descr="16"/>
          <p:cNvPicPr/>
          <p:nvPr/>
        </p:nvPicPr>
        <p:blipFill>
          <a:blip r:embed="rId1"/>
          <a:stretch/>
        </p:blipFill>
        <p:spPr>
          <a:xfrm>
            <a:off x="2987640" y="1778040"/>
            <a:ext cx="3888000" cy="3738600"/>
          </a:xfrm>
          <a:prstGeom prst="rect">
            <a:avLst/>
          </a:prstGeom>
          <a:ln w="0">
            <a:noFill/>
          </a:ln>
        </p:spPr>
      </p:pic>
      <p:sp>
        <p:nvSpPr>
          <p:cNvPr id="291" name="Line 5"/>
          <p:cNvSpPr/>
          <p:nvPr/>
        </p:nvSpPr>
        <p:spPr>
          <a:xfrm flipV="1">
            <a:off x="4067280" y="4076640"/>
            <a:ext cx="1944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ЕРСТ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старорусская путевая мер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её раннее название - ''поприще''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им словом, первоначально называли расстояние, пройденное от одного поворота плуга до другого во время пахот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а названия долгое время употреблялись параллельно, как синоним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6588000" y="4653000"/>
            <a:ext cx="165744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440" y="1483920"/>
            <a:ext cx="4606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о царя Алексея Михайловича в 1 версте считали 1000 сажене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Петре Первом одна верста равнялась 500 саженей, в современном исчислении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13,36 X 500 = 1066,8 м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Верстой" также назывался верстовой столб на дорог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4" descr="0010-007-Versta-rasstojanie-v-500-raz-bolshe-sazheni-1-versta-1540-m-V"/>
          <p:cNvPicPr/>
          <p:nvPr/>
        </p:nvPicPr>
        <p:blipFill>
          <a:blip r:embed="rId1"/>
          <a:stretch/>
        </p:blipFill>
        <p:spPr>
          <a:xfrm>
            <a:off x="5508720" y="1557360"/>
            <a:ext cx="2984400" cy="43686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755640" y="26028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Справка из истор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МЕЖЕВАЯ ВЕРСТ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старорусская единица измерения, равная двум верста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сту в 1000 сажен (2,16 км) употребляли широко в качестве межевой меры, обычно при определении выгонов вокруг крупных городов, а на окраинах России, особенно в Сибири - и для измерения расстояний между населенными пунктами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480"/>
                            </p:stCondLst>
                            <p:childTnLst>
                              <p:par>
                                <p:cTn id="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73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АЖЕН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одна из наиболее распространенных на Руси мер длин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4067280" y="4365720"/>
            <a:ext cx="453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" Косая сажен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"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- самая длинная: расстояние от носка левой ноги до конца среднего пальца поднятой вверх правой руки. Используется в словосочетании: "у него косая сажень в плечах " (в значении - богатырь, великан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900000" y="2349360"/>
            <a:ext cx="4464000" cy="25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Разновидности по назнач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"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Маховая сажен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- расстояние между концами пальцев широко расставленных рук взрослого мужч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55640" y="2924280"/>
            <a:ext cx="4680000" cy="1296720"/>
          </a:xfrm>
          <a:prstGeom prst="rect">
            <a:avLst/>
          </a:pr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4211640" y="4292640"/>
            <a:ext cx="4248000" cy="2160720"/>
          </a:xfrm>
          <a:prstGeom prst="rect">
            <a:avLst/>
          </a:pr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"/>
          <p:cNvPicPr/>
          <p:nvPr/>
        </p:nvPicPr>
        <p:blipFill>
          <a:blip r:embed="rId1"/>
          <a:stretch/>
        </p:blipFill>
        <p:spPr>
          <a:xfrm>
            <a:off x="5508720" y="1744560"/>
            <a:ext cx="279072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900"/>
                            </p:stCondLst>
                            <p:childTnLst>
                              <p:par>
                                <p:cTn id="4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7900"/>
                            </p:stCondLst>
                            <p:childTnLst>
                              <p:par>
                                <p:cTn id="4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6800"/>
                            </p:stCondLst>
                            <p:childTnLst>
                              <p:par>
                                <p:cTn id="4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8800"/>
                            </p:stCondLst>
                            <p:childTnLst>
                              <p:par>
                                <p:cTn id="4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000" y="4005360"/>
            <a:ext cx="8272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личина этой древнейшей меры длины, по разным источникам, составляла от 38 до 47 с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16-го века постепенно вытесняется аршином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9 веке почти не употребляется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08000" y="11592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ЛОКОТ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авнялся длине руки от пальцев до локтя (по другим данным - "расстояние по прямой от локтевого сгиба до конца вытянутого среднего пальца руки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"/>
          <p:cNvPicPr/>
          <p:nvPr/>
        </p:nvPicPr>
        <p:blipFill>
          <a:blip r:embed="rId1"/>
          <a:stretch/>
        </p:blipFill>
        <p:spPr>
          <a:xfrm>
            <a:off x="6443640" y="1197000"/>
            <a:ext cx="168588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1100"/>
                            </p:stCondLst>
                            <p:childTnLst>
                              <p:par>
                                <p:cTn id="4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6800"/>
                            </p:stCondLst>
                            <p:childTnLst>
                              <p:par>
                                <p:cTn id="4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ВЕРШОК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внялся 1/16 аршина, 1/4 четверти. В современном исчислении - 4,44с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539640" y="4437000"/>
            <a:ext cx="777564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именование "Вершок" происходит от слова "верх". В литературе XVII в. встречаются и доли вершка - полвершки и четвертьвер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4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8000" y="151920"/>
            <a:ext cx="8424720" cy="16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ры длины (употреблявшиеся в России после "Указа" 1835 г. и до введения метрической системы)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6985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верста =  500 саженей = 50 шестов = 10 цепей = 1,0668 километр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сажень =  3 аршина = 7 фут = 48 вершков = 2,1336 метр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осая сажень = 2,48 м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аховая сажень = 1,76 м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аршин =  4 четверти (пяди) = 16 вершков = 28 дюймов = 71,12 см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на аршин обычно наносили деления в вершках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локоть =  44 см (по разным источникам от 38 до 47 см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фут =  1/7 сажени = 12 дюймов = 30,479 с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6948360" y="4221000"/>
            <a:ext cx="138132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8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8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8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800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000"/>
                            </p:stCondLst>
                            <p:childTnLst>
                              <p:par>
                                <p:cTn id="5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000"/>
                            </p:stCondLst>
                            <p:childTnLst>
                              <p:par>
                                <p:cTn id="5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762120" y="152388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Меры объема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МОУ «Обоянская Средняя общеобразовательная школа №1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Авто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Шеверева У– 7б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ергеева Е – 7б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Лунева Валентина Лукьян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2015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7777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Ведр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основная русская дометрическая мера объема жидкостей – ведр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Ведр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железная, деревянная или кожаная посуда, преимущественно цилиндрической формы, с ушками или дужкой для ношен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4" name="Picture 5" descr="57364324_SHibanov_Evgeniy_r"/>
          <p:cNvPicPr/>
          <p:nvPr/>
        </p:nvPicPr>
        <p:blipFill>
          <a:blip r:embed="rId1"/>
          <a:stretch/>
        </p:blipFill>
        <p:spPr>
          <a:xfrm>
            <a:off x="0" y="3397320"/>
            <a:ext cx="2741760" cy="3460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8"/>
          <p:cNvSpPr/>
          <p:nvPr/>
        </p:nvSpPr>
        <p:spPr>
          <a:xfrm>
            <a:off x="2484360" y="3357720"/>
            <a:ext cx="6228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обиходе, два ведра на коромысле должны быть "в подъём женщине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ление на более мелкие меры проводилось по двоичному принципу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2843280" y="5805360"/>
            <a:ext cx="6121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ведро делили на 2 полуведра или на 4 четверти ведра или на 8 получетвертей, а также на кружки и ча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400"/>
                            </p:stCondLst>
                            <p:childTnLst>
                              <p:par>
                                <p:cTn id="5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9050"/>
                            </p:stCondLst>
                            <p:childTnLst>
                              <p:par>
                                <p:cTn id="6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50"/>
                            </p:stCondLst>
                            <p:childTnLst>
                              <p:par>
                                <p:cTn id="6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2050"/>
                            </p:stCondLst>
                            <p:childTnLst>
                              <p:par>
                                <p:cTn id="6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4608360" cy="16272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 середины XVII в. в ведре содержалось 12 круже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 второй половине XVII в. так называемое казённое ведро содержало 10 кружек, а в кружке — 10 чарок, так что, в ведро входило 100 чаро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тем, по указу 1652 года чарки сделали втрое больше по сравнению с прежними ("чарки в три чарки"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торговое ведро вмещалось 8 круже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начение ведра было переменным, а значение кружки неизменным, в 3 фунта воды (1228,5 грамма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бъем ведра был равен 134,297 кубических вершк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79280" y="18900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Справка из ис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500"/>
                            </p:stCondLst>
                            <p:childTnLst>
                              <p:par>
                                <p:cTn id="6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500"/>
                            </p:stCondLst>
                            <p:childTnLst>
                              <p:par>
                                <p:cTn id="6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91208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Боч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как мера жидкостей, применялась в основном в процессе торговли с иностранцами, которым запрещалось вести розничную торговлю вином на малые м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внялась 40 ведрам (492 л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3889440" cy="17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7000"/>
                            </p:stCondLst>
                            <p:childTnLst>
                              <p:par>
                                <p:cTn id="7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8600"/>
                            </p:stCondLst>
                            <p:childTnLst>
                              <p:par>
                                <p:cTn id="7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7696080" cy="50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териал для изготовления бочки выбирали в зависимости от её назначения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дуб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для пива и растительных масел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ель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под воду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лип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для молока и мёд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аще всего в крестьянском быту использовались небольшие бочки и бочонки от 5-и до 120-и литров. Большие бочки вмещали до сорока вёдер (сороковки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очки использовали так же и для стирки (отбивки) бель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50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74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XV в. еще были распространены старинные меры - голважня, лукно и уборок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XVI-XVII вв. наряду с довольно распространенными коробьей и пузом часто встречается вятская хлебная мера куница, пермская сапца (мера соли и хлеба), старорусские луб и поше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2050920" y="4979880"/>
            <a:ext cx="684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ятская куница-3 московские 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апца - 6 пудов соли и приблизительно 3 пуда рж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уб - 5 пудов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шев - около 15 пудов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755640" y="260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Справка из ис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500"/>
                            </p:stCondLst>
                            <p:childTnLst>
                              <p:par>
                                <p:cTn id="7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1752480"/>
            <a:ext cx="73152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Меры веса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5667480" y="2695680"/>
            <a:ext cx="3476520" cy="41623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324000" y="2349360"/>
            <a:ext cx="7561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Берковец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от названия острова Бьер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468360" y="3213000"/>
            <a:ext cx="52578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 на Руси называлась мера веса в 10 пудов, как раз стандартная бочка с воском, которую один человек мог закатить на купеческую ладью, плывущую на этот самый остров. (163,8 к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7885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БЕРКОВЕЦ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эта большая мера веса, употреблялась в оптовой торговле преимущественно для взвешивания воска, меда и т.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6500"/>
                            </p:stCondLst>
                            <p:childTnLst>
                              <p:par>
                                <p:cTn id="8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96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ЗОЛОТНИК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внялся 1/96 фунта, в современном исчислении 4,26 г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 него говорил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мал золотник да дорог"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слово первоначально обозначало зoлотую монет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150"/>
                            </p:stCondLst>
                            <p:childTnLst>
                              <p:par>
                                <p:cTn id="8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4400"/>
                            </p:stCondLst>
                            <p:childTnLst>
                              <p:par>
                                <p:cTn id="8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900"/>
                            </p:stCondLst>
                            <p:childTnLst>
                              <p:par>
                                <p:cTn id="8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460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ФУН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от латинского слова 'pondus' - вес, гиря) равнялся 32 лотам, 96 золотникам, 1/40 пуд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овременном исчислении 409,50 г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льзуется в сочетаниях: "не фунт изюма", "узнать почём фунт лиха"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усский фунт был принят при Алексее Михайлович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350"/>
                            </p:stCondLst>
                            <p:childTnLst>
                              <p:par>
                                <p:cTn id="8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6300"/>
                            </p:stCondLst>
                            <p:childTnLst>
                              <p:par>
                                <p:cTn id="8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975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у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(от латинского pondus - вес, тяжесть) это не только мера веса, но и весоизмерительное устройств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взвешивании металлов пуд являлся как единицей измерения, так и счётной единиц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же когда результаты взвешиваний являлись десяткам и сотням пудов, их не переводили в берковц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2881440" cy="24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9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9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9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9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2280" y="493560"/>
            <a:ext cx="849636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2a09ef"/>
                </a:solidFill>
                <a:latin typeface="Tahoma"/>
              </a:rPr>
              <a:t>Основная цель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следовать реальную                 ситуацию по знанию старинных 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никами 6- классов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b2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9501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9ef"/>
                </a:solidFill>
                <a:latin typeface="Tahoma"/>
              </a:rPr>
              <a:t>Гипотеза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учащиеся будут знать соотношение старинных русских мер и современных единиц измерения величин, то это поможет им легче понять содержание учебных и художественных текстов.</a:t>
            </a:r>
            <a:r>
              <a:rPr b="1" lang="en-US" sz="2400" spc="-1" strike="noStrike">
                <a:solidFill>
                  <a:srgbClr val="2a09e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9ef"/>
                </a:solidFill>
                <a:latin typeface="Tahoma"/>
              </a:rPr>
              <a:t>Объектом</a:t>
            </a:r>
            <a:r>
              <a:rPr b="0" lang="en-US" sz="2400" spc="-1" strike="noStrike">
                <a:solidFill>
                  <a:srgbClr val="2a09e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исследования являются учащиеся 6- класс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9ef"/>
                </a:solidFill>
                <a:latin typeface="Tahoma"/>
              </a:rPr>
              <a:t>Предм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исследования – знание старинных русских 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5181480"/>
            <a:ext cx="213372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ще в XI-XII вв. употребляли различные весы с равноплечим и неравноплечим коромыслом: "пуд" - разновидность весов с переменной точкой опоры и неподвижной гирей, "скалвы" - равноплечие весы (двухчашечные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84360" y="620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Справка из ис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9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914400"/>
            <a:ext cx="72392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Меры площади</a:t>
            </a:r>
            <a:endParaRPr b="1" i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696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новной мерой измерения площадей считалась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есятина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а также, доли десятины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десятины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тверть (четь - составляла 40 сажен длины и 30 широты) и так дале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емлемеры применяли (особенно после "Соборного уложения" 1649 г.) преимущественно, казённую трехаршинную сажень=2.1336 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аким образом, десятина в 2400 квадратных сажен≈1.093 гектар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1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5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9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первой половине XVI века выяснилось, что при измерении земель в четвертях общая опись земель затянется на много л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тогда в 40-х годах XVI века один из просвещеннейших людей Ермолай Еразм предложил пользоваться более крупной единицей — четверогранным поприщем, под которым подразумевалась квадратная площадь со стороной в 1000-саженную верст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 предложение не было принято, но сыграло определенную роль в процессе введения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ольшой сох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755640" y="260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Справка из ис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7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69608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Меры площади поверх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кв. верста = 250000 квадратных саженей = 1,138 кв. километ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десятина = 2400 квадратных саженей = 1,093 гекта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копна = 0,1 десятин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кв. сажень = 16 квадратных аршинов = 4,552 кв. мет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кв. аршин=0,5058 кв. мет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кв. вершок=19,76 кв. с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кв. фут=9,29 кв. дюйма=0,0929 кв. 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кв. дюйм=6,452 кв. сантиметр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0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4700"/>
                            </p:stCondLst>
                            <p:childTnLst>
                              <p:par>
                                <p:cTn id="10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7350"/>
                            </p:stCondLst>
                            <p:childTnLst>
                              <p:par>
                                <p:cTn id="10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8750"/>
                            </p:stCondLst>
                            <p:childTnLst>
                              <p:par>
                                <p:cTn id="10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1450"/>
                            </p:stCondLst>
                            <p:childTnLst>
                              <p:par>
                                <p:cTn id="10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3150"/>
                            </p:stCondLst>
                            <p:childTnLst>
                              <p:par>
                                <p:cTn id="10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4700"/>
                            </p:stCondLst>
                            <p:childTnLst>
                              <p:par>
                                <p:cTn id="10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6750"/>
                            </p:stCondLst>
                            <p:childTnLst>
                              <p:par>
                                <p:cTn id="10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Денежные ме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00280" y="182880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332320" y="1828800"/>
            <a:ext cx="2325960" cy="1752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695600" y="3733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5311800" y="3733920"/>
            <a:ext cx="2368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c8600"/>
                </a:solidFill>
                <a:latin typeface="Comic Sans MS"/>
              </a:rPr>
              <a:t>А на Руси в древние времена рубль был в виде бруска серебр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вые рубли на Руси были в виде бруска из серебра массой в 200 грамм. На такой рубль можно было много чего купить. В то время на гривенник (10 копеек) можно было втроём пообедать в дорогом трактире. Покупательная способность рубля менялась время от времени. Особенно заметно она упала в настоящее время. Рубль оставался рублём и в разные времена имел ещё и разные названия: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целковый, монета, карбованец, тин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3352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Часы бывают раз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" descr="Кремлевские куранты"/>
          <p:cNvPicPr/>
          <p:nvPr/>
        </p:nvPicPr>
        <p:blipFill>
          <a:blip r:embed="rId1"/>
          <a:stretch/>
        </p:blipFill>
        <p:spPr>
          <a:xfrm>
            <a:off x="914400" y="114300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С о л н е ч н ы е ч а с ы"/>
          <p:cNvPicPr/>
          <p:nvPr/>
        </p:nvPicPr>
        <p:blipFill>
          <a:blip r:embed="rId2"/>
          <a:stretch/>
        </p:blipFill>
        <p:spPr>
          <a:xfrm>
            <a:off x="0" y="4051440"/>
            <a:ext cx="3276720" cy="2806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В о д я н ы е ч а с ы"/>
          <p:cNvPicPr/>
          <p:nvPr/>
        </p:nvPicPr>
        <p:blipFill>
          <a:blip r:embed="rId3"/>
          <a:stretch/>
        </p:blipFill>
        <p:spPr>
          <a:xfrm>
            <a:off x="5029200" y="2209680"/>
            <a:ext cx="3505320" cy="426744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155520" y="46080"/>
            <a:ext cx="1200240" cy="904680"/>
            <a:chOff x="155520" y="46080"/>
            <a:chExt cx="1200240" cy="904680"/>
          </a:xfrm>
        </p:grpSpPr>
        <p:sp>
          <p:nvSpPr>
            <p:cNvPr id="357" name=""/>
            <p:cNvSpPr txBox="1"/>
            <p:nvPr/>
          </p:nvSpPr>
          <p:spPr>
            <a:xfrm>
              <a:off x="155520" y="46080"/>
              <a:ext cx="1200240" cy="90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Comic Sans MS"/>
              </a:rPr>
              <a:t>Из истории време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когда в 6912 (на наш счёт в 1404) году великий  князь Василий Димитриевич соорудил в Москве часы на своём дворе, это было настолько значительным событием, что его отметили в летописи. Это были одни из первых часов в Европ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ru-RU" sz="2000" spc="-1" strike="noStrike">
                <a:solidFill>
                  <a:srgbClr val="990033"/>
                </a:solidFill>
                <a:latin typeface="Comic Sans MS"/>
              </a:rPr>
              <a:t>«Сий же часник наречётся часомерье; на всякий же час ударяет молотом в колокол, размеряя и рассчитая часы нощные и дневные, не бо человек ударяше, но человековидно самозвонно и самодвижно, страннолепно некако сотворено есть человеческою хитростью, презмечтано и преухищрено», - сообщал летописец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33"/>
                </a:solidFill>
                <a:latin typeface="Comic Sans MS"/>
              </a:rPr>
              <a:t>Метрическая система м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Потребности практики заставили начать поиски единой системы мер. При этом было ясно, что надо отказаться от установления связей между единицами измерения и размерами  человеческого тела. И шаг у людей бывает разный, и длина ступни у них неодинакова, и пальцы у них разной ширины. Поэтому надо было искать новые единицы измерения в окружающей природ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6680" y="1719360"/>
            <a:ext cx="6553440" cy="40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зучить исторические сведения по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«Старинные мер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оанализировать учебники по математи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– 11 классов  с точки зрения наличия в них старинных 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оставить словарь старинных русских 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оздать презентацию данно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делать вывод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22860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З а д а ч 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60020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380520"/>
            <a:ext cx="7467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На всемирной выставке 1867 года в Париже в организованном там международном комитете мер, весов и монет русский академик Б. С. Якоби выступал с докладом. В нем он сформулировал преимущества метрической системы как экономически самой выгодной вследствие её десятичной основы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683c2e"/>
                </a:solidFill>
                <a:latin typeface="Comic Sans MS"/>
              </a:rPr>
              <a:t>Основная единица системы мер должна быть определена посредством материального эталона, который наиболее точно воспроизводит длину архивного метра. Комиссия утвердила эталон  метра, изготовленный из сплава платины (90%) и иридия (10%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7605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К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875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году метрическую конвенцию подписали уже 17 государств, включая Россию, где применение новой системы было разрешено, но не стало закон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Comic Sans MS"/>
              </a:rPr>
              <a:t>В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889</a:t>
            </a:r>
            <a:r>
              <a:rPr b="0" lang="ru-RU" sz="2800" spc="-1" strike="noStrike">
                <a:solidFill>
                  <a:srgbClr val="990099"/>
                </a:solidFill>
                <a:latin typeface="Comic Sans MS"/>
              </a:rPr>
              <a:t> году международные прототипы метра и килограмма были сданы в Бретейльский павильон (здание во Франции). С этого момента метр и килограмм стали определяться как длина и вес международных эталон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53000">
    <p:cover dir="d"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28600" y="151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В России учёные с начала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XIX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века поняли значение метрической системы и пытались её широко внедрить в практику. Окончательное решение вопрос о метрической системе в России получил уже после Великой Октябрьской социалистической револю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683c2e"/>
                </a:solidFill>
                <a:latin typeface="Comic Sans MS"/>
              </a:rPr>
              <a:t>С 1 января 1927 года, когда переход промышленности и транспорта на метрическую систему был подготовлен, метрическая система стала единственно допускаемой в СССР системой мер и ве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Большие заслуги во введении и распространении метрической системы мер в нашей стране принадлежит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Дмитрию Ивановичу Менделееву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, великому русскому хими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0520" y="6854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384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К 1972 году метрическую конвенцию подписало уже 41 государство. Творцы этой универсальной системы мер написали на эталоне метра: </a:t>
            </a:r>
            <a:r>
              <a:rPr b="0" lang="en-US" sz="3200" spc="-1" strike="noStrike" u="sng">
                <a:solidFill>
                  <a:srgbClr val="e40a2e"/>
                </a:solidFill>
                <a:uFillTx/>
                <a:latin typeface="Comic Sans MS"/>
              </a:rPr>
              <a:t>«На все времена всем народам!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360" indent="384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360" indent="384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Для популяризации новых мер поэт В.В.Маяковский написал стихотворные тексты, посвященные новым мер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9360" indent="384480"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8150e"/>
                </a:solidFill>
                <a:latin typeface="Garamond"/>
              </a:rPr>
              <a:t>Сравнительный анализ роста учащихся нашего класса</a:t>
            </a:r>
            <a:br>
              <a:rPr sz="3600"/>
            </a:br>
            <a:r>
              <a:rPr b="0" i="1" lang="en-US" sz="2800" spc="-1" strike="noStrike">
                <a:solidFill>
                  <a:srgbClr val="18150e"/>
                </a:solidFill>
                <a:latin typeface="Garamond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6ad1f"/>
                </a:solidFill>
                <a:uFillTx/>
                <a:latin typeface="Garamond"/>
              </a:rPr>
              <a:t>Средний рост наших одноклассников составлял:</a:t>
            </a: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ad1f"/>
                </a:solidFill>
                <a:latin typeface="Garamond"/>
              </a:rPr>
              <a:t>            </a:t>
            </a:r>
            <a:r>
              <a:rPr b="0" lang="en-US" sz="2400" spc="-1" strike="noStrike">
                <a:solidFill>
                  <a:srgbClr val="26ad1f"/>
                </a:solidFill>
                <a:latin typeface="Garamond"/>
              </a:rPr>
              <a:t>в 1 классе                                           в 6 классе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886200"/>
          <a:ext cx="4038480" cy="2361960"/>
        </p:xfrm>
        <a:graphic>
          <a:graphicData uri="http://schemas.openxmlformats.org/drawingml/2006/table">
            <a:tbl>
              <a:tblPr/>
              <a:tblGrid>
                <a:gridCol w="611280"/>
                <a:gridCol w="855720"/>
                <a:gridCol w="858600"/>
                <a:gridCol w="855720"/>
                <a:gridCol w="857160"/>
              </a:tblGrid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саж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а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фу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яр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648320" y="3886200"/>
          <a:ext cx="4038480" cy="236196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90360"/>
                <a:gridCol w="762120"/>
                <a:gridCol w="685800"/>
              </a:tblGrid>
              <a:tr h="12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саж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а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фу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яр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81c6f"/>
                </a:solidFill>
                <a:latin typeface="Garamond"/>
              </a:rPr>
              <a:t>Сравнительный анализ роста моей семьи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едставьте, что Вы живете в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XV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веке и Ваш рост измеряется мерами того времени.  Попробуйте выразить свой рост в одной из этих единиц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81c6f"/>
                </a:solidFill>
                <a:latin typeface="Garamond"/>
              </a:rPr>
              <a:t>Локоть – 44с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1c6f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981c6f"/>
                </a:solidFill>
                <a:latin typeface="Garamond"/>
              </a:rPr>
              <a:t>Вершок – 4,4с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1c6f"/>
                </a:solidFill>
                <a:latin typeface="Garamond"/>
              </a:rPr>
              <a:t>Аршин -  0,71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5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200400" y="3962520"/>
            <a:ext cx="54864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200400" y="1600200"/>
          <a:ext cx="5715000" cy="2185920"/>
        </p:xfrm>
        <a:graphic>
          <a:graphicData uri="http://schemas.openxmlformats.org/drawingml/2006/table">
            <a:tbl>
              <a:tblPr/>
              <a:tblGrid>
                <a:gridCol w="1179360"/>
                <a:gridCol w="708120"/>
                <a:gridCol w="995400"/>
                <a:gridCol w="927000"/>
                <a:gridCol w="960480"/>
                <a:gridCol w="94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Им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Саж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Арш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Локо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Верш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Ул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0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3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Светл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Серг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0,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4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3276720" y="4114800"/>
          <a:ext cx="5638680" cy="229716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600"/>
                <a:gridCol w="939960"/>
                <a:gridCol w="939600"/>
                <a:gridCol w="939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Им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Саж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Арш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Локо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Верш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1368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Серг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0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42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Еле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0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5760">
                      <a:solidFill>
                        <a:srgbClr val="4b25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Екате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576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b2500"/>
                          </a:solidFill>
                          <a:latin typeface="Garamond"/>
                        </a:rPr>
                        <a:t>3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2500"/>
                      </a:solidFill>
                    </a:lnL>
                    <a:lnR w="13680">
                      <a:solidFill>
                        <a:srgbClr val="4b2500"/>
                      </a:solidFill>
                    </a:lnR>
                    <a:lnT w="5760">
                      <a:solidFill>
                        <a:srgbClr val="4b2500"/>
                      </a:solidFill>
                    </a:lnT>
                    <a:lnB w="13680">
                      <a:solidFill>
                        <a:srgbClr val="4b25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Какие старинные единицы мер вы знаете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2.  Назовите старинную русскую меру длин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Назовите старинную русскую меру веса те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В каких ситуациях вы встречали старинные русские меры  в повседневной  жиз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В каких художественных произведениях вы встречали старинные русские меры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Как вы считаете, необходимо ли знание старинных мер в современной жизн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Comic Sans MS"/>
              </a:rPr>
              <a:t>Назовите пословицу или поговорку со старинными единицами ме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1981080" y="609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Georgia"/>
              </a:rPr>
              <a:t>Анк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371600" y="914400"/>
            <a:ext cx="63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21277200">
            <a:off x="966960" y="3801600"/>
            <a:ext cx="731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3049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1752480"/>
            <a:ext cx="35053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Анализ   анкетных   данны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85800" y="1828800"/>
          <a:ext cx="295920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295920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3657600" y="1828800"/>
          <a:ext cx="4952880" cy="4508640"/>
        </p:xfrm>
        <a:graphic>
          <a:graphicData uri="http://schemas.openxmlformats.org/drawingml/2006/table">
            <a:tbl>
              <a:tblPr/>
              <a:tblGrid>
                <a:gridCol w="787320"/>
                <a:gridCol w="41655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ы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ерста-31%, аршин-32%, дюйм-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шин-43%, дюйм-29%, локоть-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уд-44%, фунт-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 уроках математики-85%, истории-43%, литературы-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онек-Горбунок»-39%, «Дюймовочка»-54%,  «Илья Муромец»-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ак как сейчас другие меры и стари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употребля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От горшка два вершка»-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еми пядей во лбу»-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ерста на версту не упадет»-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95280" y="1478160"/>
            <a:ext cx="701064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2712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1280"/>
                </a:solidFill>
                <a:latin typeface="Tahoma"/>
              </a:rPr>
              <a:t>для общего развития; (6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712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712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1280"/>
                </a:solidFill>
                <a:latin typeface="Tahoma"/>
              </a:rPr>
              <a:t>чтобы знать исторические корни своего языка; (6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712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1280"/>
                </a:solidFill>
                <a:latin typeface="Tahoma"/>
              </a:rPr>
              <a:t>- так как часто встречаются в художеств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1280"/>
                </a:solidFill>
                <a:latin typeface="Tahoma"/>
              </a:rPr>
              <a:t>литературе, во фразеологических оборотах; (6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71280"/>
                </a:solidFill>
                <a:latin typeface="Tahoma"/>
              </a:rPr>
              <a:t>- знать нужно отдельным людям, которые занимаются лингвистикой, историей развития предмета. (44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609480"/>
            <a:ext cx="793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Необходимо ли знать старинные меры в современной школе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(   «да» ответили 70% учащих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328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6680" y="1447920"/>
          <a:ext cx="7772400" cy="2782800"/>
        </p:xfrm>
        <a:graphic>
          <a:graphicData uri="http://schemas.openxmlformats.org/drawingml/2006/table">
            <a:tbl>
              <a:tblPr/>
              <a:tblGrid>
                <a:gridCol w="4324320"/>
                <a:gridCol w="3448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вести рабо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форм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йденный текстовой материал набрать  на компьюте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тредактировали в текстовом редактор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ord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йти картинки  по те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 коллекци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icrosoft Offic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нашли соответствующие карти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рисовать  недостающие рису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 графическом редактор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IN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оздать презентацию для представления нашего проекта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оздали в программ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wer Poin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презент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-838080" y="4770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30492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Программа действий по про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60465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Comic Sans MS"/>
              </a:rPr>
              <a:t>Заключени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703dff"/>
                </a:solidFill>
                <a:latin typeface="Comic Sans MS"/>
              </a:rPr>
              <a:t>В данной работе мы рассмотрели  вопросы возникновения и совершенствования различных мер измерения, таких как: длина, объем, масса, площадь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Установили связь между различными единицами длин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Доказали, что каждая из единиц длины может быть представлена через общепринятую метрическую систему мер, а следовательно становится понятной для любого челове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Объяснили, почему  необходима была единая метрическая система мер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c8600"/>
                </a:solidFill>
                <a:latin typeface="Comic Sans MS"/>
              </a:rPr>
              <a:t>В работе приведено много любопытных фактов из истории возникновения старинных мер измере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0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Приходя в магазин, мы просим отвесить 2 кг крупы, выходя на дорожку стадиона, пробегаем 100 метров, от звонка на уроке проходит 40 минут или 2400 секун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6" name="Picture 4" descr="img"/>
          <p:cNvPicPr/>
          <p:nvPr/>
        </p:nvPicPr>
        <p:blipFill>
          <a:blip r:embed="rId1"/>
          <a:stretch/>
        </p:blipFill>
        <p:spPr>
          <a:xfrm>
            <a:off x="228600" y="19051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5"/>
          <p:cNvSpPr/>
          <p:nvPr/>
        </p:nvSpPr>
        <p:spPr>
          <a:xfrm>
            <a:off x="1979640" y="1916280"/>
            <a:ext cx="590544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Время нам отсчитывают часы, для определения веса нужны весы, расстояния измеряем линейкой с делениями или рулет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1c6f"/>
                </a:solidFill>
                <a:latin typeface="Comic Sans MS"/>
              </a:rPr>
              <a:t>А если под рукой нет рулет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1c6f"/>
                </a:solidFill>
                <a:latin typeface="Comic Sans MS"/>
              </a:rPr>
              <a:t>Как измерить длину в этом случа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Хорошо было бы, если бы единица измерения всегда была под рукой, - захотел и изготовил себе свой собственный этал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Вспомнив старорусские способы измерения чего-либо, мы можем без труда измерить что уг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"/>
          <p:cNvPicPr/>
          <p:nvPr/>
        </p:nvPicPr>
        <p:blipFill>
          <a:blip r:embed="rId2"/>
          <a:stretch/>
        </p:blipFill>
        <p:spPr>
          <a:xfrm>
            <a:off x="7620120" y="2286000"/>
            <a:ext cx="1277640" cy="1800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images"/>
          <p:cNvPicPr/>
          <p:nvPr/>
        </p:nvPicPr>
        <p:blipFill>
          <a:blip r:embed="rId3"/>
          <a:stretch/>
        </p:blipFill>
        <p:spPr>
          <a:xfrm>
            <a:off x="0" y="5157720"/>
            <a:ext cx="2124000" cy="14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9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9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9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9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9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1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9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9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3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8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Comic Sans MS"/>
              </a:rPr>
              <a:t>Список использованных источников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569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лков В. Как появилась метрическая система мер .Квант. – 1990.-№8. с. 33-3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лейзер Г.И. История математики в школ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лассы.- М.: Просвещение,198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пман И.Я. Меры и метрическая система. – Л.-Детгиз, 1953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ляр Б.Д. Удивительное равенство. Квант.-1989.- №7 с. 17-2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тематика. 5 класс: учебник для общеобразовательных учреждений. Н.Я. Виленкин, В.И.Жохов, А.С.Чесноков,С.И.Шварцбурд-М.:Мнемозина,200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тематика. 5 класс: учебник для общеобразовательных учреждений. Г.В.Дорофеев, И.Ф.Шарыгин, С.Б.Суворова и др.-М._Просвещение, 2006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вечников А.А.,Сорокин П.И. Числа,фигуры,задачи.- М. – Просвещение, 197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403" name="Picture 4" descr="смайлик"/>
          <p:cNvPicPr/>
          <p:nvPr/>
        </p:nvPicPr>
        <p:blipFill>
          <a:blip r:embed="rId1"/>
          <a:stretch/>
        </p:blipFill>
        <p:spPr>
          <a:xfrm rot="20848200">
            <a:off x="685800" y="40384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 rot="20944800">
            <a:off x="313920" y="1839960"/>
            <a:ext cx="762336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cap="rnd" w="648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f50b32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i="1" lang="en-US" sz="6000" spc="1" strike="noStrike">
              <a:ln cap="rnd" w="648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f50b32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Довольно часто  в нашей жизни встречаются слова, обозначающие единицы измерения Древней Руси. В русском языке их называют устаревшими, вышедшими из активного употребления. Мы не пользуемся ими ежедневно, но не зная их значения, порой трудно понять литературное произведение, параграф по истории, даже пословицу. В любой книге есть сноски, но они написаны очень мелким шрифтом и не запоминают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В далёкие времена человеку приходилось постепенно постигать не только искусство счёта ,но и измерений. Изготовляя простейшие орудия  тогда, строя жилища, добывая пищу, возникала необходимость  измерять расстояния, а затем  площади, емкости, массы, времен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При измерении расстояний использовали руки и ног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Я   решила узнать более подробно о мерах  применяемых  русским народ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380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2120" y="1676520"/>
            <a:ext cx="75438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меры длины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377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е древнерусские меры длин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рста,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ажен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ршин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окот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ядь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рш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4" descr="kinofilma"/>
          <p:cNvPicPr/>
          <p:nvPr/>
        </p:nvPicPr>
        <p:blipFill>
          <a:blip r:embed="rId1"/>
          <a:stretch/>
        </p:blipFill>
        <p:spPr>
          <a:xfrm>
            <a:off x="388620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59280" y="1267920"/>
            <a:ext cx="596736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РШИН - старинная русская мера длины, равная, в современном исчислении 0,7112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2525760" cy="28814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6"/>
          <p:cNvSpPr/>
          <p:nvPr/>
        </p:nvSpPr>
        <p:spPr>
          <a:xfrm>
            <a:off x="3886200" y="434340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116000" y="429264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ршином, так же, называли мерную линейку, на которую, обычно, наносили деления в верш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"/>
          <p:cNvPicPr/>
          <p:nvPr/>
        </p:nvPicPr>
        <p:blipFill>
          <a:blip r:embed="rId2"/>
          <a:stretch/>
        </p:blipFill>
        <p:spPr>
          <a:xfrm>
            <a:off x="6726240" y="5229360"/>
            <a:ext cx="2417760" cy="14968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684000" y="331560"/>
            <a:ext cx="6870600" cy="98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Крупные меры дли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7:31:35Z</dcterms:created>
  <dc:creator>Светлана</dc:creator>
  <dc:description/>
  <dc:language>en-US</dc:language>
  <cp:lastModifiedBy>DOM</cp:lastModifiedBy>
  <dcterms:modified xsi:type="dcterms:W3CDTF">2015-11-06T10:10:5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