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13F-15CE-41AE-8268-C20287E5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889-5D17-48F5-B4FA-7C8D706E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955-AC24-44A2-9C39-5C9EC94D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A18-E868-4C3D-A7C7-29C9D44A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D16-6EB3-4F17-99FD-E668A5E0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E48-D5F4-499B-84E6-0BEF2359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442-4FFB-41F8-8CD8-61D10D3C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744-AF55-4050-B3F3-42DF26B4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13A-412A-4974-99A2-E5243CD1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E96-FA84-4BEC-86EE-46BC869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2FB-6B15-4294-BCDE-89ECCC2A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A7F-7432-4F21-BBF8-7BF53B6B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EDAE-11BA-4EE7-BEF8-A6A601CF0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вадцать первое октябр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лассная работ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Monotype Corsiva"/>
              </a:rPr>
              <a:t>Страдательные причастия прошедшего вре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5. Объясн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.21, прочита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ссмотрим таблицу и ответим на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. Найдите и отметьте строку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которой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все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глаголы имеют окончание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–ят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и увид..т, дыш..т, гон..тся, завис..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и распил..т, слыш..т, скач..т, гре..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и гон..тся, вылет..т, объяв..т, провер..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ни увид..т, услыш..т, слуша..т, дыш..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. Найдите и отметьте строку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которой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все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глаголы имеют окончание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–ят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увид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дыш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гон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ся, завис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распил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слыш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скач</a:t>
            </a: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У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гре</a:t>
            </a: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Ю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Они гон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Я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тся, выле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Я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т, объяв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Я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т, провер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Я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увид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услыш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слуша</a:t>
            </a: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Ю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дыш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. Найдите и отметьте строку, в которой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се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глаголы имеют окончание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– ю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0920" y="1599840"/>
            <a:ext cx="78483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стел..т, кле..т, бре..т, та..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стро..т, бор..тся, высп..тся, обве..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слуша..т, дремл..т, гоня..т, леле..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жал..т, кол..т, пол..т, вод..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. Найдите и отметьте строку, в которой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се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глаголы имеют окончание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– ю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0920" y="1599840"/>
            <a:ext cx="78483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стел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Ю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кле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бре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Ю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та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Ю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стро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бор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Ю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ся, высп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ся, обве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Ю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Они слуша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Ю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т, дремл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Ю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т, гоня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Ю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т, лел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Ю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Они жал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кол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Ю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пол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Ю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, вод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Я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3. Вспомним правило!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Н и НН в суффиксах прилагатель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1773360"/>
          <a:ext cx="7704000" cy="4552920"/>
        </p:xfrm>
        <a:graphic>
          <a:graphicData uri="http://schemas.openxmlformats.org/drawingml/2006/table">
            <a:tbl>
              <a:tblPr/>
              <a:tblGrid>
                <a:gridCol w="2568600"/>
                <a:gridCol w="2568600"/>
                <a:gridCol w="2566800"/>
              </a:tblGrid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оломе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арма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Глиня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Искусстве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а…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Ледя…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люкве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Исти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Песча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Экскурсио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аме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ефтя…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Утре…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а…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Звери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беде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Чугу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Голуби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Безветре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Ю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текля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Листве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умя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ловя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етре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ви…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Деревя…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3. Вспомним правило!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Н и НН в суффиксах прилагатель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5640" y="1773360"/>
          <a:ext cx="7704000" cy="4572000"/>
        </p:xfrm>
        <a:graphic>
          <a:graphicData uri="http://schemas.openxmlformats.org/drawingml/2006/table">
            <a:tbl>
              <a:tblPr/>
              <a:tblGrid>
                <a:gridCol w="2568600"/>
                <a:gridCol w="2568600"/>
                <a:gridCol w="256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оломе</a:t>
                      </a:r>
                      <a:r>
                        <a:rPr b="0" lang="ru-RU" sz="2400" spc="-1" strike="noStrike">
                          <a:solidFill>
                            <a:srgbClr val="eeece1"/>
                          </a:solidFill>
                          <a:latin typeface="Monotype Corsiva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арма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Глиня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Искусст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аН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Ледя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люк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Исти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Песча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Экскурс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ам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ефтя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УтреН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аН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Звери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Обед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Чугу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Голуби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Безветр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Ю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текля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Лист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Румя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ловя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етр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ви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еревя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4. Подберите и запишите в два столби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лова с данными морфемами; сделайте вы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381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-И-Л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-Е-Л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-ОВА-Л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Часть реч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Время ?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От чего зависит написание гласной перед –л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38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-И-ВШ-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-Е-ВШ-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-ОВА-ВШ-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Monotype Corsiva"/>
              </a:rPr>
              <a:t>Часть реч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От чего зависит написание гласной перед суффиксом   причастия –вш-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ля написания глас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еред суффиксом –вш- в причастии прошедшего времени необходимо знать, какая гласная пишется перед –ть в неопределённой форме глаго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ТАТЬЯНА</cp:lastModifiedBy>
  <dcterms:modified xsi:type="dcterms:W3CDTF">2015-10-20T14:24:28Z</dcterms:modified>
  <cp:revision>17</cp:revision>
  <dc:subject/>
  <dc:title>Презентация PowerPoint</dc:title>
</cp:coreProperties>
</file>