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7E04-696F-4DEF-996A-17DB2B53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340-69B2-4C3F-B85E-77EE56AE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158-81DA-477D-836C-037B0744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CC15-1FC2-4551-82D9-BDAA5363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2BB-081E-4360-90F4-09BF42EE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6F9-B8A5-478C-9A69-F113C9A9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553-D8C5-410C-BB20-5C4C8760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FD5-7441-49A7-8C5F-959ED859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882-0F2E-43CF-8CE4-8F240FC9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D60-A676-4A59-A035-3A8E1B64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25F-5217-4F0A-B46F-2BEEED90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FB98-B2D4-408C-8203-2F8F3CCD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cc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E4F3-DE1E-446F-8401-57C10411A4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9.jpeg"/><Relationship Id="rId6" Type="http://schemas.openxmlformats.org/officeDocument/2006/relationships/hyperlink" Target="http://www.dagpravda.ru/images/materials/cut_300_461_TELDOVERIA.jpg" TargetMode="Externa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hyperlink" Target="http://www.saratovnews.ru/i/news/big/91854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Picture 17" descr="111"/>
            <p:cNvPicPr/>
            <p:nvPr/>
          </p:nvPicPr>
          <p:blipFill>
            <a:blip r:embed="rId1"/>
            <a:srcRect l="0" t="0" r="16667" b="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WordArt 4"/>
            <p:cNvSpPr txBox="1"/>
            <p:nvPr/>
          </p:nvSpPr>
          <p:spPr>
            <a:xfrm>
              <a:off x="228600" y="2514600"/>
              <a:ext cx="8610480" cy="19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Impact"/>
                </a:rPr>
                <a:t>"Единый общероссийский номе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Impact"/>
                </a:rPr>
                <a:t>телефона доверия для детей и подростко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Impact"/>
                </a:rPr>
                <a:t>8-800-2000-122"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  <a:ea typeface="Impact"/>
              </a:endParaRPr>
            </a:p>
          </p:txBody>
        </p:sp>
        <p:sp>
          <p:nvSpPr>
            <p:cNvPr id="44" name="Text Box 6"/>
            <p:cNvSpPr/>
            <p:nvPr/>
          </p:nvSpPr>
          <p:spPr>
            <a:xfrm>
              <a:off x="0" y="6111000"/>
              <a:ext cx="678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WordArt 8"/>
            <p:cNvSpPr txBox="1"/>
            <p:nvPr/>
          </p:nvSpPr>
          <p:spPr>
            <a:xfrm>
              <a:off x="1295280" y="762120"/>
              <a:ext cx="64008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Презентация, посвященная</a:t>
              </a:r>
              <a:endParaRPr b="0" lang="en-US" sz="3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еждународному дню</a:t>
              </a:r>
              <a:endParaRPr b="0" lang="en-US" sz="3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Детского телефона доверия</a:t>
              </a:r>
              <a:endParaRPr b="0" lang="en-US" sz="3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3" name="Picture 5" descr="Рисунок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" descr="лого 777777"/>
            <p:cNvPicPr/>
            <p:nvPr/>
          </p:nvPicPr>
          <p:blipFill>
            <a:blip r:embed="rId2"/>
            <a:stretch/>
          </p:blipFill>
          <p:spPr>
            <a:xfrm>
              <a:off x="7391520" y="76320"/>
              <a:ext cx="165420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WordArt 6"/>
            <p:cNvSpPr txBox="1"/>
            <p:nvPr/>
          </p:nvSpPr>
          <p:spPr>
            <a:xfrm>
              <a:off x="457200" y="304920"/>
              <a:ext cx="65530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Помните выход есть всегда !</a:t>
              </a:r>
              <a:endParaRPr b="0" lang="en-US" sz="3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152280" y="912240"/>
              <a:ext cx="7239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любой ситуации можно разобраться. Самое главное – не делайте поспешных выводов! Радуйтесь тому, что Вам подарили жизнь. А как жить - это уже Ваш выбор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9" descr="471bd07fdaa7b040f7ab8b2a13f8f35b_XL-610x225"/>
            <p:cNvPicPr/>
            <p:nvPr/>
          </p:nvPicPr>
          <p:blipFill>
            <a:blip r:embed="rId3"/>
            <a:stretch/>
          </p:blipFill>
          <p:spPr>
            <a:xfrm>
              <a:off x="2362320" y="2286000"/>
              <a:ext cx="6648480" cy="24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15" descr="tel_doveria"/>
            <p:cNvPicPr/>
            <p:nvPr/>
          </p:nvPicPr>
          <p:blipFill>
            <a:blip r:embed="rId4"/>
            <a:stretch/>
          </p:blipFill>
          <p:spPr>
            <a:xfrm>
              <a:off x="176040" y="2666880"/>
              <a:ext cx="2009880" cy="358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9" name="WordArt 3"/>
            <p:cNvSpPr txBox="1"/>
            <p:nvPr/>
          </p:nvSpPr>
          <p:spPr>
            <a:xfrm>
              <a:off x="2590920" y="4952880"/>
              <a:ext cx="6095880" cy="16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Телефон доверия</a:t>
              </a:r>
              <a:endParaRPr b="0" lang="en-US" sz="32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8-800-2000-122</a:t>
              </a:r>
              <a:endParaRPr b="0" lang="en-US" sz="32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324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Звонок бесплатный</a:t>
              </a:r>
              <a:endParaRPr b="0" lang="en-US" sz="32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719520" y="70560"/>
            <a:ext cx="5334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8 году Указом Президента РФ создан Фонд поддержки детей, находящихся в трудной жизненной ситуации. С 2010 года в рамках Фонда и по поручению Совета по реализации приоритетных национальных проектов и демографической политике при Президенте РФ Д.А.Медведеве, инициативе Председателя Правительства В.В.Путина в РФ проводи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ациональная информационная кампания по противодействию жестокому обращению с детьм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медвед"/>
          <p:cNvPicPr/>
          <p:nvPr/>
        </p:nvPicPr>
        <p:blipFill>
          <a:blip r:embed="rId1"/>
          <a:srcRect l="0" t="0" r="2268" b="0"/>
          <a:stretch/>
        </p:blipFill>
        <p:spPr>
          <a:xfrm>
            <a:off x="166680" y="204840"/>
            <a:ext cx="3505320" cy="255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8" name="Picture 11" descr="888"/>
          <p:cNvPicPr/>
          <p:nvPr/>
        </p:nvPicPr>
        <p:blipFill>
          <a:blip r:embed="rId2"/>
          <a:stretch/>
        </p:blipFill>
        <p:spPr>
          <a:xfrm>
            <a:off x="4495680" y="3090960"/>
            <a:ext cx="4457880" cy="24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Rectangle 13"/>
          <p:cNvSpPr/>
          <p:nvPr/>
        </p:nvSpPr>
        <p:spPr>
          <a:xfrm>
            <a:off x="181080" y="2945160"/>
            <a:ext cx="40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пания стала началом системного противостояния жестокому обращению с детьми как в информационно-просветительском плане, так и путем принятия конкретных мер по профилактике насилия, создания условий для незамедлительной помощи детям, пострадавшим от жестокого обращ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152280" y="571320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ая роль в этой кампании отводится развитию служб экстренной психологической помощи детям и подросткам, которые работают по единому общероссийскому номеру телефона доверия 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800-2000-12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6" descr="Рисуно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6"/>
          <p:cNvSpPr txBox="1"/>
          <p:nvPr/>
        </p:nvSpPr>
        <p:spPr>
          <a:xfrm>
            <a:off x="1752480" y="228600"/>
            <a:ext cx="5257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latin typeface="Impact"/>
              </a:rPr>
              <a:t>Что же такое телефон доверия ?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648320" y="685800"/>
            <a:ext cx="419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 довер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лужба, куда может анонимно обратиться абсолютно любой человек, чтобы обсудить отношения с друзьями, близкими, семейные и школьные от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800000"/>
                </a:solidFill>
                <a:latin typeface="Impact"/>
              </a:rPr>
              <a:t>8-800-2000-122</a:t>
            </a:r>
            <a:endParaRPr b="0" lang="en-US" sz="3200" spc="1" strike="noStrike">
              <a:ln w="0">
                <a:noFill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52280" y="3657960"/>
            <a:ext cx="434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вонке на этот номер в любом населенном пункте Российской Федерации со стационарных или мобильных телефонов дети, подростки и их родители могут получить экстренную психологическую помощь, которая оказывается специалистами действующих региональных служб, подключенных к единому общероссийскому номе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1983_pv_d_small"/>
          <p:cNvPicPr/>
          <p:nvPr/>
        </p:nvPicPr>
        <p:blipFill>
          <a:blip r:embed="rId2"/>
          <a:stretch/>
        </p:blipFill>
        <p:spPr>
          <a:xfrm>
            <a:off x="228600" y="790560"/>
            <a:ext cx="4114800" cy="27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14" descr="stiker_child_cmyk"/>
          <p:cNvPicPr/>
          <p:nvPr/>
        </p:nvPicPr>
        <p:blipFill>
          <a:blip r:embed="rId3"/>
          <a:stretch/>
        </p:blipFill>
        <p:spPr>
          <a:xfrm>
            <a:off x="4800600" y="2286000"/>
            <a:ext cx="4038480" cy="38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12"/>
          <p:cNvGrpSpPr/>
          <p:nvPr/>
        </p:nvGrpSpPr>
        <p:grpSpPr>
          <a:xfrm>
            <a:off x="0" y="0"/>
            <a:ext cx="9144000" cy="6875640"/>
            <a:chOff x="0" y="0"/>
            <a:chExt cx="9144000" cy="6875640"/>
          </a:xfrm>
        </p:grpSpPr>
        <p:pic>
          <p:nvPicPr>
            <p:cNvPr id="59" name="Picture 9" descr="Child-fund_HotLine_180x120_1110_01"/>
            <p:cNvPicPr/>
            <p:nvPr/>
          </p:nvPicPr>
          <p:blipFill>
            <a:blip r:embed="rId1"/>
            <a:srcRect l="8437" t="0" r="2498" b="0"/>
            <a:stretch/>
          </p:blipFill>
          <p:spPr>
            <a:xfrm>
              <a:off x="0" y="0"/>
              <a:ext cx="9144000" cy="68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WordArt 5"/>
            <p:cNvSpPr txBox="1"/>
            <p:nvPr/>
          </p:nvSpPr>
          <p:spPr>
            <a:xfrm>
              <a:off x="1752480" y="76320"/>
              <a:ext cx="5257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Impact"/>
                </a:rPr>
                <a:t>Для чего нужен телефон доверия?</a:t>
              </a:r>
              <a:endParaRPr b="0" lang="en-US" sz="3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  <a:ea typeface="Impact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76320" y="6216120"/>
              <a:ext cx="899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 жизни много вопросов и трудностей. Каждый может попасть в ситуацию, когда ему будет нужна помощь. В этот момент важно быть услышанным! И это очень важно!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3" name="Picture 9" descr="Рисунок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WordArt 2"/>
            <p:cNvSpPr txBox="1"/>
            <p:nvPr/>
          </p:nvSpPr>
          <p:spPr>
            <a:xfrm>
              <a:off x="1295280" y="304920"/>
              <a:ext cx="647712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0">
                    <a:noFill/>
                  </a:ln>
                  <a:solidFill>
                    <a:srgbClr val="0000ff"/>
                  </a:solidFill>
                  <a:latin typeface="Impact"/>
                </a:rPr>
                <a:t>Принципы работы телефона доверия</a:t>
              </a:r>
              <a:endParaRPr b="0" lang="en-US" sz="3200" spc="1" strike="noStrike">
                <a:ln w="0">
                  <a:noFill/>
                </a:ln>
                <a:solidFill>
                  <a:srgbClr val="0000ff"/>
                </a:solidFill>
                <a:latin typeface="Impact"/>
                <a:ea typeface="Impact"/>
              </a:endParaRPr>
            </a:p>
          </p:txBody>
        </p:sp>
        <p:sp>
          <p:nvSpPr>
            <p:cNvPr id="65" name="Rectangle 3"/>
            <p:cNvSpPr/>
            <p:nvPr/>
          </p:nvSpPr>
          <p:spPr>
            <a:xfrm>
              <a:off x="685800" y="835560"/>
              <a:ext cx="76201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екретность (конфиденциальность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онимно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сплат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ступность - ежедневно и круглосуточ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стре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уманиз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5" descr="лого 777777"/>
            <p:cNvPicPr/>
            <p:nvPr/>
          </p:nvPicPr>
          <p:blipFill>
            <a:blip r:embed="rId2"/>
            <a:stretch/>
          </p:blipFill>
          <p:spPr>
            <a:xfrm>
              <a:off x="7959600" y="61920"/>
              <a:ext cx="113184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WordArt 6"/>
            <p:cNvSpPr txBox="1"/>
            <p:nvPr/>
          </p:nvSpPr>
          <p:spPr>
            <a:xfrm>
              <a:off x="3124080" y="6019920"/>
              <a:ext cx="32004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0">
                    <a:noFill/>
                  </a:ln>
                  <a:solidFill>
                    <a:srgbClr val="800000"/>
                  </a:solidFill>
                  <a:latin typeface="Impact"/>
                </a:rPr>
                <a:t>8-800-2000-122</a:t>
              </a:r>
              <a:endParaRPr b="0" lang="en-US" sz="3200" spc="1" strike="noStrike">
                <a:ln w="0">
                  <a:noFill/>
                </a:ln>
                <a:solidFill>
                  <a:srgbClr val="800000"/>
                </a:solidFill>
                <a:latin typeface="Impact"/>
                <a:ea typeface="Impact"/>
              </a:endParaRPr>
            </a:p>
          </p:txBody>
        </p:sp>
        <p:pic>
          <p:nvPicPr>
            <p:cNvPr id="68" name="Picture 7" descr=""/>
            <p:cNvPicPr/>
            <p:nvPr/>
          </p:nvPicPr>
          <p:blipFill>
            <a:blip r:embed="rId3"/>
            <a:stretch/>
          </p:blipFill>
          <p:spPr>
            <a:xfrm>
              <a:off x="152280" y="3352680"/>
              <a:ext cx="2519640" cy="309096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pic>
          <p:nvPicPr>
            <p:cNvPr id="69" name="Picture 11" descr="телефон-доверия"/>
            <p:cNvPicPr/>
            <p:nvPr/>
          </p:nvPicPr>
          <p:blipFill>
            <a:blip r:embed="rId4"/>
            <a:stretch/>
          </p:blipFill>
          <p:spPr>
            <a:xfrm>
              <a:off x="2819520" y="2971800"/>
              <a:ext cx="3581280" cy="2367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0" name="Picture 14" descr="school101"/>
            <p:cNvPicPr/>
            <p:nvPr/>
          </p:nvPicPr>
          <p:blipFill>
            <a:blip r:embed="rId5"/>
            <a:stretch/>
          </p:blipFill>
          <p:spPr>
            <a:xfrm>
              <a:off x="6553080" y="3352680"/>
              <a:ext cx="2514600" cy="3105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8"/>
          <p:cNvGrpSpPr/>
          <p:nvPr/>
        </p:nvGrpSpPr>
        <p:grpSpPr>
          <a:xfrm>
            <a:off x="0" y="0"/>
            <a:ext cx="9144000" cy="6860160"/>
            <a:chOff x="0" y="0"/>
            <a:chExt cx="9144000" cy="6860160"/>
          </a:xfrm>
        </p:grpSpPr>
        <p:pic>
          <p:nvPicPr>
            <p:cNvPr id="72" name="Picture 7" descr="Child-fund_HotLineBoy_180x120_1210_01_Q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0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" descr="лого 777777"/>
            <p:cNvPicPr/>
            <p:nvPr/>
          </p:nvPicPr>
          <p:blipFill>
            <a:blip r:embed="rId2"/>
            <a:stretch/>
          </p:blipFill>
          <p:spPr>
            <a:xfrm>
              <a:off x="7959600" y="61920"/>
              <a:ext cx="113184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WordArt 4"/>
            <p:cNvSpPr txBox="1"/>
            <p:nvPr/>
          </p:nvSpPr>
          <p:spPr>
            <a:xfrm>
              <a:off x="2057400" y="152280"/>
              <a:ext cx="464832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0">
                    <a:noFill/>
                  </a:ln>
                  <a:solidFill>
                    <a:srgbClr val="ff0000"/>
                  </a:solidFill>
                  <a:latin typeface="Impact"/>
                </a:rPr>
                <a:t>Проблемы в жизни</a:t>
              </a:r>
              <a:endParaRPr b="0" lang="en-US" sz="3200" spc="1" strike="noStrike">
                <a:ln w="0">
                  <a:noFill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75" name="Rectangle 5"/>
            <p:cNvSpPr/>
            <p:nvPr/>
          </p:nvSpPr>
          <p:spPr>
            <a:xfrm>
              <a:off x="0" y="5487480"/>
              <a:ext cx="9144000" cy="137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 жизни каждого человека есть проблемы. Они связанные с отношениями между сверстниками,  либо между родителями. И в эти моменты мы не знаем, как себя повести. Либо согласиться и уступить или спорить и отстаивать свою позицию. Мы ещё не прожили всю жизнь, чтобы спорить на эту тему, но из-за стресса некоторые спорят. Каков выход из этой ситуации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? </a:t>
              </a: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ожно оставить всё как есть, но можно обратиться в службу 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елефон доверия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”</a:t>
              </a: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и  обсудить накопившиеся проблемы. Что, собственно, и делают все дети, которые не знают как поступить в той или иной ситуаци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7" name="Picture 7" descr="Рисунок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WordArt 4"/>
            <p:cNvSpPr txBox="1"/>
            <p:nvPr/>
          </p:nvSpPr>
          <p:spPr>
            <a:xfrm>
              <a:off x="2666880" y="152280"/>
              <a:ext cx="350532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Impact"/>
                </a:rPr>
                <a:t>Что волнует ТЕБЯ ?</a:t>
              </a:r>
              <a:endPara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>
              <a:off x="228600" y="363600"/>
              <a:ext cx="769608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</a:t>
              </a:r>
              <a:r>
                <a:rPr b="0" lang="fi-FI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енка своего внешнего вида: лица, фигуры, физических дан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вая любов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ы с учителями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</a:t>
              </a:r>
              <a:r>
                <a:rPr b="0" lang="fi-FI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простые отношения с родителя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</a:t>
              </a:r>
              <a:r>
                <a:rPr b="0" lang="fi-FI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нфликты и разводы в семь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</a:t>
              </a:r>
              <a:r>
                <a:rPr b="0" lang="fi-FI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 могут найти общего языка со сверстник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fi-FI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новятся изгоями в школ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</a:t>
              </a:r>
              <a:r>
                <a:rPr b="0" lang="fi-FI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хие отметки в школ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</a:t>
              </a:r>
              <a:r>
                <a:rPr b="0" lang="fi-FI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же кошмарные сн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простые отношения с любимым человек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WordArt 3"/>
            <p:cNvSpPr txBox="1"/>
            <p:nvPr/>
          </p:nvSpPr>
          <p:spPr>
            <a:xfrm>
              <a:off x="2971800" y="6324480"/>
              <a:ext cx="320040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0">
                    <a:noFill/>
                  </a:ln>
                  <a:solidFill>
                    <a:srgbClr val="800000"/>
                  </a:solidFill>
                  <a:latin typeface="Impact"/>
                </a:rPr>
                <a:t>8-800-2000-122</a:t>
              </a:r>
              <a:endParaRPr b="0" lang="en-US" sz="3200" spc="1" strike="noStrike">
                <a:ln w="0">
                  <a:noFill/>
                </a:ln>
                <a:solidFill>
                  <a:srgbClr val="800000"/>
                </a:solidFill>
                <a:latin typeface="Impact"/>
                <a:ea typeface="Impact"/>
              </a:endParaRPr>
            </a:p>
          </p:txBody>
        </p:sp>
        <p:pic>
          <p:nvPicPr>
            <p:cNvPr id="81" name="Picture 10" descr="4027 (4753)"/>
            <p:cNvPicPr/>
            <p:nvPr/>
          </p:nvPicPr>
          <p:blipFill>
            <a:blip r:embed="rId2"/>
            <a:stretch/>
          </p:blipFill>
          <p:spPr>
            <a:xfrm>
              <a:off x="2495520" y="3733920"/>
              <a:ext cx="3657600" cy="2433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2" name="Picture 11" descr="552dc1742a"/>
            <p:cNvPicPr/>
            <p:nvPr/>
          </p:nvPicPr>
          <p:blipFill>
            <a:blip r:embed="rId3"/>
            <a:srcRect l="0" t="5084" r="0" b="0"/>
            <a:stretch/>
          </p:blipFill>
          <p:spPr>
            <a:xfrm>
              <a:off x="6499080" y="3124080"/>
              <a:ext cx="2533680" cy="3616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3" name="Picture 13" descr="main-4012-b20980f70dc3bf65e345950cceb2a1f4"/>
            <p:cNvPicPr/>
            <p:nvPr/>
          </p:nvPicPr>
          <p:blipFill>
            <a:blip r:embed="rId4"/>
            <a:stretch/>
          </p:blipFill>
          <p:spPr>
            <a:xfrm>
              <a:off x="6210360" y="1066680"/>
              <a:ext cx="2819520" cy="1959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4" name="Picture 2" descr="лого 777777"/>
            <p:cNvPicPr/>
            <p:nvPr/>
          </p:nvPicPr>
          <p:blipFill>
            <a:blip r:embed="rId5"/>
            <a:stretch/>
          </p:blipFill>
          <p:spPr>
            <a:xfrm>
              <a:off x="7959600" y="61920"/>
              <a:ext cx="113184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15" descr="Картинка 27 из 12251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228600" y="3657600"/>
              <a:ext cx="2057400" cy="3090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7" name="Picture 13" descr="Рисунок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2" descr="лого 777777"/>
            <p:cNvPicPr/>
            <p:nvPr/>
          </p:nvPicPr>
          <p:blipFill>
            <a:blip r:embed="rId2"/>
            <a:stretch/>
          </p:blipFill>
          <p:spPr>
            <a:xfrm>
              <a:off x="7959600" y="61920"/>
              <a:ext cx="113184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WordArt 3"/>
            <p:cNvSpPr txBox="1"/>
            <p:nvPr/>
          </p:nvSpPr>
          <p:spPr>
            <a:xfrm>
              <a:off x="2971800" y="6324480"/>
              <a:ext cx="320040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0">
                    <a:noFill/>
                  </a:ln>
                  <a:solidFill>
                    <a:srgbClr val="800000"/>
                  </a:solidFill>
                  <a:latin typeface="Impact"/>
                </a:rPr>
                <a:t>8-800-2000-122</a:t>
              </a:r>
              <a:endParaRPr b="0" lang="en-US" sz="3200" spc="1" strike="noStrike">
                <a:ln w="0">
                  <a:noFill/>
                </a:ln>
                <a:solidFill>
                  <a:srgbClr val="800000"/>
                </a:solidFill>
                <a:latin typeface="Impact"/>
                <a:ea typeface="Impact"/>
              </a:endParaRPr>
            </a:p>
          </p:txBody>
        </p:sp>
        <p:sp>
          <p:nvSpPr>
            <p:cNvPr id="90" name="WordArt 4"/>
            <p:cNvSpPr txBox="1"/>
            <p:nvPr/>
          </p:nvSpPr>
          <p:spPr>
            <a:xfrm>
              <a:off x="838080" y="228600"/>
              <a:ext cx="73915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0">
                    <a:noFill/>
                  </a:ln>
                  <a:solidFill>
                    <a:srgbClr val="800000"/>
                  </a:solidFill>
                  <a:latin typeface="Impact"/>
                </a:rPr>
                <a:t>По каким вопросам можно обратиться к специалисту</a:t>
              </a:r>
              <a:endParaRPr b="0" lang="en-US" sz="3200" spc="1" strike="noStrike">
                <a:ln w="0">
                  <a:noFill/>
                </a:ln>
                <a:solidFill>
                  <a:srgbClr val="800000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0">
                    <a:noFill/>
                  </a:ln>
                  <a:solidFill>
                    <a:srgbClr val="800000"/>
                  </a:solidFill>
                  <a:latin typeface="Impact"/>
                </a:rPr>
                <a:t>на «Детский телефон доверия»? </a:t>
              </a:r>
              <a:endParaRPr b="0" lang="en-US" sz="3200" spc="1" strike="noStrike">
                <a:ln w="0">
                  <a:noFill/>
                </a:ln>
                <a:solidFill>
                  <a:srgbClr val="800000"/>
                </a:solidFill>
                <a:latin typeface="Impact"/>
                <a:ea typeface="Impact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228600" y="1064880"/>
              <a:ext cx="868680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63520" indent="-2635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26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гда не знаешь, как вести себя в тех или иных ситуациях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3520" indent="-2635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26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чень нравится девочка или мальчик, и Ты не знаешь, как привлечь ее (его) внимание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3520" indent="-2635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26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ошел конфликт с кем-то из старших, и в связи с этим тревога не покидает Тебя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3520" indent="-2635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26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школе проблема с учителями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3520" indent="-2635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26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дители не понимают и Ты не знаешь, как себя с ними вести и заслужить их уважение и понимание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3520" indent="-2635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26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сора с другом (подругой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3520" indent="-2635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26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идели в школе (на улице, дома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3520" indent="-2635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26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гда больше не хочется никого видеть и ни с кем общаться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3520" indent="-2635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26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руг курит (употребляет алкоголь или наркотики); как помочь ему избавиться от этой зависимости? К кому обратиться за помощью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3520" indent="-2635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26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ы попал в безвыходную ситуацию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3520" indent="-2635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263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кую профессию выбрать и кем стать в будущем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8" descr="91854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086600" y="5130720"/>
              <a:ext cx="1981080" cy="165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4" name="Picture 12" descr="Рисунок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WordArt 3"/>
            <p:cNvSpPr txBox="1"/>
            <p:nvPr/>
          </p:nvSpPr>
          <p:spPr>
            <a:xfrm>
              <a:off x="2971800" y="6324480"/>
              <a:ext cx="320040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0">
                    <a:noFill/>
                  </a:ln>
                  <a:solidFill>
                    <a:srgbClr val="800000"/>
                  </a:solidFill>
                  <a:latin typeface="Impact"/>
                </a:rPr>
                <a:t>8-800-2000-122</a:t>
              </a:r>
              <a:endParaRPr b="0" lang="en-US" sz="3200" spc="1" strike="noStrike">
                <a:ln w="0">
                  <a:noFill/>
                </a:ln>
                <a:solidFill>
                  <a:srgbClr val="800000"/>
                </a:solidFill>
                <a:latin typeface="Impact"/>
                <a:ea typeface="Impact"/>
              </a:endParaRPr>
            </a:p>
          </p:txBody>
        </p:sp>
        <p:sp>
          <p:nvSpPr>
            <p:cNvPr id="96" name="WordArt 5"/>
            <p:cNvSpPr txBox="1"/>
            <p:nvPr/>
          </p:nvSpPr>
          <p:spPr>
            <a:xfrm>
              <a:off x="1981080" y="152280"/>
              <a:ext cx="350532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0">
                    <a:noFill/>
                  </a:ln>
                  <a:solidFill>
                    <a:srgbClr val="000000"/>
                  </a:solidFill>
                  <a:latin typeface="Impact"/>
                </a:rPr>
                <a:t>Кто ТЕБЯ консультирует?</a:t>
              </a:r>
              <a:endPara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4191120" y="532080"/>
              <a:ext cx="48006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качестве консультантов выступают психологи или добровольцы, прошедшие специальную подготовку. Консультанты проходят обучение по формированию навыков телефонного консультирования, развитию толерантности и изучают теоретический материал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7" descr="hotline-in-call-center"/>
            <p:cNvPicPr/>
            <p:nvPr/>
          </p:nvPicPr>
          <p:blipFill>
            <a:blip r:embed="rId2"/>
            <a:stretch/>
          </p:blipFill>
          <p:spPr>
            <a:xfrm>
              <a:off x="152280" y="647640"/>
              <a:ext cx="3886200" cy="2670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9" name="WordArt 8"/>
            <p:cNvSpPr txBox="1"/>
            <p:nvPr/>
          </p:nvSpPr>
          <p:spPr>
            <a:xfrm>
              <a:off x="4419720" y="2971800"/>
              <a:ext cx="350496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0">
                    <a:noFill/>
                  </a:ln>
                  <a:solidFill>
                    <a:srgbClr val="0000ff"/>
                  </a:solidFill>
                  <a:latin typeface="Impact"/>
                </a:rPr>
                <a:t>Качества консультанта</a:t>
              </a:r>
              <a:endParaRPr b="0" lang="en-US" sz="3200" spc="1" strike="noStrike">
                <a:ln w="0">
                  <a:noFill/>
                </a:ln>
                <a:solidFill>
                  <a:srgbClr val="0000ff"/>
                </a:solidFill>
                <a:latin typeface="Impact"/>
                <a:ea typeface="Impact"/>
              </a:endParaRPr>
            </a:p>
          </p:txBody>
        </p:sp>
        <p:sp>
          <p:nvSpPr>
            <p:cNvPr id="100" name="Rectangle 9"/>
            <p:cNvSpPr/>
            <p:nvPr/>
          </p:nvSpPr>
          <p:spPr>
            <a:xfrm>
              <a:off x="152280" y="3656160"/>
              <a:ext cx="45720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 осуждает друг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ьше выслушивает, чем совету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рпели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интересован в другом человек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говаривает на рав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25092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пускает, что при определенных обстоятельствах подобная ситуация могла приключиться и с ни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10" descr="call-center-2"/>
            <p:cNvPicPr/>
            <p:nvPr/>
          </p:nvPicPr>
          <p:blipFill>
            <a:blip r:embed="rId3"/>
            <a:stretch/>
          </p:blipFill>
          <p:spPr>
            <a:xfrm>
              <a:off x="4952880" y="3581280"/>
              <a:ext cx="3962520" cy="2625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6:28:02Z</dcterms:created>
  <dc:creator>Exess</dc:creator>
  <dc:description/>
  <dc:language>en-US</dc:language>
  <cp:lastModifiedBy>Евгения</cp:lastModifiedBy>
  <dcterms:modified xsi:type="dcterms:W3CDTF">2015-05-13T04:58:0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