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3C9-7023-4EE6-B6E5-E8CECBA3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614-1EDD-492C-9D40-FEEE993A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6EA-40AF-46A2-8B30-AF53CD49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B6E-A0B4-41C0-9FFE-21931B08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4180-BB2F-424F-8F64-03C238A7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0073-0755-4394-8352-8FEDB074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9036-F675-4320-BD02-CBD22A58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48A8-2EE3-49FD-A117-D626B71B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271F-508A-4A11-BB4A-E16D4485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A995-8AA4-4A79-81A0-F24913BA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8F5B-FEFA-405F-B513-DF1690F2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EBF-89CB-46AD-A561-3AFB2E75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39AE-530C-4CB3-B942-66B0FEFA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93F8-0A0B-49D1-8DCE-07E913FC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066B-DC76-403A-9DE0-31DF1AE0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C018-7C65-485E-BCC8-73EBEB4D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9676-05D2-4387-93D0-844F0CD9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F25-13B9-400F-8EE3-E662598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107-9534-409D-AE89-01BF9DE5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5B6-8D52-4384-875A-75F93BE2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919-D03E-44A0-AA4D-89454744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44D-3E62-484D-AF98-6539CB39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360-B3F4-46FF-9E26-B6F441D0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2E4-5658-40C8-9F8D-DA7CD34A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3D99-55CF-4B37-AE00-5F017B7A188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D0A4-A197-45FB-BE2A-F519D27F5C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5"/>
          <p:cNvSpPr txBox="1"/>
          <p:nvPr/>
        </p:nvSpPr>
        <p:spPr>
          <a:xfrm>
            <a:off x="762120" y="1523880"/>
            <a:ext cx="7391160" cy="22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мники и Умницы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2 конкурс</a:t>
            </a:r>
            <a:br>
              <a:rPr sz="4000"/>
            </a:b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«Знаешь ли ты пословицы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3. Ученье – свет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 неученье -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2 конкурс</a:t>
            </a:r>
            <a:br>
              <a:rPr sz="4000"/>
            </a:b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«Знаешь ли ты пословицы?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3. Ученье – свет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 неученье – </a:t>
            </a:r>
            <a:r>
              <a:rPr b="1" lang="ru-RU" sz="4000" spc="-1" strike="noStrike">
                <a:solidFill>
                  <a:srgbClr val="99ff33"/>
                </a:solidFill>
                <a:latin typeface="Tahoma"/>
              </a:rPr>
              <a:t>тьм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2 конкурс</a:t>
            </a:r>
            <a:br>
              <a:rPr sz="4000"/>
            </a:b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«Знаешь ли ты пословицы?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4. Кто много читает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от много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2 конкурс</a:t>
            </a:r>
            <a:br>
              <a:rPr sz="4000"/>
            </a:b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«Знаешь ли ты пословицы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4. Кто много читает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от много </a:t>
            </a:r>
            <a:r>
              <a:rPr b="1" lang="ru-RU" sz="4000" spc="-1" strike="noStrike">
                <a:solidFill>
                  <a:srgbClr val="99ff33"/>
                </a:solidFill>
                <a:latin typeface="Tahoma"/>
              </a:rPr>
              <a:t>зна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3 конкурс «Знатоки»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i="1" lang="ru-RU" sz="4000" spc="-1" strike="noStrike">
                <a:solidFill>
                  <a:srgbClr val="3399ff"/>
                </a:solidFill>
                <a:latin typeface="Tahoma"/>
              </a:rPr>
              <a:t>Соотнесит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99ff"/>
                </a:solidFill>
                <a:latin typeface="Tahoma"/>
              </a:rPr>
              <a:t>       </a:t>
            </a:r>
            <a:r>
              <a:rPr b="1" i="1" lang="ru-RU" sz="4000" spc="-1" strike="noStrike">
                <a:solidFill>
                  <a:srgbClr val="3399ff"/>
                </a:solidFill>
                <a:latin typeface="Tahoma"/>
              </a:rPr>
              <a:t>термины и опреде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64d5"/>
                </a:solidFill>
                <a:latin typeface="Arial"/>
              </a:rPr>
              <a:t>3 конкурс «Знатоки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Ск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Сказ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Ми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133360" y="15998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Древнее народное сказание о легендарных богах, героях, о происхождении прир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ahoma"/>
              </a:rPr>
              <a:t>Занимательный рассказ о необыкновенных событиях и приключен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864d5"/>
                </a:solidFill>
                <a:latin typeface="Tahoma"/>
              </a:rPr>
              <a:t>Жанр эпоса, опирающийся на народные предания и легенды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864d5"/>
                </a:solidFill>
                <a:latin typeface="Tahoma"/>
              </a:rPr>
              <a:t>для него характерно сочетание точных зарисовок народного бы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7"/>
          <p:cNvSpPr/>
          <p:nvPr/>
        </p:nvSpPr>
        <p:spPr>
          <a:xfrm flipV="1">
            <a:off x="1371600" y="2133360"/>
            <a:ext cx="91440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1371600" y="1905120"/>
            <a:ext cx="914400" cy="358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9"/>
          <p:cNvSpPr/>
          <p:nvPr/>
        </p:nvSpPr>
        <p:spPr>
          <a:xfrm flipV="1">
            <a:off x="1676520" y="3429000"/>
            <a:ext cx="5331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64d5"/>
                </a:solidFill>
                <a:latin typeface="Arial"/>
              </a:rPr>
              <a:t>4 конкур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WordArt 8"/>
          <p:cNvSpPr txBox="1"/>
          <p:nvPr/>
        </p:nvSpPr>
        <p:spPr>
          <a:xfrm>
            <a:off x="838080" y="1828800"/>
            <a:ext cx="7543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гадай - ка!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64d5"/>
                </a:solidFill>
                <a:latin typeface="Arial"/>
              </a:rPr>
              <a:t>5 конкур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WordArt 5"/>
          <p:cNvSpPr txBox="1"/>
          <p:nvPr/>
        </p:nvSpPr>
        <p:spPr>
          <a:xfrm>
            <a:off x="685800" y="1905120"/>
            <a:ext cx="7010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й 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</a:t>
            </a: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</a:t>
            </a: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рет?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864d5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864d5"/>
                </a:solidFill>
                <a:latin typeface="Arial"/>
              </a:rPr>
              <a:t>6 конкур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Назовите всех герое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из указанного  произве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7 конкурс. Конкурс капитанов.</a:t>
            </a:r>
            <a:br>
              <a:rPr sz="4000"/>
            </a:b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«Кто последний?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Назовите фамилии поэтов, которые писали стих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              </a:t>
            </a: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о приро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64d5"/>
                </a:solidFill>
                <a:latin typeface="Arial"/>
              </a:rPr>
              <a:t>1 конкурс. «Разминка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Что в переводе с латинского языка означает слово </a:t>
            </a:r>
            <a:r>
              <a:rPr b="0" i="1" lang="ru-RU" sz="3200" spc="-1" strike="noStrike">
                <a:solidFill>
                  <a:srgbClr val="99ff33"/>
                </a:solidFill>
                <a:latin typeface="Tahoma"/>
              </a:rPr>
              <a:t>литерату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Написанно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Рассказанно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Услышанно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64d5"/>
                </a:solidFill>
                <a:latin typeface="Arial"/>
              </a:rPr>
              <a:t>8 конкур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ru-RU" sz="4000" spc="-1" strike="noStrike">
                <a:solidFill>
                  <a:srgbClr val="3399ff"/>
                </a:solidFill>
                <a:latin typeface="Tahoma"/>
              </a:rPr>
              <a:t>Перечислит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99ff"/>
                </a:solidFill>
                <a:latin typeface="Tahoma"/>
              </a:rPr>
              <a:t>            </a:t>
            </a:r>
            <a:r>
              <a:rPr b="1" i="1" lang="ru-RU" sz="4000" spc="-1" strike="noStrike">
                <a:solidFill>
                  <a:srgbClr val="3399ff"/>
                </a:solidFill>
                <a:latin typeface="Tahoma"/>
              </a:rPr>
              <a:t>известные вам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99ff"/>
                </a:solidFill>
                <a:latin typeface="Tahoma"/>
              </a:rPr>
              <a:t>          </a:t>
            </a:r>
            <a:r>
              <a:rPr b="1" i="1" lang="ru-RU" sz="4000" spc="-1" strike="noStrike">
                <a:solidFill>
                  <a:srgbClr val="3399ff"/>
                </a:solidFill>
                <a:latin typeface="Tahoma"/>
              </a:rPr>
              <a:t>сказы П.П.Бажо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9 конкурс.</a:t>
            </a:r>
            <a:br>
              <a:rPr sz="4000"/>
            </a:b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«Наведи порядок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304920" y="1828800"/>
            <a:ext cx="7543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бери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</a:t>
            </a: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тверостишие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05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06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95"/>
          <p:cNvPicPr/>
          <p:nvPr/>
        </p:nvPicPr>
        <p:blipFill>
          <a:blip r:embed="rId1"/>
          <a:stretch/>
        </p:blipFill>
        <p:spPr>
          <a:xfrm>
            <a:off x="0" y="4441680"/>
            <a:ext cx="4038480" cy="2416320"/>
          </a:xfrm>
          <a:prstGeom prst="rect">
            <a:avLst/>
          </a:prstGeom>
          <a:ln w="0">
            <a:noFill/>
          </a:ln>
        </p:spPr>
      </p:pic>
      <p:sp>
        <p:nvSpPr>
          <p:cNvPr id="198" name="WordArt 8"/>
          <p:cNvSpPr txBox="1"/>
          <p:nvPr/>
        </p:nvSpPr>
        <p:spPr>
          <a:xfrm>
            <a:off x="533520" y="1676520"/>
            <a:ext cx="78483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ение - вот лучший способ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ть образованным человеком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64d5"/>
                </a:solidFill>
                <a:latin typeface="Arial"/>
              </a:rPr>
              <a:t>1 конкурс. «Разминка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2. Назовите имя великого князя, который любил читать, собрал большую библиотеку и организовал особые школы для переписчиков кни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ван Гроз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ётр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рослав Мудр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64d5"/>
                </a:solidFill>
                <a:latin typeface="Arial"/>
              </a:rPr>
              <a:t>1 конкурс. «Разминка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3. Продолжите известную фразу А.С.Пушкина: «Чтение – вот лучшее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ле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64d5"/>
                </a:solidFill>
                <a:latin typeface="Arial"/>
              </a:rPr>
              <a:t>1конкурс «Разминка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4. Кто устроил первую в России типографию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рилл и Мефод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А.Жуко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ван Фёдо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2 конкурс </a:t>
            </a:r>
            <a:br>
              <a:rPr sz="4000"/>
            </a:b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«Знаешь ли ты пословицы?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орень учения горек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да плод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2 конкурс </a:t>
            </a:r>
            <a:br>
              <a:rPr sz="4000"/>
            </a:b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«Знаешь ли ты пословицы?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Корень учения горек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да плод </a:t>
            </a:r>
            <a:r>
              <a:rPr b="1" i="1" lang="ru-RU" sz="4000" spc="-1" strike="noStrike">
                <a:solidFill>
                  <a:srgbClr val="99ff33"/>
                </a:solidFill>
                <a:latin typeface="Tahoma"/>
              </a:rPr>
              <a:t>сладо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2 конкурс</a:t>
            </a:r>
            <a:br>
              <a:rPr sz="4000"/>
            </a:b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«Знаешь ли ты пословицы?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2. Повторенье – мать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2 конкурс</a:t>
            </a:r>
            <a:br>
              <a:rPr sz="4000"/>
            </a:br>
            <a:r>
              <a:rPr b="1" lang="ru-RU" sz="4000" spc="-1" strike="noStrike">
                <a:solidFill>
                  <a:srgbClr val="e864d5"/>
                </a:solidFill>
                <a:latin typeface="Arial"/>
              </a:rPr>
              <a:t>«Знаешь ли ты пословицы?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2. Повторенье – мать </a:t>
            </a:r>
            <a:r>
              <a:rPr b="1" i="1" lang="ru-RU" sz="4000" spc="-1" strike="noStrike">
                <a:solidFill>
                  <a:srgbClr val="99ff33"/>
                </a:solidFill>
                <a:latin typeface="Tahoma"/>
              </a:rPr>
              <a:t>учень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6-12-01T17:21:5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