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5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36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40.png" ContentType="image/png"/>
  <Override PartName="/ppt/media/image42.png" ContentType="image/png"/>
  <Override PartName="/ppt/media/image43.jpeg" ContentType="image/jpeg"/>
  <Override PartName="/ppt/media/image45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9.jpeg" ContentType="image/jpeg"/>
  <Override PartName="/ppt/media/image4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C0E-3BD7-408B-B0EC-060C2702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2D4-0B2B-4923-83D3-190FE248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8B7-B465-4592-AECF-6CD0B46D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E6B-FAC9-4DE0-9F98-C7E55109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5141-4782-47C8-8221-4AE6174C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F241-A7CE-4811-A7B4-29C9F2A2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194C-D282-4CA9-8951-E2F81D26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DD1D-617A-4128-AF4D-C2EF9B54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10C0-F787-4CAE-97C1-0DF278CA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4599-D329-442C-A6A7-AA884CAA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CB26-4D14-4684-87ED-1CE5B0F2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77D-E95D-4E61-97E8-2454BE78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9448-B1E4-45B5-9640-CAEA2321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C797-3B89-4988-BA8C-0AB1DC0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385A-1760-4BF1-BF94-F9C29089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F215-E787-4041-8C5D-FCF2C3C5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AD86-8D8F-47D7-BB23-E4DF628B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DBD0-A281-4A59-BCC4-ABB0513C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31BF-2354-4EAF-8673-B4FB3F26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883B-367D-41F1-A599-26A13559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294E-3C59-43D9-AD87-08A858FD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C1C9-544A-4FB7-9C9C-DA9AA708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ED2-2273-4392-BA2E-6C52C85A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C59E-4BB6-4429-891C-E12E3042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CD9B-3510-44AF-A233-6C34E617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1EF2-6C2B-444D-BD02-59858C1E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B401-111C-42E7-B4D6-DF7EBF6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CAC9-E7EF-41B4-BE2A-B749EF60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B645-67DD-49EE-B02E-BCE8A4D0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C41E-3146-4F69-BB19-A352D335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672D-8ADA-4CD6-BE45-0AF55273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95203-AB3B-406E-817A-47073C44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9CF5-42A5-4F04-B7BA-C26EF835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E7A-FAA8-41E3-BA60-CD6724FC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EA7BB-2BD7-4AF0-8B16-8E3A0F68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DB50-2812-4619-A421-AC951A2B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57E2-2229-41D9-8151-1D27BAF3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768FF-D3A3-4E99-8057-2D6609B7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FAECA-8FB9-429B-87B7-54877DD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DC63-13FE-4FE4-BC34-07C193B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2F1FF-0485-4111-87B0-F89F2688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EC8C-F3C6-4A8D-A36C-83E2C2D7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FC4D-9E64-4C47-A2D3-3D3B1D29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A798B-F314-4E33-8A78-FB7F8350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25A-7F5B-4702-BAFD-6E60F22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D2F10-5BA8-407B-9EA3-777CC22A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62C07-FDF8-4012-8218-8C9E6BC4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A025-1911-4C41-8B8C-F935020A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F5B1D-BF68-4B8D-87A5-352DD2A1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22900-933D-4697-8D95-A189B58A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4A46A-8309-42DF-B22E-6A1B4D78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0957-5562-4C75-B8BF-03E35B3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CAABF-E062-4866-A71C-84F67D26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C5BDC-308D-4E76-8A2F-0E8CAD35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E34C-7A77-421E-8F58-E0DADADC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DEF-12BA-4E38-B8DD-1FFE14CE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3349-8878-48F9-875E-653F760A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26695-4EBD-4798-9C42-E0D1D0A3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0E36-1C79-416C-A568-5E2466D6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D2E32-7659-48B5-B8E0-5A61EE1C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4C4A-EEC3-48A7-B73A-40DEAE4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E95E-2185-4C2A-92F0-63B905EC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74F78-2468-4384-9FDB-2D74E367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96F79-AC99-41DB-B0A4-240763F9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8804-CB68-41D5-85CA-3B8C4CA5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DB453-1CE7-4185-97E6-CD514BF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4E2-809E-44E1-9F5D-B0B536C4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C5253-6494-4D56-B7AE-0270C657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6DBBD-DB50-43A6-B6AB-8F844187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AF0D-CF3F-4417-B5C9-B62CC670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F2FAC-B5E6-4BF7-83AA-5DD7557F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08E3-367B-4CCE-9EA7-1DCB0D05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73F1-1999-4E5B-8810-AB155308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CEDE-5F01-425C-884A-E4513032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2221A-FA44-4833-A42B-0DB2CEE8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C258F-6264-4B69-B874-A5323A74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A3953-E432-46BA-AD49-E83CFAF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073-C380-47B4-B0EE-1BB1C188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358D1-7EA2-4D4F-BE93-36FA1D5B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38AC-ED9D-4741-A734-76216B0B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85BD0-4624-4D9A-AC00-E3F8E033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1494-9F19-4E95-B1AA-5CB796F4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4160D-3F07-43B9-8043-2EB72DDD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020-B227-4FB8-8D0B-BB8BB63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7D5A-EDCE-48F1-996F-5CA5D3E5082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5C2C-0086-4C15-AEB9-E7F55A517007}" type="slidenum">
              <a:rPr b="0" lang="ru-RU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E2F-CEE8-49FC-AFDB-55A80597A72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5573-1399-4288-AEC3-AD08F0D4A51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B384-10EB-4FCC-9763-EC637F0E1BD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4604-C697-4BC2-8322-D149AB387817}" type="slidenum">
              <a:rPr b="0" lang="ru-RU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31C0-7F9D-4543-88C0-0424C30F4078}" type="slidenum">
              <a:rPr b="0" lang="ru-RU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1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jpeg"/><Relationship Id="rId3" Type="http://schemas.openxmlformats.org/officeDocument/2006/relationships/image" Target="../media/image32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6.xml"/><Relationship Id="rId3" Type="http://schemas.openxmlformats.org/officeDocument/2006/relationships/image" Target="../media/image17.jpeg"/><Relationship Id="rId4" Type="http://schemas.openxmlformats.org/officeDocument/2006/relationships/slide" Target="slide7.xm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" Target="slide8.xm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slide" Target="slide5.xml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8.jpeg"/><Relationship Id="rId4" Type="http://schemas.openxmlformats.org/officeDocument/2006/relationships/slide" Target="slide5.xml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4" descr=""/>
          <p:cNvPicPr/>
          <p:nvPr/>
        </p:nvPicPr>
        <p:blipFill>
          <a:blip r:embed="rId1"/>
          <a:stretch/>
        </p:blipFill>
        <p:spPr>
          <a:xfrm>
            <a:off x="1243080" y="0"/>
            <a:ext cx="6615000" cy="1073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Арктика 2"/>
          <p:cNvPicPr/>
          <p:nvPr/>
        </p:nvPicPr>
        <p:blipFill>
          <a:blip r:embed="rId2"/>
          <a:stretch/>
        </p:blipFill>
        <p:spPr>
          <a:xfrm>
            <a:off x="179280" y="1125360"/>
            <a:ext cx="3167280" cy="240696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03" name="Picture 9" descr="Арктика 4"/>
          <p:cNvPicPr/>
          <p:nvPr/>
        </p:nvPicPr>
        <p:blipFill>
          <a:blip r:embed="rId3"/>
          <a:stretch/>
        </p:blipFill>
        <p:spPr>
          <a:xfrm>
            <a:off x="179280" y="4076640"/>
            <a:ext cx="3168720" cy="252108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779640" y="1125000"/>
            <a:ext cx="511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рктика – это всё огромно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пространство Северного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Ледовитого океана вместе 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морями и островами. Н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стровах Арктик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расположена зон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рктических пустынь, ил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ледяная зона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строва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Земля Франца Иосифа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Северная Земля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Новосибирские острова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остров Врангел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4498920" y="-139680"/>
            <a:ext cx="3529080" cy="117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Атлантические моржи"/>
          <p:cNvPicPr/>
          <p:nvPr/>
        </p:nvPicPr>
        <p:blipFill>
          <a:blip r:embed="rId2"/>
          <a:stretch/>
        </p:blipFill>
        <p:spPr>
          <a:xfrm>
            <a:off x="250920" y="2492280"/>
            <a:ext cx="2808360" cy="202896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64" name="Picture 8" descr="Детёныш моржа"/>
          <p:cNvPicPr/>
          <p:nvPr/>
        </p:nvPicPr>
        <p:blipFill>
          <a:blip r:embed="rId3"/>
          <a:stretch/>
        </p:blipFill>
        <p:spPr>
          <a:xfrm>
            <a:off x="250920" y="4653000"/>
            <a:ext cx="2808360" cy="20160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276720" y="981000"/>
            <a:ext cx="5688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Это млекопитающее с длинными клыками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орж-самец огромен: он может весить 150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г, в то время как масса самки до 1000 кг. 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оржа морщинистое тело, покрытое редко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щетиной. Его сильный голос напоминает рё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льва, мычание быка. Во время сна он звуч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храпывает. Может часами отдыхать н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олнце. Морж раздражителен и строптив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однако он не замедлит прийти на помощ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воему собрату, которого атакуют охотник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 кожей моржа плотный слой жира, он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лужит ему одновременно и защитой о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холода, и резервным запасом пищи. Клык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езаменимы в жизни моржа: он защищаетс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ими от врагов, буравит ими морское дно, с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их помощью вскарабкивается на льдину 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ередвигается по льдине или земл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9" descr="Морж"/>
          <p:cNvPicPr/>
          <p:nvPr/>
        </p:nvPicPr>
        <p:blipFill>
          <a:blip r:embed="rId4"/>
          <a:stretch/>
        </p:blipFill>
        <p:spPr>
          <a:xfrm>
            <a:off x="250920" y="260280"/>
            <a:ext cx="2808360" cy="210672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67" name="AutoShape 10"/>
          <p:cNvSpPr/>
          <p:nvPr/>
        </p:nvSpPr>
        <p:spPr>
          <a:xfrm>
            <a:off x="7812000" y="260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7493"/>
                </a:moveTo>
                <a:lnTo>
                  <a:pt x="18063" y="7493"/>
                </a:lnTo>
                <a:lnTo>
                  <a:pt x="18063" y="12828"/>
                </a:lnTo>
                <a:cubicBezTo>
                  <a:pt x="18063" y="13751"/>
                  <a:pt x="18863" y="14482"/>
                  <a:pt x="19899" y="14482"/>
                </a:cubicBezTo>
                <a:lnTo>
                  <a:pt x="21562" y="14482"/>
                </a:lnTo>
                <a:cubicBezTo>
                  <a:pt x="22597" y="14482"/>
                  <a:pt x="23398" y="13751"/>
                  <a:pt x="23398" y="12828"/>
                </a:cubicBezTo>
                <a:lnTo>
                  <a:pt x="23398" y="7493"/>
                </a:lnTo>
                <a:lnTo>
                  <a:pt x="21562" y="7493"/>
                </a:lnTo>
                <a:lnTo>
                  <a:pt x="25069" y="3985"/>
                </a:lnTo>
                <a:lnTo>
                  <a:pt x="28742" y="7493"/>
                </a:lnTo>
                <a:lnTo>
                  <a:pt x="26906" y="7493"/>
                </a:lnTo>
                <a:lnTo>
                  <a:pt x="26906" y="12828"/>
                </a:lnTo>
                <a:cubicBezTo>
                  <a:pt x="26906" y="15596"/>
                  <a:pt x="24329" y="18155"/>
                  <a:pt x="21562" y="18155"/>
                </a:cubicBezTo>
                <a:lnTo>
                  <a:pt x="19899" y="18155"/>
                </a:lnTo>
                <a:cubicBezTo>
                  <a:pt x="17131" y="18155"/>
                  <a:pt x="14555" y="15596"/>
                  <a:pt x="14555" y="12828"/>
                </a:cubicBez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3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3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3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4" descr=""/>
          <p:cNvPicPr/>
          <p:nvPr/>
        </p:nvPicPr>
        <p:blipFill>
          <a:blip r:embed="rId1"/>
          <a:stretch/>
        </p:blipFill>
        <p:spPr>
          <a:xfrm>
            <a:off x="4857840" y="0"/>
            <a:ext cx="3670200" cy="1176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Тюлень Арктики"/>
          <p:cNvPicPr/>
          <p:nvPr/>
        </p:nvPicPr>
        <p:blipFill>
          <a:blip r:embed="rId2"/>
          <a:stretch/>
        </p:blipFill>
        <p:spPr>
          <a:xfrm>
            <a:off x="179280" y="333360"/>
            <a:ext cx="2952720" cy="198108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70" name="Picture 12" descr="Тюлени"/>
          <p:cNvPicPr/>
          <p:nvPr/>
        </p:nvPicPr>
        <p:blipFill>
          <a:blip r:embed="rId3"/>
          <a:stretch/>
        </p:blipFill>
        <p:spPr>
          <a:xfrm>
            <a:off x="179280" y="2492280"/>
            <a:ext cx="2970360" cy="19814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348000" y="907560"/>
            <a:ext cx="561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юлень – это ластоногое животное. Он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екрасный пловец: у него удлинённое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обтекаемое тело, а ноги превратились в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ласты. Под кожей тюленя толстый сло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жира, который защищает его от холод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 воде тюлени добывают себе корм, 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отдыхают и выращивают потомство н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льдине или на суше. Питаются тюлени н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олько рыбой, но и ракообразными. После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удачной охоты тюлени выбираются на сушу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и часами отдыхают, подставляя солнцу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ытое брюхо. На суше тюлени неуклюжи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ередвигаются, ползая на брюхе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Детёныша тюленя называют белёк – по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цвету меха. Как правило у самки рождаетс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сего один детёныш. Из-за ценного мех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бельков уничтожали, но сейчас охота н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их запрещен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Picture 10" descr="Детёныш"/>
          <p:cNvPicPr/>
          <p:nvPr/>
        </p:nvPicPr>
        <p:blipFill>
          <a:blip r:embed="rId4"/>
          <a:stretch/>
        </p:blipFill>
        <p:spPr>
          <a:xfrm>
            <a:off x="179280" y="4653000"/>
            <a:ext cx="2951280" cy="19940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73" name="AutoShape 13"/>
          <p:cNvSpPr/>
          <p:nvPr/>
        </p:nvSpPr>
        <p:spPr>
          <a:xfrm>
            <a:off x="8172360" y="26028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7493"/>
                </a:moveTo>
                <a:lnTo>
                  <a:pt x="11920" y="7493"/>
                </a:lnTo>
                <a:lnTo>
                  <a:pt x="11920" y="12828"/>
                </a:lnTo>
                <a:cubicBezTo>
                  <a:pt x="11920" y="13751"/>
                  <a:pt x="12721" y="14482"/>
                  <a:pt x="13756" y="14482"/>
                </a:cubicBezTo>
                <a:lnTo>
                  <a:pt x="15419" y="14482"/>
                </a:lnTo>
                <a:cubicBezTo>
                  <a:pt x="16454" y="14482"/>
                  <a:pt x="17255" y="13751"/>
                  <a:pt x="17255" y="12828"/>
                </a:cubicBezTo>
                <a:lnTo>
                  <a:pt x="17255" y="7493"/>
                </a:lnTo>
                <a:lnTo>
                  <a:pt x="15419" y="7493"/>
                </a:lnTo>
                <a:lnTo>
                  <a:pt x="18926" y="3985"/>
                </a:lnTo>
                <a:lnTo>
                  <a:pt x="22599" y="7493"/>
                </a:lnTo>
                <a:lnTo>
                  <a:pt x="20763" y="7493"/>
                </a:lnTo>
                <a:lnTo>
                  <a:pt x="20763" y="12828"/>
                </a:lnTo>
                <a:cubicBezTo>
                  <a:pt x="20763" y="15596"/>
                  <a:pt x="18186" y="18155"/>
                  <a:pt x="15419" y="18155"/>
                </a:cubicBezTo>
                <a:lnTo>
                  <a:pt x="13756" y="18155"/>
                </a:lnTo>
                <a:cubicBezTo>
                  <a:pt x="10988" y="18155"/>
                  <a:pt x="8412" y="15596"/>
                  <a:pt x="8412" y="12828"/>
                </a:cubicBez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3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3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3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3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4" descr=""/>
          <p:cNvPicPr/>
          <p:nvPr/>
        </p:nvPicPr>
        <p:blipFill>
          <a:blip r:embed="rId1"/>
          <a:stretch/>
        </p:blipFill>
        <p:spPr>
          <a:xfrm>
            <a:off x="3492360" y="96840"/>
            <a:ext cx="5480280" cy="1171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Белый медведь"/>
          <p:cNvPicPr/>
          <p:nvPr/>
        </p:nvPicPr>
        <p:blipFill>
          <a:blip r:embed="rId2"/>
          <a:srcRect l="0" t="0" r="0" b="9131"/>
          <a:stretch/>
        </p:blipFill>
        <p:spPr>
          <a:xfrm>
            <a:off x="250920" y="260280"/>
            <a:ext cx="2641680" cy="201636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76" name="Picture 9" descr="Белые медведи"/>
          <p:cNvPicPr/>
          <p:nvPr/>
        </p:nvPicPr>
        <p:blipFill>
          <a:blip r:embed="rId3"/>
          <a:stretch/>
        </p:blipFill>
        <p:spPr>
          <a:xfrm>
            <a:off x="250920" y="2492280"/>
            <a:ext cx="2619360" cy="19814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131640" y="1125000"/>
            <a:ext cx="5761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Белый медведь замечательно приспособлен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 условиям Арктики. Густая длинная шерсть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белый цвет меха, широкие лапы, чтобы был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удобнее передвигаться по льду и снегу. Он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замечательно плавает – этому способствуе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ерепонка, которой соединены между собо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ушечки его лап. Он самый крупный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хищник в мире. Обычно он весит от 150 кг д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500 кг. Масса некоторых представителе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евышает 700 кг. Охотясь на тюленей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едведь порой часами стоит на краю льдин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ак только тюлень выныривает, чтобы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абрать воздуха, медведь его хватает и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ащит из воды. В конце осени самка белог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едведя роет в снегу берлогу. В декабре –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январе рождаются как правило, дв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едвежонка, но только весной они впервы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ыйдут из берлог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10" descr="Белый медведь на охоте"/>
          <p:cNvPicPr/>
          <p:nvPr/>
        </p:nvPicPr>
        <p:blipFill>
          <a:blip r:embed="rId4"/>
          <a:stretch/>
        </p:blipFill>
        <p:spPr>
          <a:xfrm>
            <a:off x="250920" y="4724280"/>
            <a:ext cx="2665440" cy="194472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79" name="AutoShape 11"/>
          <p:cNvSpPr/>
          <p:nvPr/>
        </p:nvSpPr>
        <p:spPr>
          <a:xfrm>
            <a:off x="7607160" y="6308640"/>
            <a:ext cx="1224000" cy="405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5241" h="21600">
                <a:moveTo>
                  <a:pt x="0" y="0"/>
                </a:moveTo>
                <a:lnTo>
                  <a:pt x="65241" y="0"/>
                </a:lnTo>
                <a:lnTo>
                  <a:pt x="65241" y="21600"/>
                </a:lnTo>
                <a:lnTo>
                  <a:pt x="0" y="21600"/>
                </a:lnTo>
                <a:close/>
              </a:path>
              <a:path fill="lightenLess" w="65241" h="21600">
                <a:moveTo>
                  <a:pt x="0" y="0"/>
                </a:moveTo>
                <a:lnTo>
                  <a:pt x="65241" y="0"/>
                </a:lnTo>
                <a:lnTo>
                  <a:pt x="63841" y="1400"/>
                </a:lnTo>
                <a:lnTo>
                  <a:pt x="1400" y="1400"/>
                </a:lnTo>
                <a:close/>
              </a:path>
              <a:path fill="darken" w="65241" h="21600">
                <a:moveTo>
                  <a:pt x="65241" y="0"/>
                </a:moveTo>
                <a:lnTo>
                  <a:pt x="65241" y="21600"/>
                </a:lnTo>
                <a:lnTo>
                  <a:pt x="63841" y="20200"/>
                </a:lnTo>
                <a:lnTo>
                  <a:pt x="63841" y="1400"/>
                </a:lnTo>
                <a:close/>
              </a:path>
              <a:path fill="darkenLess" w="65241" h="21600">
                <a:moveTo>
                  <a:pt x="65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841" y="20200"/>
                </a:lnTo>
                <a:close/>
              </a:path>
              <a:path fill="lighten" w="65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241" h="21600">
                <a:moveTo>
                  <a:pt x="25614" y="7493"/>
                </a:moveTo>
                <a:lnTo>
                  <a:pt x="29122" y="7493"/>
                </a:lnTo>
                <a:lnTo>
                  <a:pt x="29122" y="12828"/>
                </a:lnTo>
                <a:cubicBezTo>
                  <a:pt x="29122" y="13751"/>
                  <a:pt x="29922" y="14482"/>
                  <a:pt x="30958" y="14482"/>
                </a:cubicBezTo>
                <a:lnTo>
                  <a:pt x="32621" y="14482"/>
                </a:lnTo>
                <a:cubicBezTo>
                  <a:pt x="33656" y="14482"/>
                  <a:pt x="34457" y="13751"/>
                  <a:pt x="34457" y="12828"/>
                </a:cubicBezTo>
                <a:lnTo>
                  <a:pt x="34457" y="7493"/>
                </a:lnTo>
                <a:lnTo>
                  <a:pt x="32621" y="7493"/>
                </a:lnTo>
                <a:lnTo>
                  <a:pt x="36128" y="3985"/>
                </a:lnTo>
                <a:lnTo>
                  <a:pt x="39801" y="7493"/>
                </a:lnTo>
                <a:lnTo>
                  <a:pt x="37965" y="7493"/>
                </a:lnTo>
                <a:lnTo>
                  <a:pt x="37965" y="12828"/>
                </a:lnTo>
                <a:cubicBezTo>
                  <a:pt x="37965" y="15596"/>
                  <a:pt x="35388" y="18155"/>
                  <a:pt x="32621" y="18155"/>
                </a:cubicBezTo>
                <a:lnTo>
                  <a:pt x="30958" y="18155"/>
                </a:lnTo>
                <a:cubicBezTo>
                  <a:pt x="28190" y="18155"/>
                  <a:pt x="25614" y="15596"/>
                  <a:pt x="25614" y="12828"/>
                </a:cubicBez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4" descr=""/>
          <p:cNvPicPr/>
          <p:nvPr/>
        </p:nvPicPr>
        <p:blipFill>
          <a:blip r:embed="rId1"/>
          <a:stretch/>
        </p:blipFill>
        <p:spPr>
          <a:xfrm>
            <a:off x="469800" y="-13968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Люди в Арктике"/>
          <p:cNvPicPr/>
          <p:nvPr/>
        </p:nvPicPr>
        <p:blipFill>
          <a:blip r:embed="rId2"/>
          <a:stretch/>
        </p:blipFill>
        <p:spPr>
          <a:xfrm>
            <a:off x="3276720" y="765000"/>
            <a:ext cx="2641320" cy="19814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82" name="Picture 10" descr="Арктическая экспедиция"/>
          <p:cNvPicPr/>
          <p:nvPr/>
        </p:nvPicPr>
        <p:blipFill>
          <a:blip r:embed="rId3"/>
          <a:srcRect l="0" t="14504" r="0" b="0"/>
          <a:stretch/>
        </p:blipFill>
        <p:spPr>
          <a:xfrm>
            <a:off x="6227640" y="765000"/>
            <a:ext cx="2641680" cy="19814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83" name="Picture 11" descr="Полярный круг"/>
          <p:cNvPicPr/>
          <p:nvPr/>
        </p:nvPicPr>
        <p:blipFill>
          <a:blip r:embed="rId4"/>
          <a:stretch/>
        </p:blipFill>
        <p:spPr>
          <a:xfrm>
            <a:off x="179280" y="765000"/>
            <a:ext cx="2738520" cy="19814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84" name="Rectangle 1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ловек не является коренным жителем Арктики, но она всегда п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лекала людей своей загадочностью. На островах и во льдах Север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 Ледовитого океана работают научные станции. Проложен Север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рской путь. Люди наблюдают за погодой, изучают природу Север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нимаются рыболовством, охотой. Но не всегда это делают разум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настоящее время природе Арктики нанесён огромный ущерб. Ста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дкими такие животные, как белый медведь, морж, они внесены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асную книгу России. Стали редкими некоторые виды промыслов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ыб. Воды северных морей загрязняются мусором, вредными ве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 с проходящих судов. Это плохо отражается на жизни обита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й зоны, ведь они и так живут в суровых условиях. Люди задумали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д своим поведением, взяли под охрану редких животных, рыб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овлю ограничили, создали заповедн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3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4" descr=""/>
          <p:cNvPicPr/>
          <p:nvPr/>
        </p:nvPicPr>
        <p:blipFill>
          <a:blip r:embed="rId1"/>
          <a:stretch/>
        </p:blipFill>
        <p:spPr>
          <a:xfrm>
            <a:off x="469800" y="-30240"/>
            <a:ext cx="8217000" cy="1474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Остров Врангеля"/>
          <p:cNvPicPr/>
          <p:nvPr/>
        </p:nvPicPr>
        <p:blipFill>
          <a:blip r:embed="rId2"/>
          <a:srcRect l="0" t="0" r="0" b="7828"/>
          <a:stretch/>
        </p:blipFill>
        <p:spPr>
          <a:xfrm>
            <a:off x="179280" y="4292640"/>
            <a:ext cx="2735280" cy="230508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87" name="Picture 11" descr="Карта"/>
          <p:cNvPicPr/>
          <p:nvPr/>
        </p:nvPicPr>
        <p:blipFill>
          <a:blip r:embed="rId3"/>
          <a:stretch/>
        </p:blipFill>
        <p:spPr>
          <a:xfrm>
            <a:off x="179280" y="1341360"/>
            <a:ext cx="2737080" cy="24480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059280" y="1314000"/>
            <a:ext cx="5689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Заповедник был организован в 1976 год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Через весь остров с запада на восток иду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араллельно три цепи гор, разделённы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долинами. На остров прилетает большо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оличество птиц на гнездовья. Весной н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южном побережье можно встретить редкую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тицу –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Gothic"/>
              </a:rPr>
              <a:t>розовую чайку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. Она выводит здес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воё потомство. Остров – единственное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есто в нашей стране, где гнездятся редки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тицы –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Gothic"/>
              </a:rPr>
              <a:t>белые гуси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. В этом заповедник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амые крупные в мире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Gothic"/>
              </a:rPr>
              <a:t>скопления моржей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юда приходят медведицы из разных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уголков Арктики, чтобы вывести потомств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а острове обитает самое крупное копытно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животное Арктики –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Gothic"/>
              </a:rPr>
              <a:t>овцебык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, завезённый 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заповедник из Америки. В далёком прошло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он обитал на территории нашей страны, но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том исчез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cover dir="r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3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3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3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3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3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2" descr=""/>
          <p:cNvPicPr/>
          <p:nvPr/>
        </p:nvPicPr>
        <p:blipFill>
          <a:blip r:embed="rId1"/>
          <a:stretch/>
        </p:blipFill>
        <p:spPr>
          <a:xfrm>
            <a:off x="457200" y="-10332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Полярная ночь в Арктике"/>
          <p:cNvPicPr/>
          <p:nvPr/>
        </p:nvPicPr>
        <p:blipFill>
          <a:blip r:embed="rId2"/>
          <a:srcRect l="0" t="0" r="0" b="16424"/>
          <a:stretch/>
        </p:blipFill>
        <p:spPr>
          <a:xfrm>
            <a:off x="250920" y="1268280"/>
            <a:ext cx="2736720" cy="230508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03280" y="1267920"/>
            <a:ext cx="554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олнце направляет на это пространств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косые лучи. Оно светит, но не греет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Зимой в Арктике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полярная ночь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емноту освещают: луна, звёзды и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Северное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сияни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есколько месяцев подряд солнц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овсем не показывается – темнота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уют ветры, бушует пурга. Температур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пускается до -60 градус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етом в Арктике полярный день. Нескольк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есяцев круглые сутки светло. Но тепл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оже нет. Это зависит от географическог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ложения арктической зоны. Температур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ишь на несколько градусов выше нул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10" descr="Северное сияние"/>
          <p:cNvPicPr/>
          <p:nvPr/>
        </p:nvPicPr>
        <p:blipFill>
          <a:blip r:embed="rId3"/>
          <a:stretch/>
        </p:blipFill>
        <p:spPr>
          <a:xfrm>
            <a:off x="250920" y="4005360"/>
            <a:ext cx="2736720" cy="22716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</p:spTree>
  </p:cSld>
  <p:transition spd="med"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4" descr=""/>
          <p:cNvPicPr/>
          <p:nvPr/>
        </p:nvPicPr>
        <p:blipFill>
          <a:blip r:embed="rId1"/>
          <a:stretch/>
        </p:blipFill>
        <p:spPr>
          <a:xfrm>
            <a:off x="755640" y="-96840"/>
            <a:ext cx="7504200" cy="1809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Водоросли 1"/>
          <p:cNvPicPr/>
          <p:nvPr/>
        </p:nvPicPr>
        <p:blipFill>
          <a:blip r:embed="rId2"/>
          <a:stretch/>
        </p:blipFill>
        <p:spPr>
          <a:xfrm>
            <a:off x="324000" y="1484280"/>
            <a:ext cx="2641320" cy="22320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11" name="Picture 15" descr="Лишайники"/>
          <p:cNvPicPr/>
          <p:nvPr/>
        </p:nvPicPr>
        <p:blipFill>
          <a:blip r:embed="rId3"/>
          <a:stretch/>
        </p:blipFill>
        <p:spPr>
          <a:xfrm>
            <a:off x="6156360" y="1484280"/>
            <a:ext cx="2633760" cy="22320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12" name="Picture 11" descr="Мхи и лишайники"/>
          <p:cNvPicPr/>
          <p:nvPr/>
        </p:nvPicPr>
        <p:blipFill>
          <a:blip r:embed="rId4"/>
          <a:stretch/>
        </p:blipFill>
        <p:spPr>
          <a:xfrm>
            <a:off x="324000" y="4221000"/>
            <a:ext cx="2592360" cy="20876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13" name="Picture 12" descr="Полярный мак 2"/>
          <p:cNvPicPr/>
          <p:nvPr/>
        </p:nvPicPr>
        <p:blipFill>
          <a:blip r:embed="rId5"/>
          <a:stretch/>
        </p:blipFill>
        <p:spPr>
          <a:xfrm>
            <a:off x="5346720" y="4038480"/>
            <a:ext cx="2641680" cy="19814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14" name="Rectangle 16"/>
          <p:cNvSpPr/>
          <p:nvPr/>
        </p:nvSpPr>
        <p:spPr>
          <a:xfrm>
            <a:off x="826920" y="1628640"/>
            <a:ext cx="18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дорос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6588000" y="5877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2d2d2"/>
                </a:solidFill>
                <a:latin typeface="Tahoma"/>
              </a:rPr>
              <a:t>полярный м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611280" y="58053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х на камн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6659640" y="162864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Tahoma"/>
              </a:rPr>
              <a:t>лишай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3132000" y="1484280"/>
            <a:ext cx="288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островах прям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голых камн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речаю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айники, о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чень малы. Так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способились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и на камн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хи и поляр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ки. В толщ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ы, не покрыт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ьдом, больш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ичест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нкто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орос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457200" y="-10332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Морские рачки"/>
          <p:cNvPicPr/>
          <p:nvPr/>
        </p:nvPicPr>
        <p:blipFill>
          <a:blip r:embed="rId2"/>
          <a:srcRect l="0" t="0" r="0" b="5531"/>
          <a:stretch/>
        </p:blipFill>
        <p:spPr>
          <a:xfrm>
            <a:off x="539640" y="1197000"/>
            <a:ext cx="3168720" cy="22320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21" name="Picture 8" descr="Сайка"/>
          <p:cNvPicPr/>
          <p:nvPr/>
        </p:nvPicPr>
        <p:blipFill>
          <a:blip r:embed="rId3"/>
          <a:srcRect l="0" t="0" r="0" b="9136"/>
          <a:stretch/>
        </p:blipFill>
        <p:spPr>
          <a:xfrm>
            <a:off x="539640" y="3933720"/>
            <a:ext cx="3154320" cy="215928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066920" y="3933720"/>
            <a:ext cx="460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Всех птиц, живущих на прибрежных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калах, кормит море. В море много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водорослей. Ими питаются рачки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ачками – рыбы, а рыбами – птицы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11280" y="5734080"/>
            <a:ext cx="20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66"/>
                </a:solidFill>
                <a:latin typeface="Tahoma"/>
              </a:rPr>
              <a:t>Сай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Picture 11" descr="Рачки морские"/>
          <p:cNvPicPr/>
          <p:nvPr/>
        </p:nvPicPr>
        <p:blipFill>
          <a:blip r:embed="rId4"/>
          <a:stretch/>
        </p:blipFill>
        <p:spPr>
          <a:xfrm>
            <a:off x="5580000" y="1197000"/>
            <a:ext cx="3162240" cy="22320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25" name="Rectangle 12"/>
          <p:cNvSpPr/>
          <p:nvPr/>
        </p:nvSpPr>
        <p:spPr>
          <a:xfrm>
            <a:off x="6300720" y="2997360"/>
            <a:ext cx="2303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66"/>
                </a:solidFill>
                <a:latin typeface="Tahoma"/>
              </a:rPr>
              <a:t>Морские рач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3" descr="Гагарка 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1125360"/>
            <a:ext cx="2881080" cy="223236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28" name="Picture 10" descr="Тупики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24360" y="1125360"/>
            <a:ext cx="2962440" cy="19814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29" name="Picture 19" descr="Чайка"/>
          <p:cNvPicPr/>
          <p:nvPr/>
        </p:nvPicPr>
        <p:blipFill>
          <a:blip r:embed="rId6"/>
          <a:stretch/>
        </p:blipFill>
        <p:spPr>
          <a:xfrm>
            <a:off x="250920" y="4005360"/>
            <a:ext cx="2808360" cy="20876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30" name="Picture 12" descr="Гагарк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732720" y="3789360"/>
            <a:ext cx="1938240" cy="237636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31" name="Rectangle 15"/>
          <p:cNvSpPr/>
          <p:nvPr/>
        </p:nvSpPr>
        <p:spPr>
          <a:xfrm>
            <a:off x="7524720" y="1197000"/>
            <a:ext cx="136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туп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7596360" y="5661000"/>
            <a:ext cx="122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Tahoma"/>
              </a:rPr>
              <a:t>кай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3419640" y="3357720"/>
            <a:ext cx="302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этих местах пти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ольше всего. 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умные скоп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зывают птичь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азарами. Зде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тицы выводя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тенцов. Кай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кладывают яй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ямо на гол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тупы ска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1403280" y="558972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bbfd"/>
                </a:solidFill>
                <a:latin typeface="Tahoma"/>
              </a:rPr>
              <a:t>чай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1692360" y="1268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агар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4" descr=""/>
          <p:cNvPicPr/>
          <p:nvPr/>
        </p:nvPicPr>
        <p:blipFill>
          <a:blip r:embed="rId1"/>
          <a:stretch/>
        </p:blipFill>
        <p:spPr>
          <a:xfrm>
            <a:off x="2700360" y="-30240"/>
            <a:ext cx="3529080" cy="1170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Гагарка 1"/>
          <p:cNvPicPr/>
          <p:nvPr/>
        </p:nvPicPr>
        <p:blipFill>
          <a:blip r:embed="rId2"/>
          <a:stretch/>
        </p:blipFill>
        <p:spPr>
          <a:xfrm>
            <a:off x="684360" y="1052640"/>
            <a:ext cx="2663640" cy="237636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38" name="Picture 10" descr="Гагарка 2"/>
          <p:cNvPicPr/>
          <p:nvPr/>
        </p:nvPicPr>
        <p:blipFill>
          <a:blip r:embed="rId3"/>
          <a:stretch/>
        </p:blipFill>
        <p:spPr>
          <a:xfrm>
            <a:off x="395280" y="4292640"/>
            <a:ext cx="3181320" cy="219708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24000" y="1052640"/>
            <a:ext cx="504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Гагарка – морская, ныряющая птица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ыходящая на берег только дл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азмножения. Размером со среднюю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утку. Весит 520 – 900 г. Вершина клюв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загнута крючкообразно, ноздри щеле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идные. В 2000 г. был установлен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аксимальный срок жизни в природе –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8 лет. Вне сезона размножения живё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а открытой воде. На птенцов и яйц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гагарки охотятся чайки. Питаетс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ыбой и ракообразными. Кормится н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елководье.  Может нырять на глубин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до 25 – 35 метров. Птенцов корми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ойвой. Гагарка довольно тихая птиц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Её голос можно услышать только в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езон размножения.  Голос скрипучий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ожет издавать рычащие звук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AutoShape 13">
            <a:hlinkClick r:id="rId4" action="ppaction://hlinksldjump"/>
          </p:cNvPr>
          <p:cNvSpPr/>
          <p:nvPr/>
        </p:nvSpPr>
        <p:spPr>
          <a:xfrm>
            <a:off x="7956720" y="6237360"/>
            <a:ext cx="863280" cy="431640"/>
          </a:xfrm>
          <a:custGeom>
            <a:avLst/>
            <a:gdLst>
              <a:gd name="textAreaLeft" fmla="*/ 27720 w 863280"/>
              <a:gd name="textAreaRight" fmla="*/ 835560 w 86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182" h="21600">
                <a:moveTo>
                  <a:pt x="0" y="0"/>
                </a:moveTo>
                <a:lnTo>
                  <a:pt x="43182" y="0"/>
                </a:lnTo>
                <a:lnTo>
                  <a:pt x="43182" y="21600"/>
                </a:lnTo>
                <a:lnTo>
                  <a:pt x="0" y="21600"/>
                </a:lnTo>
                <a:close/>
              </a:path>
              <a:path fill="lightenLess" w="43182" h="21600">
                <a:moveTo>
                  <a:pt x="0" y="0"/>
                </a:moveTo>
                <a:lnTo>
                  <a:pt x="43182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2" h="21600">
                <a:moveTo>
                  <a:pt x="43182" y="0"/>
                </a:moveTo>
                <a:lnTo>
                  <a:pt x="43182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2" h="21600">
                <a:moveTo>
                  <a:pt x="4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2" h="21600">
                <a:moveTo>
                  <a:pt x="14585" y="7493"/>
                </a:moveTo>
                <a:lnTo>
                  <a:pt x="18092" y="7493"/>
                </a:lnTo>
                <a:lnTo>
                  <a:pt x="18092" y="12828"/>
                </a:lnTo>
                <a:cubicBezTo>
                  <a:pt x="18092" y="13751"/>
                  <a:pt x="18893" y="14482"/>
                  <a:pt x="19929" y="14482"/>
                </a:cubicBezTo>
                <a:lnTo>
                  <a:pt x="21591" y="14482"/>
                </a:lnTo>
                <a:cubicBezTo>
                  <a:pt x="22627" y="14482"/>
                  <a:pt x="23427" y="13751"/>
                  <a:pt x="23427" y="12828"/>
                </a:cubicBezTo>
                <a:lnTo>
                  <a:pt x="23427" y="7493"/>
                </a:lnTo>
                <a:lnTo>
                  <a:pt x="21591" y="7493"/>
                </a:lnTo>
                <a:lnTo>
                  <a:pt x="25099" y="3985"/>
                </a:lnTo>
                <a:lnTo>
                  <a:pt x="28772" y="7493"/>
                </a:lnTo>
                <a:lnTo>
                  <a:pt x="26935" y="7493"/>
                </a:lnTo>
                <a:lnTo>
                  <a:pt x="26935" y="12828"/>
                </a:lnTo>
                <a:cubicBezTo>
                  <a:pt x="26935" y="15596"/>
                  <a:pt x="24359" y="18155"/>
                  <a:pt x="21591" y="18155"/>
                </a:cubicBezTo>
                <a:lnTo>
                  <a:pt x="19929" y="18155"/>
                </a:lnTo>
                <a:cubicBezTo>
                  <a:pt x="17161" y="18155"/>
                  <a:pt x="14585" y="15596"/>
                  <a:pt x="14585" y="12828"/>
                </a:cubicBez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Гагарка..wav" descr=""/>
          <p:cNvPicPr/>
          <p:nvPr/>
        </p:nvPicPr>
        <p:blipFill>
          <a:blip r:embed="rId5"/>
          <a:stretch/>
        </p:blipFill>
        <p:spPr>
          <a:xfrm>
            <a:off x="692928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23903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4" descr=""/>
          <p:cNvPicPr/>
          <p:nvPr/>
        </p:nvPicPr>
        <p:blipFill>
          <a:blip r:embed="rId1"/>
          <a:stretch/>
        </p:blipFill>
        <p:spPr>
          <a:xfrm>
            <a:off x="2914560" y="-139680"/>
            <a:ext cx="3741840" cy="1170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Тупик"/>
          <p:cNvPicPr/>
          <p:nvPr/>
        </p:nvPicPr>
        <p:blipFill>
          <a:blip r:embed="rId2"/>
          <a:stretch/>
        </p:blipFill>
        <p:spPr>
          <a:xfrm>
            <a:off x="611280" y="1197000"/>
            <a:ext cx="3024000" cy="20160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44" name="Picture 9" descr="Тупики"/>
          <p:cNvPicPr/>
          <p:nvPr/>
        </p:nvPicPr>
        <p:blipFill>
          <a:blip r:embed="rId3"/>
          <a:stretch/>
        </p:blipFill>
        <p:spPr>
          <a:xfrm>
            <a:off x="611280" y="3933720"/>
            <a:ext cx="3024000" cy="205272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995280" y="765000"/>
            <a:ext cx="4824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се арктические птицы перелётные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они прилетают сюда в конце долго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лярной ночи, которая длится всю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зиму и часть весны; с приходом осен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тицы направляются к юг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 середине марта в поисках места дл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гнездования тупики собираются 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большие колонии для обследовани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окрестной территории. Брачная пар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упиков клювом и лапами роет в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земле длинные проходы, которые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заканчиваются гнездовой камерой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Здесь самка откладывает одно яйц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упик способен удержать в клюве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есколько рыб, поэтому может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олгу не возвращаться на берег. Он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ожет переносить от 15 до 20 рыб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держа их в клюве поперёк, как н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шампур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AutoShape 11">
            <a:hlinkClick r:id="rId4" action="ppaction://hlinksldjump"/>
          </p:cNvPr>
          <p:cNvSpPr/>
          <p:nvPr/>
        </p:nvSpPr>
        <p:spPr>
          <a:xfrm>
            <a:off x="7740720" y="6237360"/>
            <a:ext cx="1152360" cy="476280"/>
          </a:xfrm>
          <a:custGeom>
            <a:avLst/>
            <a:gdLst>
              <a:gd name="textAreaLeft" fmla="*/ 30600 w 1152360"/>
              <a:gd name="textAreaRight" fmla="*/ 1121760 w 1152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52238" h="21600">
                <a:moveTo>
                  <a:pt x="0" y="0"/>
                </a:moveTo>
                <a:lnTo>
                  <a:pt x="52238" y="0"/>
                </a:lnTo>
                <a:lnTo>
                  <a:pt x="52238" y="21600"/>
                </a:lnTo>
                <a:lnTo>
                  <a:pt x="0" y="21600"/>
                </a:lnTo>
                <a:close/>
              </a:path>
              <a:path fill="lightenLess" w="52238" h="21600">
                <a:moveTo>
                  <a:pt x="0" y="0"/>
                </a:moveTo>
                <a:lnTo>
                  <a:pt x="52238" y="0"/>
                </a:lnTo>
                <a:lnTo>
                  <a:pt x="50838" y="1400"/>
                </a:lnTo>
                <a:lnTo>
                  <a:pt x="1400" y="1400"/>
                </a:lnTo>
                <a:close/>
              </a:path>
              <a:path fill="darken" w="52238" h="21600">
                <a:moveTo>
                  <a:pt x="52238" y="0"/>
                </a:moveTo>
                <a:lnTo>
                  <a:pt x="52238" y="21600"/>
                </a:lnTo>
                <a:lnTo>
                  <a:pt x="50838" y="20200"/>
                </a:lnTo>
                <a:lnTo>
                  <a:pt x="50838" y="1400"/>
                </a:lnTo>
                <a:close/>
              </a:path>
              <a:path fill="darkenLess" w="52238" h="21600">
                <a:moveTo>
                  <a:pt x="52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838" y="20200"/>
                </a:lnTo>
                <a:close/>
              </a:path>
              <a:path fill="lighten" w="52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238" h="21600">
                <a:moveTo>
                  <a:pt x="19113" y="7493"/>
                </a:moveTo>
                <a:lnTo>
                  <a:pt x="22620" y="7493"/>
                </a:lnTo>
                <a:lnTo>
                  <a:pt x="22620" y="12828"/>
                </a:lnTo>
                <a:cubicBezTo>
                  <a:pt x="22620" y="13751"/>
                  <a:pt x="23421" y="14482"/>
                  <a:pt x="24457" y="14482"/>
                </a:cubicBezTo>
                <a:lnTo>
                  <a:pt x="26119" y="14482"/>
                </a:lnTo>
                <a:cubicBezTo>
                  <a:pt x="27155" y="14482"/>
                  <a:pt x="27956" y="13751"/>
                  <a:pt x="27956" y="12828"/>
                </a:cubicBezTo>
                <a:lnTo>
                  <a:pt x="27956" y="7493"/>
                </a:lnTo>
                <a:lnTo>
                  <a:pt x="26119" y="7493"/>
                </a:lnTo>
                <a:lnTo>
                  <a:pt x="29627" y="3985"/>
                </a:lnTo>
                <a:lnTo>
                  <a:pt x="33300" y="7493"/>
                </a:lnTo>
                <a:lnTo>
                  <a:pt x="31463" y="7493"/>
                </a:lnTo>
                <a:lnTo>
                  <a:pt x="31463" y="12828"/>
                </a:lnTo>
                <a:cubicBezTo>
                  <a:pt x="31463" y="15596"/>
                  <a:pt x="28887" y="18155"/>
                  <a:pt x="26119" y="18155"/>
                </a:cubicBezTo>
                <a:lnTo>
                  <a:pt x="24457" y="18155"/>
                </a:lnTo>
                <a:cubicBezTo>
                  <a:pt x="21689" y="18155"/>
                  <a:pt x="19113" y="15596"/>
                  <a:pt x="19113" y="12828"/>
                </a:cubicBez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Тупик..wav" descr=""/>
          <p:cNvPicPr/>
          <p:nvPr/>
        </p:nvPicPr>
        <p:blipFill>
          <a:blip r:embed="rId5"/>
          <a:stretch/>
        </p:blipFill>
        <p:spPr>
          <a:xfrm>
            <a:off x="81439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3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26045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4" descr=""/>
          <p:cNvPicPr/>
          <p:nvPr/>
        </p:nvPicPr>
        <p:blipFill>
          <a:blip r:embed="rId1"/>
          <a:stretch/>
        </p:blipFill>
        <p:spPr>
          <a:xfrm>
            <a:off x="2914560" y="-139680"/>
            <a:ext cx="3456000" cy="1170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Толстоклювая кайра"/>
          <p:cNvPicPr/>
          <p:nvPr/>
        </p:nvPicPr>
        <p:blipFill>
          <a:blip r:embed="rId2"/>
          <a:stretch/>
        </p:blipFill>
        <p:spPr>
          <a:xfrm>
            <a:off x="395280" y="1268280"/>
            <a:ext cx="2808360" cy="20894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50" name="Picture 11" descr="Кайры"/>
          <p:cNvPicPr/>
          <p:nvPr/>
        </p:nvPicPr>
        <p:blipFill>
          <a:blip r:embed="rId3"/>
          <a:stretch/>
        </p:blipFill>
        <p:spPr>
          <a:xfrm>
            <a:off x="395280" y="4005360"/>
            <a:ext cx="2836800" cy="198108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635280" y="691920"/>
            <a:ext cx="518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айры – морские птицы, появляющиес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а брегу лишь в брачный период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Известно 2 вида кайр: толстоклювая и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онкоклювая. Кайры собираютс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большими колониями и гнездятся н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уступах скал. Гнёзд они не делают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яйца кладут на голый карниз без какой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либо подстилки. Грушевидная форм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идаёт яйцу некоторую устойчивость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зрослые птицы заботятся только 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обственном потомстве: своё яйцо он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узнают по цвету и рисунку, а птенцов п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голосу. Кайры кормятся в море мелко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ыбой: треской, сайрой, мойвой и др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 водой птица может пробыть 2 мин. 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ырнуть на глубину 20 метров. Ловят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айры всего 1 рыбку и летят к своим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тенца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AutoShape 13"/>
          <p:cNvSpPr/>
          <p:nvPr/>
        </p:nvSpPr>
        <p:spPr>
          <a:xfrm>
            <a:off x="7812000" y="6308640"/>
            <a:ext cx="1079640" cy="405000"/>
          </a:xfrm>
          <a:custGeom>
            <a:avLst/>
            <a:gdLst>
              <a:gd name="textAreaLeft" fmla="*/ 25920 w 1079640"/>
              <a:gd name="textAreaRight" fmla="*/ 1053720 w 107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57549" h="21600">
                <a:moveTo>
                  <a:pt x="0" y="0"/>
                </a:moveTo>
                <a:lnTo>
                  <a:pt x="57549" y="0"/>
                </a:lnTo>
                <a:lnTo>
                  <a:pt x="57549" y="21600"/>
                </a:lnTo>
                <a:lnTo>
                  <a:pt x="0" y="21600"/>
                </a:lnTo>
                <a:close/>
              </a:path>
              <a:path fill="lightenLess" w="57549" h="21600">
                <a:moveTo>
                  <a:pt x="0" y="0"/>
                </a:moveTo>
                <a:lnTo>
                  <a:pt x="57549" y="0"/>
                </a:lnTo>
                <a:lnTo>
                  <a:pt x="56149" y="1400"/>
                </a:lnTo>
                <a:lnTo>
                  <a:pt x="1400" y="1400"/>
                </a:lnTo>
                <a:close/>
              </a:path>
              <a:path fill="darken" w="57549" h="21600">
                <a:moveTo>
                  <a:pt x="57549" y="0"/>
                </a:moveTo>
                <a:lnTo>
                  <a:pt x="57549" y="21600"/>
                </a:lnTo>
                <a:lnTo>
                  <a:pt x="56149" y="20200"/>
                </a:lnTo>
                <a:lnTo>
                  <a:pt x="56149" y="1400"/>
                </a:lnTo>
                <a:close/>
              </a:path>
              <a:path fill="darkenLess" w="57549" h="21600">
                <a:moveTo>
                  <a:pt x="57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49" y="20200"/>
                </a:lnTo>
                <a:close/>
              </a:path>
              <a:path fill="lighten" w="57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49" h="21600">
                <a:moveTo>
                  <a:pt x="21768" y="7493"/>
                </a:moveTo>
                <a:lnTo>
                  <a:pt x="25276" y="7493"/>
                </a:lnTo>
                <a:lnTo>
                  <a:pt x="25276" y="12828"/>
                </a:lnTo>
                <a:cubicBezTo>
                  <a:pt x="25276" y="13751"/>
                  <a:pt x="26076" y="14482"/>
                  <a:pt x="27112" y="14482"/>
                </a:cubicBezTo>
                <a:lnTo>
                  <a:pt x="28774" y="14482"/>
                </a:lnTo>
                <a:cubicBezTo>
                  <a:pt x="29810" y="14482"/>
                  <a:pt x="30611" y="13751"/>
                  <a:pt x="30611" y="12828"/>
                </a:cubicBezTo>
                <a:lnTo>
                  <a:pt x="30611" y="7493"/>
                </a:lnTo>
                <a:lnTo>
                  <a:pt x="28774" y="7493"/>
                </a:lnTo>
                <a:lnTo>
                  <a:pt x="32282" y="3985"/>
                </a:lnTo>
                <a:lnTo>
                  <a:pt x="35955" y="7493"/>
                </a:lnTo>
                <a:lnTo>
                  <a:pt x="34118" y="7493"/>
                </a:lnTo>
                <a:lnTo>
                  <a:pt x="34118" y="12828"/>
                </a:lnTo>
                <a:cubicBezTo>
                  <a:pt x="34118" y="15596"/>
                  <a:pt x="31542" y="18155"/>
                  <a:pt x="28774" y="18155"/>
                </a:cubicBezTo>
                <a:lnTo>
                  <a:pt x="27112" y="18155"/>
                </a:lnTo>
                <a:cubicBezTo>
                  <a:pt x="24344" y="18155"/>
                  <a:pt x="21768" y="15596"/>
                  <a:pt x="21768" y="12828"/>
                </a:cubicBez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Кайра-толстоклювая..wav" descr=""/>
          <p:cNvPicPr/>
          <p:nvPr/>
        </p:nvPicPr>
        <p:blipFill>
          <a:blip r:embed="rId4"/>
          <a:stretch/>
        </p:blipFill>
        <p:spPr>
          <a:xfrm>
            <a:off x="8358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3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31713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4" descr=""/>
          <p:cNvPicPr/>
          <p:nvPr/>
        </p:nvPicPr>
        <p:blipFill>
          <a:blip r:embed="rId1"/>
          <a:stretch/>
        </p:blipFill>
        <p:spPr>
          <a:xfrm>
            <a:off x="457200" y="-10332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Морж"/>
          <p:cNvPicPr/>
          <p:nvPr/>
        </p:nvPicPr>
        <p:blipFill>
          <a:blip r:embed="rId2"/>
          <a:stretch/>
        </p:blipFill>
        <p:spPr>
          <a:xfrm>
            <a:off x="250920" y="1052640"/>
            <a:ext cx="4038480" cy="28796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56" name="Picture 9" descr="Тюлень Арктики"/>
          <p:cNvPicPr/>
          <p:nvPr/>
        </p:nvPicPr>
        <p:blipFill>
          <a:blip r:embed="rId3"/>
          <a:stretch/>
        </p:blipFill>
        <p:spPr>
          <a:xfrm>
            <a:off x="5076720" y="1052640"/>
            <a:ext cx="3816360" cy="28796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57" name="Picture 12" descr="Белые медведи"/>
          <p:cNvPicPr/>
          <p:nvPr/>
        </p:nvPicPr>
        <p:blipFill>
          <a:blip r:embed="rId4"/>
          <a:stretch/>
        </p:blipFill>
        <p:spPr>
          <a:xfrm>
            <a:off x="250920" y="4076640"/>
            <a:ext cx="4033800" cy="263700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pic>
        <p:nvPicPr>
          <p:cNvPr id="358" name="Picture 13" descr="Белый медведь"/>
          <p:cNvPicPr/>
          <p:nvPr/>
        </p:nvPicPr>
        <p:blipFill>
          <a:blip r:embed="rId5"/>
          <a:srcRect l="0" t="0" r="0" b="9292"/>
          <a:stretch/>
        </p:blipFill>
        <p:spPr>
          <a:xfrm>
            <a:off x="5076720" y="4076640"/>
            <a:ext cx="3816360" cy="2679840"/>
          </a:xfrm>
          <a:prstGeom prst="rect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59" name="Rectangle 14"/>
          <p:cNvSpPr/>
          <p:nvPr/>
        </p:nvSpPr>
        <p:spPr>
          <a:xfrm>
            <a:off x="2700360" y="342900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рж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5148360" y="342900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юл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1042920" y="6237360"/>
            <a:ext cx="29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елы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две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3:50:50Z</dcterms:created>
  <dc:creator>Оксана</dc:creator>
  <dc:description/>
  <dc:language>en-US</dc:language>
  <cp:lastModifiedBy>Home</cp:lastModifiedBy>
  <dcterms:modified xsi:type="dcterms:W3CDTF">2016-12-01T14:48:49Z</dcterms:modified>
  <cp:revision>36</cp:revision>
  <dc:subject/>
  <dc:title>Зона Арктических пустынь</dc:title>
</cp:coreProperties>
</file>