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574-E492-4B8F-9ACC-1BA55057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AE5-9D76-4E2A-B035-98EEBA7D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B86-A49D-40DC-A8C0-AD73C15F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BD1-4138-4ED1-B27A-290D0EDA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13B-FE7C-4B4E-8C9E-C2FC09E6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29F-8BF3-4786-B48B-B2A9DA8C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F1D-FE26-45A1-8DDC-1364F2BC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BA0-624F-471A-BA12-CEF58C9E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FBC-5A67-437E-BC9D-2AAF2058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941-79F4-4273-BA59-895558B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EC2-CF7C-4F20-837E-D4732F0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A1C-56EA-4E61-8668-0898D91E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1E19E1-AFF7-45ED-A412-9BD137A7877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2411280" y="1700280"/>
            <a:ext cx="4572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ельская работ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ияние вежливых слов на взаимоотношения люде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2771640" y="4797360"/>
            <a:ext cx="4572000" cy="9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а     Гладких Сарра ученица 2 б класса СОШ №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. Григорополисская, 2015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здороваются люди разных национальност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тай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2"/>
          <p:cNvPicPr/>
          <p:nvPr/>
        </p:nvPicPr>
        <p:blipFill>
          <a:blip r:embed="rId1"/>
          <a:stretch/>
        </p:blipFill>
        <p:spPr>
          <a:xfrm>
            <a:off x="2700360" y="184464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здороваются люди разных национальност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го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Копия 2"/>
          <p:cNvPicPr/>
          <p:nvPr/>
        </p:nvPicPr>
        <p:blipFill>
          <a:blip r:embed="rId1"/>
          <a:stretch/>
        </p:blipFill>
        <p:spPr>
          <a:xfrm>
            <a:off x="2484360" y="1989000"/>
            <a:ext cx="5759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здороваются люди разных  национальност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етствие в Инд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8"/>
          <p:cNvPicPr/>
          <p:nvPr/>
        </p:nvPicPr>
        <p:blipFill>
          <a:blip r:embed="rId1"/>
          <a:stretch/>
        </p:blipFill>
        <p:spPr>
          <a:xfrm>
            <a:off x="4643280" y="1989000"/>
            <a:ext cx="42642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1 января – всемирный день самого доброго слова на любом языке – слова « спасиб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тарину слово «спасибо» состояло из двух слов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паси Бог», (то есть «пусть спасает тебя Бог»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говорили собеседнику в знак уважения и благодарности, желая, чтобы у него всё было хорош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нке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« Какие вежливые слова вы знаете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числи какие вежливые слова ты знаеш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слова приветств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слова благодар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слова просьб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) слова извин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) слова похвал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ультаты опро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н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.Слов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здравствуйте, до свидания – 20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.Слов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пасибо, благодарю – 19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.Сло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жалуйста – 18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.Слов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звините, простите – 19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.Слов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олодец! Умница! – 17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ультаты наблюд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были поздороваться с учителем – 5 чел. -2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поздоровались с одноклассниками – 8 чел. – 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попрощались при уходе домой – 6 чел. -3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поблагодарили одноклассника за услугу –9 чел-4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звинились в нужной ситуации – 7 чел. – 3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олотое правило этики.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Поступай с людьми так, как хочешь, чтобы они поступали с то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желания моим одноклассника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хочу, чтобы меня обижали. И сам никого не обиж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го себе не хочешь, не делай друг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шибся – не бойся исправи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л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Цели и зад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лан 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Исследование по теме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Лит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Прило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влияние вежливых слов на взаимоотношения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ыяснить происхождение вежливых сл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знакомиться с использованием вежливых слов в других стран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онаблюдать за использованием вежливых слов моими одноклассни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ение литературы по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комство с периодической печать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компьютера для получения дополнительн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экспери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блюдение за речью учащихся ( в ходе эксперимент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бщение по результатам эксперим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Солодух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ты хочешь молвить слов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й друг, подумай – не спеш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 бывает то суров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рождено теплом душ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уа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раннего детства родители учат нас быть вежливыми. Меня заинтересовали вопро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вежливос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чем люди используют вежливые сло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уда появились эти слова и что они  обозначаю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вежливос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жливость – это качество человека, для которого уважение к людям стало повседневной нормой поведения и привычным способом общения с окружающ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уппы вежливых 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Слова-привет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Слова благодар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Слова просьб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Слова извин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Слова похв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же здороваются люди разных национальносте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1"/>
          <p:cNvPicPr/>
          <p:nvPr/>
        </p:nvPicPr>
        <p:blipFill>
          <a:blip r:embed="rId2"/>
          <a:stretch/>
        </p:blipFill>
        <p:spPr>
          <a:xfrm>
            <a:off x="468360" y="2711520"/>
            <a:ext cx="8064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cp:keywords/>
  <dc:language>en-US</dc:language>
  <cp:lastModifiedBy>Школа</cp:lastModifiedBy>
  <dcterms:modified xsi:type="dcterms:W3CDTF">2016-12-02T08:47:5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