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790-4088-44AD-9BAA-80C12CEF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972-E736-4A54-9692-ABE1E25D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9E6-89C1-46F3-BB44-A7CA8F95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961-9720-4305-B739-1927460C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8B45-8B57-469B-B34D-F0660BE4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674-85F9-4D26-89FA-51A101CB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35A-E735-4331-8C60-B40A82BD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B0C9-8E19-4702-8AB5-38E7E2DB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2007-F7EF-4A1A-BB39-D182170E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C1BB-71AF-4B90-AC65-0E006F5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8335-2D66-4BC5-870E-9FED013F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0DD-E373-477D-8938-DFE58EC8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7B42-0395-481B-A374-CED155DB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C316-D0E7-48ED-B057-6D3FC44B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7148-2F58-489F-B27E-657440B0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36E7-0E45-4A38-9D90-2C5B66E8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1B25-9DA6-4AA7-90F7-C60636F3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E173-4836-4DC7-858B-8F1E24FA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7BEA-0FB6-45C4-9A15-EFFAF36F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1095-242A-4AD7-920E-72DA1184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5AE1-BBD3-43D3-81E1-27A4DFA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B5B6-E7CF-4EBF-89CC-57495A72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769-F539-4DD0-B31A-8D6352CF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C2D2-ADCA-401C-8A2B-871950CC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453E-FEEE-4926-AA85-1AA3DF8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1347-AF20-44C5-846A-512E756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16F4-7107-4D84-B507-D6CD28DC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A58E-1D96-4B40-9934-0C5DBA32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FFB0-D7C3-4277-8BD1-CF252E31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1071-C3DF-474A-B5CD-5B4571E1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91F1-063D-4B2A-A03E-DD6D28D4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5F15-BB25-4275-B780-E4412524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B5F5-74CC-4A62-A1E5-01860AAB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2E8-4B64-40BD-82AB-61D19ED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2CE9E-3636-4E1A-A334-30CD393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FB61-3CF0-4BB7-945C-5CF6D06A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959B-E94D-4725-877E-6897B1E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352A-C45C-46CD-9AAF-0447DB6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B55D-4273-45A6-8B08-ED82A80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3442-5A1B-4AA9-9288-EEAB970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68E0-AA58-4585-8EF6-85035B6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AE3C-593F-4A83-8E11-EB7F95EB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9BB3-B47D-427C-8D11-115A5A46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2EF1-E9F1-4DB1-BE6D-AF166D97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DA9-3B81-4431-AE9B-F024C853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FB80-747D-4170-BF0D-F2B4F194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425B-DD26-4E8B-863F-FECA3A64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2019-BC90-4561-BEAA-4F12B8EE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490F-DAB2-4E50-AA9E-0228F70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7989-8D26-4F0A-A7AC-262A0006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DD1A-2CCF-45F0-B1AF-C6BA658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91F9-8C9C-4C0C-A7C5-D53BF59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4401B-24B0-46DB-AF67-FCA7C1E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BF41A-B1E2-4A4D-A99A-97A6FCFC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A4CE-58D1-497A-BC6F-5E77A862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171-F9F8-4254-B4E6-58BC5734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6325-6258-41B2-9093-2C655DC1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6C5AD-DB9E-43EF-9780-10339D71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2829-BF56-4D12-915B-7C2F28C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D6A6B-5CA1-4D18-8A93-F31AA760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346F2-9FC1-4A4F-9520-6A85BF13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AE73-84FB-486A-A350-86389E9B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633A1-F40E-4609-9164-0D86938E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6E01-F8FB-41A0-96E5-30F6B2CD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71E45-8203-4586-BD24-425F5C7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DC2F4-9BCE-40AD-9461-66E9C6F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ECE-EE9D-4CA5-A717-3FD78B9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10FC-DC42-4398-B3EB-D0612753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24A93-65AA-4F21-A6C6-116CA598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C0F8-E17C-4F3F-B144-3FAE740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AC53E-70F2-4088-9A56-512A7D41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7121-E428-41FE-806C-CD3D0825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CD04-791F-4D91-AA30-AF90E729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016A-293B-42B4-ABF8-C22AD002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A18B6-05F5-414A-B176-1DB4555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7EF0-C559-43D2-87F9-5B09DC8D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03C85-A31F-4CE0-AE9F-9F777C8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8F3-D7B5-4A67-9A4D-20AEB389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C063E-3B10-4DAF-8C31-D1B4B53B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DE2D3-C408-42E6-A061-093E62F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E4379-C6D1-4598-846B-4699F636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49A1-8BD2-422A-8455-5BD9FBFB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7006B-DE22-486D-8A63-2379D531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5AAB1-A264-4BE9-8C47-D2481DAB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1E9FE-B2F1-4D75-A86C-82277D8C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D81AB-01FD-4EBF-9723-A716BE37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E883-BC8F-415F-BF95-22DCDFAC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FDDB-D8E7-4851-B476-1DB28EF0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7B0-0F63-48B3-90BB-AADCA74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34EFD-8CE5-46B7-8E95-1C0D8E2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EE2E-B552-47AD-AAB0-F6D0B7A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7504B-373B-4982-B342-50A17EE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1E9D-D469-4CFE-BEA7-FD5A43D0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1F9B-10F1-40E3-8D38-AED1DD2D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F543A-E4CE-4916-A902-61DF8F39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2826A-DD30-45BC-97FD-BD132A50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046B-E8C5-40A6-8C64-4F9268E262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6BD3-E9D7-4487-94CF-E16A6F1366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E6A-6160-4317-8000-D949E828C3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A43-AD54-4FE3-A4F6-366D125E47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751A-9625-4350-9A22-88AEFDD384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D71-7759-4FC0-8AF3-E7924F3915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2161-67CD-4C98-A5AC-5E87FE274E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675C-85B5-4468-AEF4-629AC99780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km.ru/front-projects/russkie-prazdniki-kak-otrazhenie-dukha-naroda/russkie-zabavy-ot-lapty-do-kulachnogo-b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517680" y="1749600"/>
            <a:ext cx="81086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Учащиеся 3-4  класс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Руководитель проекта: Анисимова Татьяна Александров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Заголовок 1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003800" cy="10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255600" y="689040"/>
            <a:ext cx="8461440" cy="16635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99680" y="1481040"/>
            <a:ext cx="818676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5" descr="C:\Users\User\Desktop\Рабочая папка\ФОТО школа\20161202_092402.jpg"/>
          <p:cNvPicPr/>
          <p:nvPr/>
        </p:nvPicPr>
        <p:blipFill>
          <a:blip r:embed="rId2"/>
          <a:stretch/>
        </p:blipFill>
        <p:spPr>
          <a:xfrm>
            <a:off x="785880" y="1571760"/>
            <a:ext cx="72864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Для группы сборник собираем, и в эти игры мы игра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85840" y="73080"/>
            <a:ext cx="8407440" cy="127476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3" descr="G:\Наталья\Рабочий стол\Ручеёк\SAM_3842.JPG"/>
          <p:cNvPicPr/>
          <p:nvPr/>
        </p:nvPicPr>
        <p:blipFill>
          <a:blip r:embed="rId2"/>
          <a:stretch/>
        </p:blipFill>
        <p:spPr>
          <a:xfrm>
            <a:off x="468360" y="1268280"/>
            <a:ext cx="3390840" cy="25434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4" descr="G:\Наталья\Рабочий стол\Ручеёк\SAM_3846.JPG"/>
          <p:cNvPicPr/>
          <p:nvPr/>
        </p:nvPicPr>
        <p:blipFill>
          <a:blip r:embed="rId3"/>
          <a:stretch/>
        </p:blipFill>
        <p:spPr>
          <a:xfrm>
            <a:off x="2771640" y="227664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5" descr="G:\Наталья\Рабочий стол\Ручеёк\SAM_3847.JPG"/>
          <p:cNvPicPr/>
          <p:nvPr/>
        </p:nvPicPr>
        <p:blipFill>
          <a:blip r:embed="rId4"/>
          <a:stretch/>
        </p:blipFill>
        <p:spPr>
          <a:xfrm>
            <a:off x="5580000" y="2637000"/>
            <a:ext cx="3403800" cy="25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99680" y="1714320"/>
            <a:ext cx="818676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у, что ж скажу, друзья мои, проект наш -  только посмотри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ак аленький цветок цветёт.  Лишь поливай и он растё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Работу будем продолжать, наш сборник будем пополня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Устами можно песнь спевать, а нам пора уже игра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ывод, делаем:  игра каждому всегда нуж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Наши бабушки играли, иностранных игр не знал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гры предков знаем мы, но играем от души мы не в русские родные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а в заморские - чужи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« Бетменов»  и «Братц» играем, наши игры забывае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гры не только, друзья, развлечень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гры- народа большое творенье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ила и ловкость заложены в них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одины милой искусством зажгись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7088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603360" y="109440"/>
            <a:ext cx="8089920" cy="10969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371600" y="1052640"/>
            <a:ext cx="6400800" cy="54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Афанасьев А.Н. Народные праздники// Древо жизни.-М.,1982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Агамова Н.С., Морозова И.А., Слепцова И.С.Народные игры детей: организация, методика, репертуар.-М.,1995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Даль В.И. О поверьях, суевериях и предрассудках русского народа.- СПб.,1880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Миронов В.А. Двенадцать месяцев года.-М.,1991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: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km.ru/front-projects/russkie-prazdniki-kak-otrazhenie-dukha-naroda/russkie-zabavy-ot-lapty-do-kulachnogo-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682560" y="109440"/>
            <a:ext cx="7785000" cy="1238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499760" y="1214280"/>
            <a:ext cx="6201000" cy="444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464646"/>
                </a:solidFill>
                <a:latin typeface="Calibri"/>
                <a:ea typeface="Calibri"/>
              </a:rPr>
              <a:t>Новое – это хорошо забытое старое, известная исти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464646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464646"/>
                </a:solidFill>
                <a:latin typeface="Calibri"/>
                <a:ea typeface="Calibri"/>
              </a:rPr>
              <a:t>Незаслуженно забытые старые игры, в которые играли наши дедушки и бабушки, могут быть не менее увлекательными, чем современные компьютерные игры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464646"/>
                </a:solidFill>
                <a:latin typeface="Calibri"/>
                <a:ea typeface="Calibri"/>
              </a:rPr>
              <a:t>Они могут  подарить спортивный азарт, возможность проявить ловкость и смекалку в реальной жизни, а не на экране монито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вспомнить забытые и познакомиться с неизвестными старыми русскими играм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учить литературу о русских народных играх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учиться самостоятельно и с удовольствием играть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оздать книгу по организации и проведению игр на переменах и во внеурочное врем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5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овать соревнования по русским народным играм между учащимися начальных класс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6" descr=""/>
          <p:cNvPicPr/>
          <p:nvPr/>
        </p:nvPicPr>
        <p:blipFill>
          <a:blip r:embed="rId1"/>
          <a:stretch/>
        </p:blipFill>
        <p:spPr>
          <a:xfrm>
            <a:off x="682560" y="328680"/>
            <a:ext cx="8089920" cy="11653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1600" y="4941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Lucida Sans Unicode"/>
              </a:rPr>
              <a:t>Вначале взрослых подключил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Lucida Sans Unicode"/>
              </a:rPr>
              <a:t>Информацию добыли по теме: «Русская игра»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Объект 3" descr="G:\Наталья\Рабочий стол\Библиотекарь.jpg"/>
          <p:cNvPicPr/>
          <p:nvPr/>
        </p:nvPicPr>
        <p:blipFill>
          <a:blip r:embed="rId2"/>
          <a:stretch/>
        </p:blipFill>
        <p:spPr>
          <a:xfrm>
            <a:off x="0" y="1557360"/>
            <a:ext cx="2446200" cy="33843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2" descr="G:\Наталья\Рабочий стол\фото Наташи.jpg"/>
          <p:cNvPicPr/>
          <p:nvPr/>
        </p:nvPicPr>
        <p:blipFill>
          <a:blip r:embed="rId3"/>
          <a:stretch/>
        </p:blipFill>
        <p:spPr>
          <a:xfrm>
            <a:off x="6804000" y="1700280"/>
            <a:ext cx="165096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Объект 3" descr="G:\Наталья\Рабочий стол\Девочки.jpg"/>
          <p:cNvPicPr/>
          <p:nvPr/>
        </p:nvPicPr>
        <p:blipFill>
          <a:blip r:embed="rId1"/>
          <a:stretch/>
        </p:blipFill>
        <p:spPr>
          <a:xfrm>
            <a:off x="971640" y="1844640"/>
            <a:ext cx="3240000" cy="3529080"/>
          </a:xfrm>
          <a:prstGeom prst="rect">
            <a:avLst/>
          </a:prstGeom>
          <a:ln w="0">
            <a:noFill/>
          </a:ln>
        </p:spPr>
      </p:pic>
      <p:pic>
        <p:nvPicPr>
          <p:cNvPr id="384" name="Заголовок 1" descr=""/>
          <p:cNvPicPr/>
          <p:nvPr/>
        </p:nvPicPr>
        <p:blipFill>
          <a:blip r:embed="rId2"/>
          <a:stretch/>
        </p:blipFill>
        <p:spPr>
          <a:xfrm>
            <a:off x="285840" y="324000"/>
            <a:ext cx="8407440" cy="15285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G:\Наталья\Рабочий стол\SAM_3763.JPG"/>
          <p:cNvPicPr/>
          <p:nvPr/>
        </p:nvPicPr>
        <p:blipFill>
          <a:blip r:embed="rId3"/>
          <a:stretch/>
        </p:blipFill>
        <p:spPr>
          <a:xfrm>
            <a:off x="5292720" y="1700280"/>
            <a:ext cx="32400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Объект 6" descr="G:\Наталья\Рабочий стол\SAM_3324.JPG"/>
          <p:cNvPicPr/>
          <p:nvPr/>
        </p:nvPicPr>
        <p:blipFill>
          <a:blip r:embed="rId1"/>
          <a:stretch/>
        </p:blipFill>
        <p:spPr>
          <a:xfrm>
            <a:off x="1476360" y="1989000"/>
            <a:ext cx="5904000" cy="3961080"/>
          </a:xfrm>
          <a:prstGeom prst="rect">
            <a:avLst/>
          </a:prstGeom>
          <a:ln w="0">
            <a:noFill/>
          </a:ln>
        </p:spPr>
      </p:pic>
      <p:pic>
        <p:nvPicPr>
          <p:cNvPr id="387" name="Заголовок 3" descr=""/>
          <p:cNvPicPr/>
          <p:nvPr/>
        </p:nvPicPr>
        <p:blipFill>
          <a:blip r:embed="rId2"/>
          <a:stretch/>
        </p:blipFill>
        <p:spPr>
          <a:xfrm>
            <a:off x="285840" y="542880"/>
            <a:ext cx="840744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384120" y="244440"/>
            <a:ext cx="8309160" cy="1047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C:\Users\User\Desktop\Рабочая папка\ФОТО школа\20161202_092254 (2).jpg"/>
          <p:cNvPicPr/>
          <p:nvPr/>
        </p:nvPicPr>
        <p:blipFill>
          <a:blip r:embed="rId2"/>
          <a:stretch/>
        </p:blipFill>
        <p:spPr>
          <a:xfrm>
            <a:off x="428760" y="1428840"/>
            <a:ext cx="795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Русская народная игра Ловишка в круг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9" descr="C:\Users\User\Desktop\Рабочая папка\ФОТО школа\20161202_092329 (2).jpg"/>
          <p:cNvPicPr/>
          <p:nvPr/>
        </p:nvPicPr>
        <p:blipFill>
          <a:blip r:embed="rId1"/>
          <a:stretch/>
        </p:blipFill>
        <p:spPr>
          <a:xfrm>
            <a:off x="785880" y="357120"/>
            <a:ext cx="7072200" cy="398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6:32:16Z</dcterms:created>
  <dc:creator>Admin</dc:creator>
  <dc:description/>
  <dc:language>en-US</dc:language>
  <cp:lastModifiedBy>User</cp:lastModifiedBy>
  <dcterms:modified xsi:type="dcterms:W3CDTF">2016-12-02T14:06:36Z</dcterms:modified>
  <cp:revision>86</cp:revision>
  <dc:subject/>
  <dc:title>Тема урока: «Забытые старые русские игры».</dc:title>
</cp:coreProperties>
</file>