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A094-7D19-4795-99AA-4082AB77F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4E7-3B4B-4359-B842-58D9FA615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D4F-349F-49B7-8683-DC5F7C0E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A29-6B71-4389-AEAD-4DDB0EB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285-FB82-4957-AEE7-D455B4E6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C24-A135-4433-8EC8-7B8F44E3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CE3-400E-4914-AE45-8A9AF463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F34-ADB7-418F-B58B-C1A47C25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361-0968-48E0-8DB8-5D33CF31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0BD-5AA8-46C6-8E45-A06D983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AAC-E7C1-4928-A9A9-2413BB12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BA7-8174-42A7-AC11-A7EF7DE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A1F-447F-464E-9E52-DE49F9F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0CD-C514-4EFD-8AD1-4A2E418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17D-89B3-4F85-8694-66C59DE9C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Икона св. блгв. князя Александра Невского."/>
          <p:cNvPicPr/>
          <p:nvPr/>
        </p:nvPicPr>
        <p:blipFill>
          <a:blip r:embed="rId1"/>
          <a:stretch/>
        </p:blipFill>
        <p:spPr>
          <a:xfrm>
            <a:off x="571680" y="357120"/>
            <a:ext cx="3047760" cy="59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Box 4"/>
          <p:cNvSpPr/>
          <p:nvPr/>
        </p:nvSpPr>
        <p:spPr>
          <a:xfrm>
            <a:off x="4140360" y="404640"/>
            <a:ext cx="4432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абря – День памя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того благоверного князя Александра Невско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7120" y="213840"/>
            <a:ext cx="80438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преля 1242 года – Чудское оз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572000" y="126828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1242 г. Александр освободил Псков, а 5 апреля дал Тевтонскому ордену решительное сражение на льду Чудского озера. Битва была упорная и жестокая. Лед ломался под тяжестью борющихся тел. Многие воины тогда  потонули: и русские ,            и немецкие. Наконец немецкие рыцари дрогнули и побежали. Русское войско ещё семь километров гнало их дальше от своей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Маргарита Федоровна\Desktop\i.jpg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475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довое побоищ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Маргарита Федоровна\Desktop\6015c530a422.jpg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4032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довое побоищ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Маргарита Федоровна\Desktop\alexander_nevsky9.jpg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3" name="TextBox 4"/>
          <p:cNvSpPr/>
          <p:nvPr/>
        </p:nvSpPr>
        <p:spPr>
          <a:xfrm>
            <a:off x="6156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Наза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ый кн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643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КНЯЗЯ АЛЕКСАНДРА ПРОСЛАВИЛОСЬ ПО ВСЕЙ СВЯТОЙ РУС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Александр Невский. Галерея икон Щигры."/>
          <p:cNvPicPr/>
          <p:nvPr/>
        </p:nvPicPr>
        <p:blipFill>
          <a:blip r:embed="rId1"/>
          <a:stretch/>
        </p:blipFill>
        <p:spPr>
          <a:xfrm>
            <a:off x="285840" y="1571760"/>
            <a:ext cx="3425760" cy="41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Маргарита Федоровна\Desktop\alexander_nevsky14.jpg"/>
          <p:cNvPicPr/>
          <p:nvPr/>
        </p:nvPicPr>
        <p:blipFill>
          <a:blip r:embed="rId1"/>
          <a:stretch/>
        </p:blipFill>
        <p:spPr>
          <a:xfrm>
            <a:off x="324000" y="1341360"/>
            <a:ext cx="3384360" cy="4967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8" name="TextBox 4"/>
          <p:cNvSpPr/>
          <p:nvPr/>
        </p:nvSpPr>
        <p:spPr>
          <a:xfrm>
            <a:off x="611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Невский в Ор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211640" y="1052640"/>
            <a:ext cx="460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ях с Золотой Ордой Александр Невский выступал как осторожный и дальновидный политик. В 1249 году – отклонил предложение папы Иннокент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йти в «латинскую веру» и заключить союз для совместной борьбы с татаро - монголами. Четыре раза князь ездил в Орду, добился освобождение русских от обязанности выступать войском на стороне татарских ханов в их войнах с другими нар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0" y="1412640"/>
            <a:ext cx="410364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чался великий князь 27 ноября 1263 года в Городце, недалеко от Владимира, возвращаясь из очередной поездки в Золотую Орд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кончиной он принял схиму (монашеский постриг) под именем Алекс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500200" y="500040"/>
            <a:ext cx="62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 ноября 126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:\Users\Маргарита Федоровна\Desktop\alexander_nevsky16.jpg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488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ние Святого Александра Невского</a:t>
            </a: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аргарита Федоровна\Desktop\alexander_nevsky21.jpg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525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декабря 1263 года князь Александр Невский был погребен в Рождество-Богородичном монастыре во Владимире.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380 году нетленные мощи князя были открыты для местного покло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Владимир, памятник Александру Невскому"/>
          <p:cNvPicPr/>
          <p:nvPr/>
        </p:nvPicPr>
        <p:blipFill>
          <a:blip r:embed="rId1"/>
          <a:stretch/>
        </p:blipFill>
        <p:spPr>
          <a:xfrm>
            <a:off x="1643040" y="1571760"/>
            <a:ext cx="6215040" cy="46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у Невском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лен во Владимире возле Николо-Кремлевской церкви, недалеко                                      от стен Богородице-Рождественского монасты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Владимир, памятник Александру Невскому"/>
          <p:cNvPicPr/>
          <p:nvPr/>
        </p:nvPicPr>
        <p:blipFill>
          <a:blip r:embed="rId1"/>
          <a:stretch/>
        </p:blipFill>
        <p:spPr>
          <a:xfrm>
            <a:off x="1714680" y="1785960"/>
            <a:ext cx="6072120" cy="45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же памятни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у Невском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лен                                       в Переславле-Залесском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д Спасо-Преображенским собо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Переславль-Залесский, Спасо-Преображенский собор"/>
          <p:cNvPicPr/>
          <p:nvPr/>
        </p:nvPicPr>
        <p:blipFill>
          <a:blip r:embed="rId1"/>
          <a:stretch/>
        </p:blipFill>
        <p:spPr>
          <a:xfrm>
            <a:off x="1857240" y="2071800"/>
            <a:ext cx="5786640" cy="43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143240" y="189000"/>
            <a:ext cx="4749840" cy="70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каждого народа есть заветные имена, которые никогда не забываются. Напротив - чем дальше развивается историческая жизнь народа, тем ярче и светлее становится в благодарной памяти потомков религиозно-нравственный облик тех деятелей, которые, отдав все свои силы на служение Святой Руси, самой жизнью своею исполнили евангельскую заповедь, гласящую: «Нет больше той любви, как если кто положит душу свою за друзей своих»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Икона св. Александра Невского. Верхние торговые ряды (здание ГУМа) в Москве."/>
          <p:cNvPicPr/>
          <p:nvPr/>
        </p:nvPicPr>
        <p:blipFill>
          <a:blip r:embed="rId1"/>
          <a:stretch/>
        </p:blipFill>
        <p:spPr>
          <a:xfrm>
            <a:off x="468360" y="1052640"/>
            <a:ext cx="3548160" cy="48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0560" y="1484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лександр Невский был канонизирован Русской православной церковью в лике благоверных при митрополите Макарии на Московском Соборе 1547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Маргарита Федоровна\Desktop\Alexander_Newski.jpg"/>
          <p:cNvPicPr/>
          <p:nvPr/>
        </p:nvPicPr>
        <p:blipFill>
          <a:blip r:embed="rId1"/>
          <a:stretch/>
        </p:blipFill>
        <p:spPr>
          <a:xfrm>
            <a:off x="5867280" y="1341360"/>
            <a:ext cx="2959200" cy="4535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360" y="333000"/>
            <a:ext cx="460836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сентября 1724 года мощи святого благоверного великого князя Александра Невского по повелению Петра Великого были перенесены в Санкт –Петербург в Александро-Невскую лавру. С этого момента святой Александр Ярославович, наряду со святыми апостолами Петром и Павлом, стал русским небесным покровителем северной столицы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Ковчег с мощами святых блгвв. князей Александра Невского и Даниила Московского."/>
          <p:cNvPicPr/>
          <p:nvPr/>
        </p:nvPicPr>
        <p:blipFill>
          <a:blip r:embed="rId1"/>
          <a:stretch/>
        </p:blipFill>
        <p:spPr>
          <a:xfrm>
            <a:off x="1047600" y="1143000"/>
            <a:ext cx="2911680" cy="43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1557000"/>
            <a:ext cx="5698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мая 1725 г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учрежден орден Александра Невского, 29 июля 1942 года в честь великого полководца в СССР учрежден военный орден Александра Невског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Маргарита Федоровна\Desktop\200px-Badge_to_Order_St_Alexander_Nevsky_1820-1830.jpg"/>
          <p:cNvPicPr/>
          <p:nvPr/>
        </p:nvPicPr>
        <p:blipFill>
          <a:blip r:embed="rId1"/>
          <a:stretch/>
        </p:blipFill>
        <p:spPr>
          <a:xfrm>
            <a:off x="324000" y="1125360"/>
            <a:ext cx="2539800" cy="2951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7" name="TextBox 10"/>
          <p:cNvSpPr/>
          <p:nvPr/>
        </p:nvSpPr>
        <p:spPr>
          <a:xfrm>
            <a:off x="684360" y="476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ден святого Александра Не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Маргарита Федоровна\Desktop\200px-Star_to_Order_St_Alexander_Nevsky.jpg"/>
          <p:cNvPicPr/>
          <p:nvPr/>
        </p:nvPicPr>
        <p:blipFill>
          <a:blip r:embed="rId2"/>
          <a:stretch/>
        </p:blipFill>
        <p:spPr>
          <a:xfrm>
            <a:off x="395280" y="4365720"/>
            <a:ext cx="2305080" cy="223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святого благоверного князя Александра Невск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916360" y="1773360"/>
            <a:ext cx="59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 сентября (30 августа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День памяти перенесения мощей княз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декабря (23 ноября 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огребения  святого княз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Не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http://www.pravmir.ru/wp-content/uploads/2010/05/826_59.jpg"/>
          <p:cNvPicPr/>
          <p:nvPr/>
        </p:nvPicPr>
        <p:blipFill>
          <a:blip r:embed="rId1"/>
          <a:stretch/>
        </p:blipFill>
        <p:spPr>
          <a:xfrm>
            <a:off x="250920" y="1484280"/>
            <a:ext cx="331308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ро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27640" y="1197000"/>
            <a:ext cx="446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благоверный князь Александр Невский, князь Новгородский (1236-1251), великий князь Владимирский (1252) родился 30 мая 1220 года в городе Переславле-Залес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его, Ярослав, был младшим сыном Всеволода III Большое Гнездо, мать — Феодосия Игоревна, рязанская княжна. Александр был их вторым сыном (старший сын князь Феодор скончался в возрасте 15 лет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Переславль-Залесский, церковь Александра Невского"/>
          <p:cNvPicPr/>
          <p:nvPr/>
        </p:nvPicPr>
        <p:blipFill>
          <a:blip r:embed="rId1"/>
          <a:stretch/>
        </p:blipFill>
        <p:spPr>
          <a:xfrm>
            <a:off x="395280" y="1197000"/>
            <a:ext cx="3619440" cy="271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 flipV="1" rot="10800000">
            <a:off x="428760" y="411552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оборной площади Переславля-Залесского стоит церковь Александра Не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1236 году князем в Великом Новгороде стал Александ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0" y="1341360"/>
            <a:ext cx="417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анних лет Александр сопровождал в походах отца. В 1235 году он был участником битвы на реке Эмайыги (в нынешней Эстонии), где войска Ярослава наголову разгромили немцев. В следующем 1236 году Ярослав уезжает в Киев, "посадив" своего сына, Александра, самостоятельно княжить в Новгороде. Ему было 16 ле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Маргарита Федоровна\Desktop\alexander_nevsky10.jpg"/>
          <p:cNvPicPr/>
          <p:nvPr/>
        </p:nvPicPr>
        <p:blipFill>
          <a:blip r:embed="rId1"/>
          <a:stretch/>
        </p:blipFill>
        <p:spPr>
          <a:xfrm>
            <a:off x="324000" y="1628640"/>
            <a:ext cx="4319280" cy="4753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нязь Александр -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мелый и решительный во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лось трудное время в истории Руси: с востока шли монгольские орды, с запада надвигались шведы и немцы. Чтобы дать отпор неприятелю, князь Александр возглавил русские вой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Александр Невский"/>
          <p:cNvPicPr/>
          <p:nvPr/>
        </p:nvPicPr>
        <p:blipFill>
          <a:blip r:embed="rId1"/>
          <a:stretch/>
        </p:blipFill>
        <p:spPr>
          <a:xfrm>
            <a:off x="214200" y="1785960"/>
            <a:ext cx="316872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5000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24360" y="1773360"/>
            <a:ext cx="48052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«КТО К НАМ                            С МЕЧОМ ПРИДЁТ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ОТ ОТ МЕЧА И ПОГИБН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Users\Маргарита Федоровна\Desktop\n1042826872_30045178_7585.jpg"/>
          <p:cNvPicPr/>
          <p:nvPr/>
        </p:nvPicPr>
        <p:blipFill>
          <a:blip r:embed="rId1"/>
          <a:stretch/>
        </p:blipFill>
        <p:spPr>
          <a:xfrm>
            <a:off x="755640" y="549360"/>
            <a:ext cx="2857680" cy="5629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ый швед прислал в Новгор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вятому Александру гонц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Если можешь, сопротивляйся, - я уже здесь и пленяю твою землю"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Маргарита Федоровна\Desktop\alexander_nevsky11.jpg"/>
          <p:cNvPicPr/>
          <p:nvPr/>
        </p:nvPicPr>
        <p:blipFill>
          <a:blip r:embed="rId1"/>
          <a:stretch/>
        </p:blipFill>
        <p:spPr>
          <a:xfrm>
            <a:off x="5796000" y="1989000"/>
            <a:ext cx="2879640" cy="4392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7" name="TextBox 6"/>
          <p:cNvSpPr/>
          <p:nvPr/>
        </p:nvSpPr>
        <p:spPr>
          <a:xfrm>
            <a:off x="324000" y="2205000"/>
            <a:ext cx="53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со шведами на Не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о первое по-настоящему серьезное испытание для молодого новгородского князя. После высадки шведских войск при впадении реки Ижоры в Неву князь Александр с немногочисленной дружиной 15 июля 1240 года внезапно атаковал шве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вление св. Бориса и Глеба накануне Невской бит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Маргарита Федоровна\Desktop\alexander_nevsky7.jpg"/>
          <p:cNvPicPr/>
          <p:nvPr/>
        </p:nvPicPr>
        <p:blipFill>
          <a:blip r:embed="rId1"/>
          <a:stretch/>
        </p:blipFill>
        <p:spPr>
          <a:xfrm>
            <a:off x="250920" y="1700280"/>
            <a:ext cx="3941640" cy="3889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0" name="Прямоугольник 4"/>
          <p:cNvSpPr/>
          <p:nvPr/>
        </p:nvSpPr>
        <p:spPr>
          <a:xfrm>
            <a:off x="1042920" y="5950080"/>
            <a:ext cx="33847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28472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чудное предзнаменование: стоявший в морском дозоре воин Пелгуй, в святом Крещении Филипп, видел на рассвете        15 июля ладью, плывущую                  по морю, и на ней святых мучеников Бориса и Глеба,                       в одеждах багряных. И сказал Борис: "Брат Глеб, вели грести, да поможем сроднику своему Александру"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кресенье, 15 июл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стиль)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240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40000" y="1628640"/>
            <a:ext cx="4546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ды полностью разгромлены. Невская битва предотвратила угрозу вражеского нашествия с севера. За эту победу народ назвал князя Александра Невск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071960" y="5380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Маргарита Федоровна\Desktop\ee1ae7f6b203.jpg"/>
          <p:cNvPicPr/>
          <p:nvPr/>
        </p:nvPicPr>
        <p:blipFill>
          <a:blip r:embed="rId1"/>
          <a:stretch/>
        </p:blipFill>
        <p:spPr>
          <a:xfrm>
            <a:off x="395280" y="1628640"/>
            <a:ext cx="3219480" cy="4824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slow" advTm="5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41:25Z</dcterms:created>
  <dc:creator>Мама</dc:creator>
  <dc:description/>
  <dc:language>en-US</dc:language>
  <cp:lastModifiedBy>Юля</cp:lastModifiedBy>
  <dcterms:modified xsi:type="dcterms:W3CDTF">2015-09-20T19:54:55Z</dcterms:modified>
  <cp:revision>47</cp:revision>
  <dc:subject/>
  <dc:title>Слайд 1</dc:title>
</cp:coreProperties>
</file>