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541-B0AD-4E32-AC99-4D2AD123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42B-ECA3-4BD2-B4A2-F4C9CA79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03A-2380-45E4-9C08-3BF3271F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F08-7C3C-4F20-91ED-9ECC187C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04A8-EC65-4E72-A600-45B4934C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FFB3-5034-4034-8BA0-3C0D01FB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A3B0-9544-4987-9DDE-220E6A23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C84A-44A5-4868-A907-8BB25B9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D979-0962-4479-A06D-B8BE4EBF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A8F6-A638-47C9-8BB5-5D5E9437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390B-69D0-43A3-A83D-9503131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CC6-97EC-425D-B10D-8633A8D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30FA-7CB3-4291-86A6-B59DCCB1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477-2B54-4233-8845-E75A2E4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94DB-F671-4713-AED3-E5B88D0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8ED0-CDAF-468A-8227-8A3C43D5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6D65-E0D4-4DDE-9626-55E5E98C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E5C4-BA3D-4D3A-94DF-FA8B3868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EA01-E900-4B81-96F1-18961B83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109A-1064-4B64-A2FE-9131CBE7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84F9-8B34-4FC4-A3B7-2980CD1C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3D16-F1F9-43ED-BD70-61571EA2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D1A-002C-4B36-9EC9-9885441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D9F6-803E-4932-832D-4119815A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0934-0447-45BA-BBCC-7F01055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6002-8E28-4A58-9373-284447B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E2EF-B02A-4DC1-82DC-6A598756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C5F4-D0E9-44DB-AD1B-415A91D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41CE-9CE4-4809-9C35-DEEAF1EB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6588-28A2-4AB8-995C-1E843180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5B7-07E2-4048-86D6-7FA8850C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746-E057-43AA-AEDB-6F1222EA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71E-A45A-46D4-B4F8-5FBF628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63F-2F6C-47BE-9751-D85DC240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E96-7250-4FE6-86DA-98F9036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6EE-D57F-4FF2-9B65-EBCD736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9088-D021-4A0D-A026-8F61CF10D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B8F1-7A22-40B8-8E74-B392C59DE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EA96-E912-4742-B5D1-8FC84CCA35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569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Буквы Ч,ч и </a:t>
            </a:r>
            <a:br>
              <a:rPr sz="6000"/>
            </a:b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звук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  <a:ea typeface="Arial"/>
              </a:rPr>
              <a:t>[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  <a:ea typeface="Arial"/>
              </a:rPr>
              <a:t>ч</a:t>
            </a:r>
            <a:r>
              <a:rPr b="1" lang="en-US" sz="6000" spc="-1" strike="noStrike">
                <a:solidFill>
                  <a:srgbClr val="008000"/>
                </a:solidFill>
                <a:latin typeface=""/>
                <a:ea typeface="Arial"/>
              </a:rPr>
              <a:t>'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рок обучения грамоте в 1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3695400" cy="324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0" r="0" b="21669"/>
          <a:stretch/>
        </p:blipFill>
        <p:spPr>
          <a:xfrm>
            <a:off x="4788000" y="260280"/>
            <a:ext cx="367344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1280" y="189000"/>
            <a:ext cx="37782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ду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п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89284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689400">
            <a:off x="4500360" y="549000"/>
            <a:ext cx="4165560" cy="5445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rot="21147600">
            <a:off x="395280" y="404280"/>
            <a:ext cx="4043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2310" r="0" b="4678"/>
          <a:stretch/>
        </p:blipFill>
        <p:spPr>
          <a:xfrm>
            <a:off x="0" y="198360"/>
            <a:ext cx="91440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076720" y="1052640"/>
            <a:ext cx="374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чо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9640" y="2349360"/>
            <a:ext cx="352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ч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88000" y="2997360"/>
            <a:ext cx="352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юч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4149720"/>
            <a:ext cx="381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льчонок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3280" y="465300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сточка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5:35:27Z</dcterms:created>
  <dc:creator>Admin</dc:creator>
  <dc:description/>
  <dc:language>en-US</dc:language>
  <cp:lastModifiedBy>Admin</cp:lastModifiedBy>
  <dcterms:modified xsi:type="dcterms:W3CDTF">2012-12-17T16:05:18Z</dcterms:modified>
  <cp:revision>2</cp:revision>
  <dc:subject/>
  <dc:title>Слайд 1</dc:title>
</cp:coreProperties>
</file>