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4E9-F861-4CB9-9262-3E85C877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17B-963E-45BD-9E88-638935C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025-10BE-4F24-B90F-D8F3C9B1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46D-6818-4758-9B63-D524C2CD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122-7787-44A5-84CD-029E724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EBF-7761-4E26-918A-24DCC3D8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182-88C2-402B-8FE7-F6BFD66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1C-F2C3-4C78-8639-475123C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A06-F717-4D4A-972E-B2B08B98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724-76B0-4F55-A520-4D83AF3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007-A0E6-4C19-9A4C-E7E13A9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A04-16EA-4697-BAA9-7A0E279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0B88-FEED-4F16-A25B-96C83462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594160" cy="274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3357720"/>
            <a:ext cx="259236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067280" y="3284640"/>
            <a:ext cx="2158920" cy="258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867280" y="5516640"/>
            <a:ext cx="2943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апокля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27280" y="2133720"/>
            <a:ext cx="181944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а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72360" y="2276640"/>
            <a:ext cx="215244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ля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76360" y="5516640"/>
            <a:ext cx="23907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и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ум        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утка    ко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ма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лап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стар</a:t>
            </a: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Шапокляк – это мужской головной убор в виде цилинд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Его носили мужчины в девятнадцатом веке. Они входили в помещение и снимали цилиндр. Держать его было неудобно. Цилиндр сделали складным. По-французски ШАПО – это шляпа. КЛЯК – шлепок ладонью по её верху. После шлепка шляпа складывалась. Старуха ходила именно в такой шляп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учебник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с. 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3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/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. 22 - 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3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cc"/>
                </a:solidFill>
                <a:latin typeface="Arial"/>
              </a:rPr>
              <a:t>Звук </a:t>
            </a:r>
            <a:r>
              <a:rPr b="1" lang="en-US" sz="9600" spc="-1" strike="noStrike">
                <a:solidFill>
                  <a:srgbClr val="0033cc"/>
                </a:solidFill>
                <a:latin typeface="Arial"/>
                <a:ea typeface="Arial"/>
              </a:rPr>
              <a:t>[</a:t>
            </a:r>
            <a:r>
              <a:rPr b="1" lang="ru-RU" sz="9600" spc="-1" strike="noStrike">
                <a:solidFill>
                  <a:srgbClr val="0033cc"/>
                </a:solidFill>
                <a:latin typeface="Arial"/>
                <a:ea typeface="Arial"/>
              </a:rPr>
              <a:t>ш</a:t>
            </a:r>
            <a:r>
              <a:rPr b="1" lang="en-US" sz="9600" spc="-1" strike="noStrike">
                <a:solidFill>
                  <a:srgbClr val="0033cc"/>
                </a:solidFill>
                <a:latin typeface=""/>
                <a:ea typeface="Arial"/>
              </a:rPr>
              <a:t>]</a:t>
            </a:r>
            <a:r>
              <a:rPr b="1" lang="ru-RU" sz="9600" spc="-1" strike="noStrike">
                <a:solidFill>
                  <a:srgbClr val="0033cc"/>
                </a:solidFill>
                <a:latin typeface=""/>
                <a:ea typeface="Arial"/>
              </a:rPr>
              <a:t>,</a:t>
            </a:r>
            <a:br>
              <a:rPr sz="9600"/>
            </a:br>
            <a:r>
              <a:rPr b="1" lang="ru-RU" sz="9600" spc="-1" strike="noStrike">
                <a:solidFill>
                  <a:srgbClr val="0033cc"/>
                </a:solidFill>
                <a:latin typeface=""/>
                <a:ea typeface="Arial"/>
              </a:rPr>
              <a:t>буквы Ш,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594160" cy="274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00720" y="76500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16000" y="3573360"/>
            <a:ext cx="259236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21589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735360" cy="566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006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903400" cy="290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600360" cy="315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692360" y="3213000"/>
            <a:ext cx="54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620640"/>
            <a:ext cx="187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133720"/>
            <a:ext cx="13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84720" y="765000"/>
            <a:ext cx="1381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00720" y="3500280"/>
            <a:ext cx="1381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43640" y="5084640"/>
            <a:ext cx="1381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92360" y="981000"/>
            <a:ext cx="20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76720" y="3068640"/>
            <a:ext cx="2087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26920" y="3357720"/>
            <a:ext cx="160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56360" y="1989000"/>
            <a:ext cx="16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92360" y="4941720"/>
            <a:ext cx="2519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11280" y="620640"/>
            <a:ext cx="187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206064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5734080"/>
            <a:ext cx="13813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6920" y="3284640"/>
            <a:ext cx="13813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4292640"/>
            <a:ext cx="13813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84720" y="620640"/>
            <a:ext cx="15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12000" y="4005360"/>
            <a:ext cx="1800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84720" y="2852640"/>
            <a:ext cx="160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12000" y="1773360"/>
            <a:ext cx="160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12000" y="5445000"/>
            <a:ext cx="18000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353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ап   шапк    шапк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уп   шупк    шупкл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ип   шипк    шипк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оп   шопк    шопкл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еп   шепк    шепкл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ум        ес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утка      кома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лапа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стар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7:20:50Z</dcterms:created>
  <dc:creator>Admin</dc:creator>
  <dc:description/>
  <dc:language>en-US</dc:language>
  <cp:lastModifiedBy>Admin</cp:lastModifiedBy>
  <dcterms:modified xsi:type="dcterms:W3CDTF">2013-01-09T18:45:14Z</dcterms:modified>
  <cp:revision>2</cp:revision>
  <dc:subject/>
  <dc:title>Назовите предметы.</dc:title>
</cp:coreProperties>
</file>