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CE2-AAFB-4E30-8851-9166052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DE6-C092-4D6E-B8FC-FAEB3D5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29E-0798-4694-A1D7-992865F1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079-2F59-41B2-AFBB-6E6635CE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7F64-5932-4FEE-81F6-16788DE2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8D8-81FE-4820-A2C8-2A2B58E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3829-0649-4BEE-B2EC-A442D6F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773E-E693-445D-8F74-58A295AE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A8CC-01ED-404A-8260-0C58224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4D95-FDFE-4462-BD00-4CC8FE1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CAE-E89C-4E4E-A9E7-BEC1866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7D2-B128-4C3E-B6BD-3214B23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B1ED-1E28-4F81-AB99-8F3732D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4C78-DC1E-41E8-B156-669D67A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16B5-220D-4868-87F6-82F8496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B96A-B542-4854-9411-24D8788E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FE00-74C0-4388-9640-0141D39A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D4B-C05C-4F28-AB76-C5B1794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CB8-1D01-49CD-AAA1-447D711F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760-C76F-4651-88DD-8784EBBE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EA0-8D24-4917-847E-C710C0C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3EE-7E84-4AB2-821A-F7033F3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06D-4915-45BE-B6CD-C9D0F6D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2F6-433E-4DB4-B0C6-DAC672A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F754-2949-4687-A551-3E14819DA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FE7-84A4-48B8-A759-B1D48E5D6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476280"/>
          <a:ext cx="8229600" cy="6486480"/>
        </p:xfrm>
        <a:graphic>
          <a:graphicData uri="http://schemas.openxmlformats.org/drawingml/2006/table">
            <a:tbl>
              <a:tblPr/>
              <a:tblGrid>
                <a:gridCol w="1935000"/>
                <a:gridCol w="6294600"/>
              </a:tblGrid>
              <a:tr h="1030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, название кни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 Пришвин «Золотой луг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геро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брата и одуван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4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е складна сказка письмом, складна вымыс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раткое содержание произведения,  заметки о прочитанн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 хоть и маленький, но в то же время интересный и яркий. Когда я закрываю глаза, я представляю, как я стою посреди золотого поля. А вокруг меня раскрываются ярко-жёлтые одуванчики. Наверняка не все смогли бы заметить эту необыкновенную красоту. А мальчики совершенно в простом одуванчике рассмотрели что-то большее. Мне кажется, что нам тоже нужно уметь видеть прекрасное в простом.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арбеева Дарья, 6 кла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казочный и яркий рассказ. Одуванчики – удивительные цветы. Золотые, словно маленькие солнышки, они сжимают свои ладошки при наступлении ночи. Они чем-то похожи на маленьких нежных детей. Нам надо учиться радоваться таким мелочам.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архова Татьяна, 6 класс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уванчики – маленькие детки, которые гуляют на лугу. Утром они смеются, резвятся и дарят прохожим счастье и радость. А вечером они, как настоящие дети, ложатся спать, пряча свои мягкие ладошки под голову.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Кистенёва Лиза, 6 класс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удивительно, что одуванчики вроде бы такие обычные цветы, но особенные. Если закрыть глаза, то сразу представляешь, что ты на лугу с жёлтой бесконечностью.  Хочется упасть в эту бесконечность,  в ярко-жёлтое одеяло и пролежать весь день. Цветы наполнены светом и энергией, прямо как мальеькие солнышки. Поэтому их можно заметить среди множества других цветов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(Панков Леонид, 6 кла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уванчики –  это  живые люди. Они просыпаются и расцветают, засыпают и шевелятся от ветра,  как люди во снах. Когда люди замечают природу и узнают её, они понимают, как это прекрасно, что природа как будто живёт человеческой жизнью. И мальчики заметили эту красоту природы в обычных одуванчиках. </a:t>
                      </a: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Войтова Екатерина, 6 клас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45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5280" y="476280"/>
          <a:ext cx="8353440" cy="597708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2173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удрому челов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я земля откр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вторские афоризм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3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лово толковое стоит целк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глянем же, как Пушкин встар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толковый наш сло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ловарь С.И.Ожего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1935000"/>
                <a:gridCol w="6294600"/>
              </a:tblGrid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рации и костю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, одетые по-летнему, с удочками. Золотой луг на фоне зелёных деревьев и тра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е восприятие произве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т рассказ яркий и позитивный. Цвет у рассказа, безусловно,  золотой, как сам цветок-одуванчик и его душа. Это маленькая жёлтая бесконечность с маленькими солныш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е ассоци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бетание птиц, нежный шум деревьев, музыка рассвета, лёгкая приятная мелодия под шелест травы и деревенские зву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1:47:16Z</dcterms:created>
  <dc:creator>Admin</dc:creator>
  <dc:description/>
  <dc:language>en-US</dc:language>
  <cp:lastModifiedBy>Учитель</cp:lastModifiedBy>
  <dcterms:modified xsi:type="dcterms:W3CDTF">2016-12-02T04:21:37Z</dcterms:modified>
  <cp:revision>16</cp:revision>
  <dc:subject/>
  <dc:title>Слайд 1</dc:title>
</cp:coreProperties>
</file>