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23D-3AC1-4DF3-812F-4B875679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733-A2E7-4EB3-B506-811870FD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D92-9B07-4251-8876-E5E13AB9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DE9-DC5E-42EB-8EA3-D1F63770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867DC-5D23-4016-9ABF-891B5E7B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22E4B-E66E-44D2-AEF3-15917403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6D86-67D5-4B98-BC4F-05B1C307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7F3B8-9578-4ABB-AF95-A9A940D7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409AF-D380-4606-9292-E60A728A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B670E-2EF8-4439-A4F1-2D762BB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A01B5-B0F9-4064-831A-2C40CB78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964-52A0-4D42-83E5-A9CDFA51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60359-B080-4D71-B893-8B438A52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685D7-3B5B-40AF-9C92-207B2AD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5E5F3-7501-4EAA-AB55-72965623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EA8E1-8125-4F9A-81A5-B1B5E234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2A934-BD90-40F4-9ED1-5CA0299A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08D-3F9D-41B5-A28E-9EF2D7BA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2BA-F442-4EDC-A71E-DCF3347D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421-DE46-4E64-BEB1-94F9848A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525-0EE9-4FC0-B083-DA775692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4AF-B38E-453B-A914-66F6814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2F9-AB7D-4F4C-A6A7-2F1F9AE5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782-1C62-4AA5-AE6B-B12906B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6B8F-51E6-4D88-9100-798071A91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ED40-A68E-4240-8215-CC2E6B807A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viewport=wide&amp;text=&#1074;&#1088;&#1077;&#1084;&#1077;&#1085;&#1072;%20&#1075;&#1086;&#1076;&#1072;&amp;img_url=http%3A%2F%2Ffc08.deviantart.net%2Ffs41%2Ff%2F2009%2F047%2F4%2Fc%2FThe_Break_Of_Autumn_by_inextremo.jpg&amp;pos=0&amp;uinfo=sw-1600-sh-900-ww-1550-wh-784-pd-1-wp-16x9_1600x900&amp;rpt=simage&amp;_=1425665608168&amp;pin=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viewport=wide&amp;text=&#1089;&#1074;&#1080;&#1090;&#1077;&#1088;&amp;img_url=http%3A%2F%2Fimg0.liveinternet.ru%2Fimages%2Fattach%2Fc%2F7%2F95%2F933%2F95933536_1378149_70e6f88f8d0a81621225c6e270c4a2de_600.jpg&amp;pos=0&amp;uinfo=sw-1600-sh-900-ww-1550-wh-784-pd-1-wp-16x9_1600x900&amp;rpt=simage&amp;_=1425663350626&amp;pin=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yandex.ru/images/search?viewport=wide&amp;text=&#1096;&#1072;&#1087;&#1082;&#1080;&amp;img_url=http%3A%2F%2Fh7.img.mediacache.rugion.ru%2F_i%2Fforum%2Ffiles%2F97%2F94%2F82%2F9794829_0s449_1325052444.jpg&amp;pos=0&amp;uinfo=sw-1600-sh-900-ww-1550-wh-784-pd-1-wp-16x9_1600x900&amp;rpt=simage&amp;_=1425664590440&amp;pin=1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viewport=wide&amp;text=&#1082;&#1088;&#1086;&#1089;&#1089;&#1086;&#1074;&#1082;&#1080;&amp;img_url=http%3A%2F%2Fwww.yarskonline.ru%2Fupload_files%2Fnews%2F3267_1.jpg&amp;pos=0&amp;uinfo=sw-1600-sh-900-ww-1550-wh-784-pd-1-wp-16x9_1600x900&amp;rpt=simage&amp;_=1425662837074&amp;pin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59432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form school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171 Iliyasov Fid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I wear every seas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i?id=9e3e89fd97aafc320ad9352529b7f922-14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733920"/>
            <a:ext cx="2438280" cy="142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?id=4ef9b97e2860fcc5b6e68908acf78e5c-46-144&amp;n=21"/>
          <p:cNvPicPr/>
          <p:nvPr/>
        </p:nvPicPr>
        <p:blipFill>
          <a:blip r:embed="rId3"/>
          <a:stretch/>
        </p:blipFill>
        <p:spPr>
          <a:xfrm>
            <a:off x="0" y="3733920"/>
            <a:ext cx="220968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c55bf13b94d086cf0079e16a00fddc20-00-144&amp;n=21"/>
          <p:cNvPicPr/>
          <p:nvPr/>
        </p:nvPicPr>
        <p:blipFill>
          <a:blip r:embed="rId4"/>
          <a:stretch/>
        </p:blipFill>
        <p:spPr>
          <a:xfrm>
            <a:off x="4495680" y="3733920"/>
            <a:ext cx="2210040" cy="14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i?id=d4850e6d6cd93e45ff8c5669d71d7c96-108-144&amp;n=21"/>
          <p:cNvPicPr/>
          <p:nvPr/>
        </p:nvPicPr>
        <p:blipFill>
          <a:blip r:embed="rId5"/>
          <a:stretch/>
        </p:blipFill>
        <p:spPr>
          <a:xfrm>
            <a:off x="2209680" y="3733920"/>
            <a:ext cx="228600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7631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I wear in Winter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ea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m ja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we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t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i?id=1ce5065d96dfef7dfa1d6cef9f30d3a9-86-144&amp;n=21"/>
          <p:cNvPicPr/>
          <p:nvPr/>
        </p:nvPicPr>
        <p:blipFill>
          <a:blip r:embed="rId1"/>
          <a:stretch/>
        </p:blipFill>
        <p:spPr>
          <a:xfrm>
            <a:off x="5638680" y="266688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f0f4aee98267d61ff9ee2b0b0f7e46d3-128-144&amp;n=21"/>
          <p:cNvPicPr/>
          <p:nvPr/>
        </p:nvPicPr>
        <p:blipFill>
          <a:blip r:embed="rId2"/>
          <a:stretch/>
        </p:blipFill>
        <p:spPr>
          <a:xfrm>
            <a:off x="6019920" y="2286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i?id=b7570c794e0265846ed83bac49a3b856-78-144&amp;n=21"/>
          <p:cNvPicPr/>
          <p:nvPr/>
        </p:nvPicPr>
        <p:blipFill>
          <a:blip r:embed="rId3"/>
          <a:stretch/>
        </p:blipFill>
        <p:spPr>
          <a:xfrm>
            <a:off x="5943600" y="12193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i?id=93d0a38c15776b8b85fc4695793f1f44-07-144&amp;n=21"/>
          <p:cNvPicPr/>
          <p:nvPr/>
        </p:nvPicPr>
        <p:blipFill>
          <a:blip r:embed="rId4"/>
          <a:stretch/>
        </p:blipFill>
        <p:spPr>
          <a:xfrm>
            <a:off x="6172200" y="36576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i?id=2b3324979eda0de4f20c0d5f397f46ae-107-144&amp;n=21"/>
          <p:cNvPicPr/>
          <p:nvPr/>
        </p:nvPicPr>
        <p:blipFill>
          <a:blip r:embed="rId5"/>
          <a:stretch/>
        </p:blipFill>
        <p:spPr>
          <a:xfrm>
            <a:off x="6095880" y="4952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i?id=7f769eff00d1d05feb23f14c5c61c3f8-64-144&amp;n=21"/>
          <p:cNvPicPr/>
          <p:nvPr/>
        </p:nvPicPr>
        <p:blipFill>
          <a:blip r:embed="rId6"/>
          <a:stretch/>
        </p:blipFill>
        <p:spPr>
          <a:xfrm>
            <a:off x="4495680" y="3809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i?id=7f769eff00d1d05feb23f14c5c61c3f8-64-144&amp;n=21"/>
          <p:cNvPicPr/>
          <p:nvPr/>
        </p:nvPicPr>
        <p:blipFill>
          <a:blip r:embed="rId7"/>
          <a:stretch/>
        </p:blipFill>
        <p:spPr>
          <a:xfrm>
            <a:off x="7772400" y="3809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wear in Spring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ea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ja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we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9" descr="i?id=c0d3c7637cabe0cb40584b8f6433b691-124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819520"/>
            <a:ext cx="1771560" cy="142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?id=c0577a2dffd10cf72eff3b8d19dd0db4-32-144&amp;n=21"/>
          <p:cNvPicPr/>
          <p:nvPr/>
        </p:nvPicPr>
        <p:blipFill>
          <a:blip r:embed="rId3"/>
          <a:stretch/>
        </p:blipFill>
        <p:spPr>
          <a:xfrm>
            <a:off x="5715000" y="23623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i?id=6d50b94611ec9e12a60e68196a1dee1c-49-144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14479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i?id=1bc057508edfa3dbbcd60a44f84f0968-142-144&amp;n=21"/>
          <p:cNvPicPr/>
          <p:nvPr/>
        </p:nvPicPr>
        <p:blipFill>
          <a:blip r:embed="rId6"/>
          <a:stretch/>
        </p:blipFill>
        <p:spPr>
          <a:xfrm>
            <a:off x="5943600" y="40384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i?id=305913f326b214bfcd3db6c359ccb3c2-112-144&amp;n=21"/>
          <p:cNvPicPr/>
          <p:nvPr/>
        </p:nvPicPr>
        <p:blipFill>
          <a:blip r:embed="rId7"/>
          <a:stretch/>
        </p:blipFill>
        <p:spPr>
          <a:xfrm>
            <a:off x="5715000" y="52578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wear in Summ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ea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-shi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Футболка &quot;Adelaide&quot; мужская, цвет белый/чёрный, размер L купить оптом с логотипом"/>
          <p:cNvPicPr/>
          <p:nvPr/>
        </p:nvPicPr>
        <p:blipFill>
          <a:blip r:embed="rId2"/>
          <a:stretch/>
        </p:blipFill>
        <p:spPr>
          <a:xfrm>
            <a:off x="6172200" y="25146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пляжные шорты, страница 5"/>
          <p:cNvPicPr/>
          <p:nvPr/>
        </p:nvPicPr>
        <p:blipFill>
          <a:blip r:embed="rId3"/>
          <a:stretch/>
        </p:blipFill>
        <p:spPr>
          <a:xfrm>
            <a:off x="6629400" y="4038480"/>
            <a:ext cx="1052640" cy="152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?id=1c6ea63f59936c9ae5318b3a3baccf36-92-144&amp;n=21"/>
          <p:cNvPicPr/>
          <p:nvPr/>
        </p:nvPicPr>
        <p:blipFill>
          <a:blip r:embed="rId4"/>
          <a:stretch/>
        </p:blipFill>
        <p:spPr>
          <a:xfrm>
            <a:off x="640080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i?id=fa26091321d4add6876cb39c5b8cc9c5-05-144&amp;n=21"/>
          <p:cNvPicPr/>
          <p:nvPr/>
        </p:nvPicPr>
        <p:blipFill>
          <a:blip r:embed="rId5"/>
          <a:stretch/>
        </p:blipFill>
        <p:spPr>
          <a:xfrm>
            <a:off x="6248520" y="10666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wear in A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utum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ar…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jac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we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umbr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i?id=0dc69c28198126866ae873a29534c81b-77-144&amp;n=21"/>
          <p:cNvPicPr/>
          <p:nvPr/>
        </p:nvPicPr>
        <p:blipFill>
          <a:blip r:embed="rId1"/>
          <a:stretch/>
        </p:blipFill>
        <p:spPr>
          <a:xfrm>
            <a:off x="4114800" y="23623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i?id=a6b3b8b0539c02ee28723270e79f824f-38-144&amp;n=21"/>
          <p:cNvPicPr/>
          <p:nvPr/>
        </p:nvPicPr>
        <p:blipFill>
          <a:blip r:embed="rId2"/>
          <a:stretch/>
        </p:blipFill>
        <p:spPr>
          <a:xfrm>
            <a:off x="632448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i?id=a4f2add588244595a0e16418b0b48b3e-40-144&amp;n=21"/>
          <p:cNvPicPr/>
          <p:nvPr/>
        </p:nvPicPr>
        <p:blipFill>
          <a:blip r:embed="rId3"/>
          <a:stretch/>
        </p:blipFill>
        <p:spPr>
          <a:xfrm>
            <a:off x="6172200" y="23623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i?id=2d6d93567bcb6f153342d46bd55f94e8-45-144&amp;n=21"/>
          <p:cNvPicPr/>
          <p:nvPr/>
        </p:nvPicPr>
        <p:blipFill>
          <a:blip r:embed="rId4"/>
          <a:stretch/>
        </p:blipFill>
        <p:spPr>
          <a:xfrm>
            <a:off x="6400800" y="3809880"/>
            <a:ext cx="942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i?id=d3e909de46cac1e1bd2e1c9e23b39908-38-144&amp;n=21"/>
          <p:cNvPicPr/>
          <p:nvPr/>
        </p:nvPicPr>
        <p:blipFill>
          <a:blip r:embed="rId5"/>
          <a:stretch/>
        </p:blipFill>
        <p:spPr>
          <a:xfrm>
            <a:off x="6095880" y="5105520"/>
            <a:ext cx="1629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ank you for attention 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i?id=57254372-07"/>
          <p:cNvPicPr/>
          <p:nvPr/>
        </p:nvPicPr>
        <p:blipFill>
          <a:blip r:embed="rId1"/>
          <a:stretch/>
        </p:blipFill>
        <p:spPr>
          <a:xfrm>
            <a:off x="2590920" y="1905120"/>
            <a:ext cx="4608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6T15:27:47Z</dcterms:created>
  <dc:creator>user</dc:creator>
  <dc:description/>
  <dc:language>en-US</dc:language>
  <cp:lastModifiedBy>Admin</cp:lastModifiedBy>
  <dcterms:modified xsi:type="dcterms:W3CDTF">2016-12-02T16:02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