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D14-77F8-4B8A-B6EF-A53EBBF6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888-0CF1-4E5B-8285-DBA50055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A6F-8D75-444C-A444-ACF36E68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E79-CBFA-482C-BB30-161F12B7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E5C-ECA4-4EB0-9840-75EA6CD0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7BF-8459-491C-9037-1C9C8D5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79B-BFFD-4D91-A883-219D4365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600-9B1A-449C-9EF0-A75AE4FC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8BB-F736-48B6-AFE4-CBF56723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779-D547-47A2-B5A3-6C92394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75E-F9EE-4337-BB9B-4D748DA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D80-F72F-4C13-9CFD-0DEEF1B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6E47-5FE4-4D63-8FBB-31971F01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Arial"/>
              </a:rPr>
              <a:t>Гласные буквы Е,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9280" y="1125360"/>
            <a:ext cx="864072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909960" cy="246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00000" y="2924280"/>
            <a:ext cx="20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л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932360" y="404640"/>
            <a:ext cx="3538440" cy="24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508720" y="2924280"/>
            <a:ext cx="208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нот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826920" y="3716280"/>
            <a:ext cx="4081680" cy="253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64000" y="5084640"/>
            <a:ext cx="26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жат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5400000">
            <a:off x="323640" y="5475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0000" y="620640"/>
            <a:ext cx="784872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знакомиться с ...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знать, какую работу ...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учиться читать ... и ... с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932360" y="620640"/>
            <a:ext cx="345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ли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4038480" cy="586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43280" y="3429000"/>
            <a:ext cx="417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ловы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Есть – так сегодн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а работать – та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завтр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26920" y="333360"/>
            <a:ext cx="1979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а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76720" y="549360"/>
            <a:ext cx="208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я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56360" y="404640"/>
            <a:ext cx="223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рот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060640"/>
            <a:ext cx="2303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иц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03640" y="2276640"/>
            <a:ext cx="154152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ни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92720" y="1916280"/>
            <a:ext cx="201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нот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3357720"/>
            <a:ext cx="201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уба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32000" y="3789360"/>
            <a:ext cx="16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ли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32720" y="3141720"/>
            <a:ext cx="1942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5013360"/>
            <a:ext cx="201636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апка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580000" y="4508640"/>
            <a:ext cx="2305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ие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03640" y="5589720"/>
            <a:ext cx="23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ркие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5400000">
            <a:off x="323640" y="5475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00000" y="620640"/>
            <a:ext cx="784872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знакомиться с ...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знать, какую работу ...;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учиться читать ... и ... с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836640"/>
            <a:ext cx="38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987640" y="2852640"/>
            <a:ext cx="3889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оло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76720" y="4508640"/>
            <a:ext cx="3311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гур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5:11:38Z</dcterms:created>
  <dc:creator>Admin</dc:creator>
  <dc:description/>
  <dc:language>en-US</dc:language>
  <cp:lastModifiedBy>Admin</cp:lastModifiedBy>
  <dcterms:modified xsi:type="dcterms:W3CDTF">2012-11-05T16:05:43Z</dcterms:modified>
  <cp:revision>2</cp:revision>
  <dc:subject/>
  <dc:title>Гласные буквы Е,е.</dc:title>
</cp:coreProperties>
</file>