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267-051E-4CE2-AB9D-449F9B1C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1C3-FDA9-4A5B-A0C1-11DA2F82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A75F4-20D5-43E5-A5EB-F269CFAC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2A7B3-76BB-43B1-9305-4C7A0C76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8F569-393C-4B29-A0FD-628B1EA3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EB278-ED66-4680-AB3D-6F44E788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E22DB-9405-49AB-8526-3BDC2562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C2F66-B151-45AD-815E-F67A69BB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D15FF-DBF2-4D8C-80F5-EB34EBB4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0C4E4-45FE-411A-B759-25329895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7C9FB-56EE-4D95-BCC1-94E77D31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55055-A4B7-49C5-839C-6B7EB70F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3F9-F5B2-452A-80BE-21E49C26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CA78B-E0E1-4B49-B469-2B24E22F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1AE99-7C9D-4056-9E76-7132B9B4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85ABE-7CB8-419A-9C4A-F992F256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D3AF3-1257-4ACF-8FE8-5CE090ED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D22AB3-A7BF-4C97-B5B4-D666774C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C7C09-A5A8-45C6-8713-EF077818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622AD-2451-44F5-B962-1F19BE0D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1A14E-DE7F-4A09-B737-025F0567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F2407-4C34-4D66-AEB9-B3F642D4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1BB8C-120A-4FE2-8F2C-BC363658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8C2-D69A-4159-A69E-4E359134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682BB-6077-47E8-94CB-B981E783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897F6C-D266-4D91-890A-90D1D84E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CBFDB1-795D-4326-80B8-57182190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A1DB17-787A-4505-B057-D9EAF5C7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E0F536-A075-437A-B47A-10B5F634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133521-558A-4553-AC47-541DCA31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0B217D-0855-4824-96A8-BCAD9084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EEBAF6-5D2D-4BEB-A84C-BBDD963A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3753D5-64C5-46AC-80E6-17703672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8FCF9F-D80E-4230-B63E-CD3C1C5B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0BBE-8AFB-4EF8-A70B-AEB4870C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12BE01-9E20-43D8-8946-57901A3D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1E15C0-0105-4511-AFCD-EE9927A9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9E2339-7EA8-4190-A3D5-C1635E41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DBD0-5FDA-473B-8B46-3D3D4296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BC2B-7551-46EE-BB10-43D24F53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291B-7E1C-44E8-B9BE-B91ECD96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5492-BFEA-4D87-9F6A-E67E578B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B779-5F5F-46ED-A0DE-4841C1DC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B3B3-0F47-4A0D-A1A2-92EA5717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B04-7148-4EE4-87CC-A81E4F48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17B0-43CB-4E47-9786-952C9158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9D25-F5D1-43B4-8E83-2F2FDFF3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A8FB-E140-4A1D-AD4E-280C84C2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41FF-2AA5-4A0B-8B3E-155463C5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5808-2278-46F0-8E61-3EB16EB4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CCC1-91FD-4335-8840-53382020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26C0-140D-4D9C-901D-B3DE6D5C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56EB-26D4-45DE-804D-C218ABF1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AD16-9F47-4965-BEFA-5421D242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246A-3D89-44B9-A04B-FE75F7C4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98C-4EFA-4A6C-A0E4-EA3926DE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3585-FAE4-4814-BB86-F7961837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3E713-6253-4D71-8DFB-745DB48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D584-1C7E-411C-931D-CE8693E5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F427-47B4-411D-9E21-80000521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6CBEB-D17B-4421-A1AC-E391BD9C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E612-710C-414B-B7A3-C4D92AC1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5BD63-DEB7-4203-A867-09D2DDB9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D799E-BA23-42E4-AF3C-6756F030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1A97-2095-467C-A58E-3C6D63A5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FBB0D-2D67-46B4-80AC-3B8E0AA8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51E-7E0E-42EC-BC71-AFFB8DA5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4C03C-D76F-431F-8D96-49A36654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1D102-183F-4C3D-9447-8B083973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73CE9-A0A1-4EF3-B03A-69CC231F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734FD-5CC7-4C90-BCE8-8DEC2A0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8C48F-1C8E-4214-8D74-83CAF472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03466-F966-4F83-9358-FD47BB1D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EEF47-2C1D-4A25-BE4E-275FB7F7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3495-C155-43A8-9F02-D6F2456F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9F103-37E3-4D15-8D66-3ADD6C50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5F5E0-01FD-4532-B3B4-4176B261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402-EE06-4832-A9D5-F8012004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ED3AF-42DA-4631-B85D-622932C5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02534-F7FF-4242-A3D0-8778A5E1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B40F6-D1D3-4A34-AC10-D8304A82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E178B-B1ED-4567-A79A-0ECA3AE0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B6D32-628A-4A31-964B-02BDFF3A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59EDD-9C49-4C4A-9F01-66902237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49F38-0377-4522-836A-A50C5FF7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76AC8-6CA7-45DD-9AEC-EC1510C8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C779E-DE0B-46B6-A564-5ACEACD5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99BFF-D099-4ACB-BD37-E310A49B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29D-237A-45DD-A587-D5D510AA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36E48-8C1C-4271-B08C-C74C7719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0C076-A4FE-41BC-A7AD-7DA5F4C6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B4EA2-AF8E-45F5-9279-CBD046B8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9E5D7-8CE9-4709-8BB0-7EABEA5C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3048B-9224-44A6-8007-35BF00BC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D1658-7462-42F3-9D07-BFCD1BE6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F92F1-9D4C-492D-9504-039C3EAD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7D5D6-9267-49A1-B6E5-DDED85B2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D9691-165E-4601-8D81-2428551C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CE464-C1EF-418C-9A39-67971B3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46B-43F2-4772-9F95-46EEE31A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C072A-23ED-43D9-8604-7473284B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1F7C1-C9C0-4499-B3F9-32054807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EE7E3-8053-4F79-9B3B-B09F5AB5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0AFA7-30AC-4EFF-9A02-A4809262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4ED02-F168-4D29-B0A1-EB9A178D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D6747-1868-413C-AEDA-87DC299F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71034-0C81-45FE-88B8-F0F044AF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65690-B3CE-4189-9200-1E3C3EC4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57C79-0542-4430-BC9D-99BD2F5A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E589E-2827-46A4-84AE-1329F172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3DC-95BC-4539-90CE-7269F22A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74C19-0497-4396-BA93-B6D0696C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9028D-6AC5-417D-B577-CAA36A05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B0FFF-F33E-4693-8F4B-56218165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44A13-625D-4302-804F-29CD26A4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11D48-DC7F-4DDC-AE06-304AB1E6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50A4E-D959-4F4B-952D-47288697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8C2DA-A119-4BFD-9E4D-9F445B97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64EC7-F659-49E1-AD47-7FFF5A97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44056-B059-4120-BBD7-217BB19B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BE20F-F9A7-4B39-9D72-BD65861F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48D-BB86-4A07-9FC4-B7F10B14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C20F0-186F-4241-B6B3-8A0E6636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2D7E6-4653-4423-93A2-DD79A4BA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C1688-B418-4FB7-B039-5BB43CB0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A6007-E870-4D39-8BDE-C0AB8384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84BC1-FFE3-4FB3-97F5-6C2324C6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4C442-99A2-4D04-A51B-A977B789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6346C-649B-45B9-AB27-75DBF338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34BAF-E2C6-4149-BDD2-F9DFFA8F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EB0C6-0BCA-4546-B1A2-1719B9FD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F4C72-437A-4BB8-9969-B6E43088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DFBE-FAE5-45AC-AEA1-A62EAC8076C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BE53-7F93-4A5E-983A-DFC8C8CFB23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8C38-D121-4D2E-853C-99E9A3D0E21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C00C-17EA-4DBE-8F80-EA7EF423769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BCA9-30EF-451F-BF9F-FFEF5EF18F5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5472-977A-433B-8A6B-05BAF1A0ECA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2B9D-F613-4651-B04D-67A98D13D76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5C9C-94EA-45C1-8300-8D0B2041D15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5801-ACD9-41B6-868B-E9BA80272F5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F4B4-2BC7-4154-A7DE-A14F15367B4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B7BA-7C54-4AA3-9821-4DD3E744B51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wilkipedia.org/" TargetMode="External"/><Relationship Id="rId2" Type="http://schemas.openxmlformats.org/officeDocument/2006/relationships/hyperlink" Target="http://www.wilkipedia.org/" TargetMode="External"/><Relationship Id="rId3" Type="http://schemas.openxmlformats.org/officeDocument/2006/relationships/hyperlink" Target="http://www.wilkipedia.org/" TargetMode="External"/><Relationship Id="rId4" Type="http://schemas.openxmlformats.org/officeDocument/2006/relationships/hyperlink" Target="http://www.qip.ru/" TargetMode="Externa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Рисунок 5" descr="proekt_interera.jpg"/>
          <p:cNvPicPr/>
          <p:nvPr/>
        </p:nvPicPr>
        <p:blipFill>
          <a:blip r:embed="rId1">
            <a:lum contrast="-10000"/>
          </a:blip>
          <a:srcRect l="5716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3972960" y="3664800"/>
            <a:ext cx="4834440" cy="2334600"/>
          </a:xfrm>
          <a:prstGeom prst="rect">
            <a:avLst/>
          </a:prstGeom>
          <a:solidFill>
            <a:srgbClr val="ccff99"/>
          </a:solidFill>
          <a:ln w="57240">
            <a:solidFill>
              <a:srgbClr val="92d050"/>
            </a:solidFill>
            <a:prstDash val="sysDash"/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ГОДОВОЙ ПРОЕКТ УЧЕНИКА 5ВКЛАССА: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МАЗАНОВА ВИКТОР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ПО ПРЕДМЕТУ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«МАТЕМАТИКА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КУРАТОР ПРОЕКТА: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КАРАГУЗИНА НАДЕЖДА ВЛАДИМИРОВН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МБОУ ШКОЛА №9 Г. КАЗАН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42440" y="650880"/>
            <a:ext cx="8367120" cy="2552040"/>
          </a:xfrm>
          <a:prstGeom prst="rect">
            <a:avLst/>
          </a:prstGeom>
          <a:solidFill>
            <a:srgbClr val="ccff99"/>
          </a:solidFill>
          <a:ln w="57240">
            <a:solidFill>
              <a:srgbClr val="92d050"/>
            </a:solidFill>
            <a:prstDash val="sysDash"/>
            <a:miter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Arial Black"/>
              </a:rPr>
              <a:t>Сборник авторских задач на движение учеников</a:t>
            </a: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Arial Black"/>
              </a:rPr>
              <a:t> 5 В класса </a:t>
            </a: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Arial Black"/>
              </a:rPr>
              <a:t>школы №9 г. Казани</a:t>
            </a: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.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ва автомобиля выехали из разных пунктов, расстояние между которыми 1200 км на встречу друг другу. Через сколько часов они встретятся, если один из них двигался со скоростью 120 км/ч, а другой со скоростью 80 км/ч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) 120+80=200(км/ч) - скорость сближ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) 1200:200=6(ч) - они встретятс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встретятся через 6 час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Заголовок 1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на встре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8" name="Прямая соединительная линия 5"/>
          <p:cNvSpPr/>
          <p:nvPr/>
        </p:nvSpPr>
        <p:spPr>
          <a:xfrm>
            <a:off x="1692360" y="4078440"/>
            <a:ext cx="4824360" cy="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9" name="Прямоугольник 6"/>
          <p:cNvSpPr/>
          <p:nvPr/>
        </p:nvSpPr>
        <p:spPr>
          <a:xfrm>
            <a:off x="3571560" y="3646440"/>
            <a:ext cx="138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 200 км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0" name="Овал 7"/>
          <p:cNvSpPr/>
          <p:nvPr/>
        </p:nvSpPr>
        <p:spPr>
          <a:xfrm>
            <a:off x="1476360" y="4005360"/>
            <a:ext cx="216000" cy="215640"/>
          </a:xfrm>
          <a:prstGeom prst="ellipse">
            <a:avLst/>
          </a:prstGeom>
          <a:solidFill>
            <a:srgbClr val="0d0d0d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1" name="Овал 8"/>
          <p:cNvSpPr/>
          <p:nvPr/>
        </p:nvSpPr>
        <p:spPr>
          <a:xfrm>
            <a:off x="6443640" y="4005360"/>
            <a:ext cx="216000" cy="215640"/>
          </a:xfrm>
          <a:prstGeom prst="ellipse">
            <a:avLst/>
          </a:prstGeom>
          <a:solidFill>
            <a:srgbClr val="0d0d0d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22" name="Picture 2" descr="http://dayfun.ru/wp-content/uploads/2012/01/how-to-draw-an-aston-martin-aston-martin-virage-step-8.jpg"/>
          <p:cNvPicPr/>
          <p:nvPr/>
        </p:nvPicPr>
        <p:blipFill>
          <a:blip r:embed="rId1"/>
          <a:stretch/>
        </p:blipFill>
        <p:spPr>
          <a:xfrm>
            <a:off x="900000" y="3070080"/>
            <a:ext cx="1219320" cy="863640"/>
          </a:xfrm>
          <a:prstGeom prst="rect">
            <a:avLst/>
          </a:prstGeom>
          <a:ln w="0">
            <a:noFill/>
          </a:ln>
        </p:spPr>
      </p:pic>
      <p:sp>
        <p:nvSpPr>
          <p:cNvPr id="623" name="Стрелка вправо 10"/>
          <p:cNvSpPr/>
          <p:nvPr/>
        </p:nvSpPr>
        <p:spPr>
          <a:xfrm>
            <a:off x="2195640" y="3286080"/>
            <a:ext cx="1296720" cy="5032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20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24" name="Picture 4" descr="http://previews.123rf.com/images/attaphong/attaphong1303/attaphong130300005/18237092-car-outline-Stock-Photo.jpg"/>
          <p:cNvPicPr/>
          <p:nvPr/>
        </p:nvPicPr>
        <p:blipFill>
          <a:blip r:embed="rId2"/>
          <a:stretch/>
        </p:blipFill>
        <p:spPr>
          <a:xfrm>
            <a:off x="6300720" y="2781360"/>
            <a:ext cx="1150920" cy="1152360"/>
          </a:xfrm>
          <a:prstGeom prst="rect">
            <a:avLst/>
          </a:prstGeom>
          <a:ln w="0">
            <a:noFill/>
          </a:ln>
        </p:spPr>
      </p:pic>
      <p:sp>
        <p:nvSpPr>
          <p:cNvPr id="625" name="Стрелка влево 12"/>
          <p:cNvSpPr/>
          <p:nvPr/>
        </p:nvSpPr>
        <p:spPr>
          <a:xfrm>
            <a:off x="4932360" y="3286080"/>
            <a:ext cx="1224000" cy="503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80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6" name="Заголовок 1"/>
          <p:cNvSpPr/>
          <p:nvPr/>
        </p:nvSpPr>
        <p:spPr>
          <a:xfrm>
            <a:off x="4284720" y="602136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Аптекарь Лилия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7" name="Прямоугольник 7"/>
          <p:cNvSpPr/>
          <p:nvPr/>
        </p:nvSpPr>
        <p:spPr>
          <a:xfrm>
            <a:off x="856188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ва друга выехали из двух деревень на встречу друг- другу. Одни ехал со скоростью 80км/ч, а другой 60км/ч.Через 2 часа они встретились. Какое расстояние между деревнями?</a:t>
            </a:r>
            <a:br>
              <a:rPr sz="2400"/>
            </a:br>
            <a:br>
              <a:rPr sz="27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. 80+60=140(км/ч)общая скорость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.140×3=420(км)расстояние между деревням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1890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на встречу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Прямоугольник 4"/>
          <p:cNvSpPr/>
          <p:nvPr/>
        </p:nvSpPr>
        <p:spPr>
          <a:xfrm>
            <a:off x="548640" y="5300640"/>
            <a:ext cx="219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20 км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1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2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33" name="Picture 6" descr="http://i.istockimg.com/file_thumbview_approve/15045453/6/stock-illustration-15045453-boy-riding-a-bike-outline.jpg"/>
          <p:cNvPicPr/>
          <p:nvPr/>
        </p:nvPicPr>
        <p:blipFill>
          <a:blip r:embed="rId1"/>
          <a:stretch/>
        </p:blipFill>
        <p:spPr>
          <a:xfrm>
            <a:off x="1619280" y="2852640"/>
            <a:ext cx="838080" cy="115272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ая соединительная линия 9"/>
          <p:cNvSpPr/>
          <p:nvPr/>
        </p:nvSpPr>
        <p:spPr>
          <a:xfrm>
            <a:off x="2457360" y="3429000"/>
            <a:ext cx="4006800" cy="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35" name="Picture 8" descr="http://images.vector-images.com/clp/183766/clp59255.jpg"/>
          <p:cNvPicPr/>
          <p:nvPr/>
        </p:nvPicPr>
        <p:blipFill>
          <a:blip r:embed="rId2"/>
          <a:stretch/>
        </p:blipFill>
        <p:spPr>
          <a:xfrm>
            <a:off x="6548400" y="2781360"/>
            <a:ext cx="941400" cy="1287360"/>
          </a:xfrm>
          <a:prstGeom prst="rect">
            <a:avLst/>
          </a:prstGeom>
          <a:ln w="0">
            <a:noFill/>
          </a:ln>
        </p:spPr>
      </p:pic>
      <p:sp>
        <p:nvSpPr>
          <p:cNvPr id="636" name="Прямоугольник 12"/>
          <p:cNvSpPr/>
          <p:nvPr/>
        </p:nvSpPr>
        <p:spPr>
          <a:xfrm>
            <a:off x="4104720" y="29257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-км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7" name="Стрелка вправо 14"/>
          <p:cNvSpPr/>
          <p:nvPr/>
        </p:nvSpPr>
        <p:spPr>
          <a:xfrm>
            <a:off x="2660760" y="2852640"/>
            <a:ext cx="1295280" cy="432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80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8" name="Стрелка влево 15"/>
          <p:cNvSpPr/>
          <p:nvPr/>
        </p:nvSpPr>
        <p:spPr>
          <a:xfrm>
            <a:off x="5108400" y="2925720"/>
            <a:ext cx="1152720" cy="432000"/>
          </a:xfrm>
          <a:prstGeom prst="leftArrow">
            <a:avLst>
              <a:gd name="adj1" fmla="val 50000"/>
              <a:gd name="adj2" fmla="val 4998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60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9" name="Заголовок 1"/>
          <p:cNvSpPr/>
          <p:nvPr/>
        </p:nvSpPr>
        <p:spPr>
          <a:xfrm>
            <a:off x="4140360" y="5877000"/>
            <a:ext cx="46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Галиева Камил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0" name="Прямоугольник 17"/>
          <p:cNvSpPr/>
          <p:nvPr/>
        </p:nvSpPr>
        <p:spPr>
          <a:xfrm>
            <a:off x="612720" y="40179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ешение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1" name="Прямоугольник 7"/>
          <p:cNvSpPr/>
          <p:nvPr/>
        </p:nvSpPr>
        <p:spPr>
          <a:xfrm>
            <a:off x="848880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Прямоугольник 4"/>
          <p:cNvSpPr/>
          <p:nvPr/>
        </p:nvSpPr>
        <p:spPr>
          <a:xfrm>
            <a:off x="324000" y="263700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3" name="Прямоугольник 13"/>
          <p:cNvSpPr/>
          <p:nvPr/>
        </p:nvSpPr>
        <p:spPr>
          <a:xfrm>
            <a:off x="8561880" y="638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539640" y="154116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одного логова одновременно в противоположных направлениях выбежало два сурка Димка и Бимка. Скорость Димки  20 км / ч.,  а  Бимки  – 16 км ч. Какое расстояние будет между сурками через 3 часа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1332000" y="4444200"/>
            <a:ext cx="698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16 * 3 = 48 (км) – пробежит Бимка за 3 час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20 * 3 = 60 (км) – пробежит Димка  за 3 час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48 + 60 = 108 (км) – будет между сурками через 3 час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08 км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6" name="Стрелка вправо 13"/>
          <p:cNvSpPr/>
          <p:nvPr/>
        </p:nvSpPr>
        <p:spPr>
          <a:xfrm flipH="1">
            <a:off x="1618560" y="3500280"/>
            <a:ext cx="1152360" cy="64800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0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7" name="Заголовок 6"/>
          <p:cNvSpPr/>
          <p:nvPr/>
        </p:nvSpPr>
        <p:spPr>
          <a:xfrm>
            <a:off x="3924360" y="5589720"/>
            <a:ext cx="60483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 Black"/>
              </a:rPr>
              <a:t>Автор: Нигмедзянова Алсу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48" name="Picture 12" descr="Раскраска Groundhog  - Кликните чтобы открыть версию для печати"/>
          <p:cNvPicPr/>
          <p:nvPr/>
        </p:nvPicPr>
        <p:blipFill>
          <a:blip r:embed="rId1"/>
          <a:stretch/>
        </p:blipFill>
        <p:spPr>
          <a:xfrm>
            <a:off x="3203640" y="3141720"/>
            <a:ext cx="880920" cy="1522440"/>
          </a:xfrm>
          <a:prstGeom prst="rect">
            <a:avLst/>
          </a:prstGeom>
          <a:ln w="0">
            <a:noFill/>
          </a:ln>
        </p:spPr>
      </p:pic>
      <p:sp>
        <p:nvSpPr>
          <p:cNvPr id="649" name="AutoShape 13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0" name="AutoShape 1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51" name="Picture 12" descr="Раскраска Groundhog  - Кликните чтобы открыть версию для печати"/>
          <p:cNvPicPr/>
          <p:nvPr/>
        </p:nvPicPr>
        <p:blipFill>
          <a:blip r:embed="rId2"/>
          <a:stretch/>
        </p:blipFill>
        <p:spPr>
          <a:xfrm>
            <a:off x="4486320" y="3054240"/>
            <a:ext cx="993600" cy="16938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в противоположные стороны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Стрелка вправо 19"/>
          <p:cNvSpPr/>
          <p:nvPr/>
        </p:nvSpPr>
        <p:spPr>
          <a:xfrm>
            <a:off x="5940360" y="3429000"/>
            <a:ext cx="1152720" cy="64944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6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Движение в противоположные стороны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5" name="Picture 4" descr=""/>
          <p:cNvPicPr/>
          <p:nvPr/>
        </p:nvPicPr>
        <p:blipFill>
          <a:blip r:embed="rId1"/>
          <a:stretch/>
        </p:blipFill>
        <p:spPr>
          <a:xfrm>
            <a:off x="384120" y="1527120"/>
            <a:ext cx="8339040" cy="4572000"/>
          </a:xfrm>
          <a:prstGeom prst="rect">
            <a:avLst/>
          </a:prstGeom>
          <a:ln w="0">
            <a:noFill/>
          </a:ln>
        </p:spPr>
      </p:pic>
      <p:sp>
        <p:nvSpPr>
          <p:cNvPr id="656" name="Заголовок 6"/>
          <p:cNvSpPr/>
          <p:nvPr/>
        </p:nvSpPr>
        <p:spPr>
          <a:xfrm>
            <a:off x="3924360" y="5589720"/>
            <a:ext cx="60483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 Black"/>
              </a:rPr>
              <a:t>Автор: Ильин Матвей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7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8" name="Прямоугольник 5"/>
          <p:cNvSpPr/>
          <p:nvPr/>
        </p:nvSpPr>
        <p:spPr>
          <a:xfrm>
            <a:off x="324000" y="1341360"/>
            <a:ext cx="1008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37260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ва поезда шли в противоположные стороны. Скорость первого 20км/ч. а второго на 5км/ч меньше. Какое расстояние будет между ними через 3часа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ешение: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. 20-5=15км/ч ( скорость второго поезда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. 15:3=5км (расстояние  между поездами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Через два часа расстояние между поездами будет 5 к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в противоположные стороны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Заголовок 6"/>
          <p:cNvSpPr/>
          <p:nvPr/>
        </p:nvSpPr>
        <p:spPr>
          <a:xfrm>
            <a:off x="3924360" y="5589720"/>
            <a:ext cx="60483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 Black"/>
              </a:rPr>
              <a:t>Автор: Калимуллина Диана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2" name="Прямая соединительная линия 6"/>
          <p:cNvSpPr/>
          <p:nvPr/>
        </p:nvSpPr>
        <p:spPr>
          <a:xfrm>
            <a:off x="2340000" y="3789360"/>
            <a:ext cx="4319640" cy="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63" name="Picture 2" descr="http://razukrashki.com/uploads/raskraski/2014/07/28/2053/preview_skorostnoi-poiezd.png"/>
          <p:cNvPicPr/>
          <p:nvPr/>
        </p:nvPicPr>
        <p:blipFill>
          <a:blip r:embed="rId1"/>
          <a:stretch/>
        </p:blipFill>
        <p:spPr>
          <a:xfrm>
            <a:off x="2268360" y="2565360"/>
            <a:ext cx="1170000" cy="1655640"/>
          </a:xfrm>
          <a:prstGeom prst="rect">
            <a:avLst/>
          </a:prstGeom>
          <a:ln w="0">
            <a:noFill/>
          </a:ln>
        </p:spPr>
      </p:pic>
      <p:sp>
        <p:nvSpPr>
          <p:cNvPr id="664" name="Стрелка влево 10"/>
          <p:cNvSpPr/>
          <p:nvPr/>
        </p:nvSpPr>
        <p:spPr>
          <a:xfrm>
            <a:off x="755640" y="2997360"/>
            <a:ext cx="1224000" cy="576000"/>
          </a:xfrm>
          <a:prstGeom prst="leftArrow">
            <a:avLst>
              <a:gd name="adj1" fmla="val 50000"/>
              <a:gd name="adj2" fmla="val 50026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0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65" name="Picture 4" descr="http://previews.123rf.com/images/tatianaonegina/tatianaonegina1301/tatianaonegina130100003/17154819-Contour-drawing-of-the-little-toy-train-Stock-Photo.jpg"/>
          <p:cNvPicPr/>
          <p:nvPr/>
        </p:nvPicPr>
        <p:blipFill>
          <a:blip r:embed="rId2"/>
          <a:stretch/>
        </p:blipFill>
        <p:spPr>
          <a:xfrm>
            <a:off x="6156360" y="2781360"/>
            <a:ext cx="1079640" cy="1406520"/>
          </a:xfrm>
          <a:prstGeom prst="rect">
            <a:avLst/>
          </a:prstGeom>
          <a:ln w="0">
            <a:noFill/>
          </a:ln>
        </p:spPr>
      </p:pic>
      <p:sp>
        <p:nvSpPr>
          <p:cNvPr id="666" name="Стрелка вправо 13"/>
          <p:cNvSpPr/>
          <p:nvPr/>
        </p:nvSpPr>
        <p:spPr>
          <a:xfrm>
            <a:off x="7451640" y="2924280"/>
            <a:ext cx="1008000" cy="64908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7" name="Прямоугольник 14"/>
          <p:cNvSpPr/>
          <p:nvPr/>
        </p:nvSpPr>
        <p:spPr>
          <a:xfrm>
            <a:off x="7667640" y="2997360"/>
            <a:ext cx="3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8" name="Овал 15"/>
          <p:cNvSpPr/>
          <p:nvPr/>
        </p:nvSpPr>
        <p:spPr>
          <a:xfrm>
            <a:off x="4140360" y="2924280"/>
            <a:ext cx="792000" cy="647640"/>
          </a:xfrm>
          <a:prstGeom prst="ellipse">
            <a:avLst/>
          </a:prstGeom>
          <a:solidFill>
            <a:srgbClr val="fffff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9" name="Прямоугольник 16"/>
          <p:cNvSpPr/>
          <p:nvPr/>
        </p:nvSpPr>
        <p:spPr>
          <a:xfrm>
            <a:off x="414036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?-км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0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250560" y="141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ругавшись у реки, лиса и волк одновременно направились в разные стороны. Волк со скоростью 15км/ч, а лиса со скоростью 13км/ч. Через сколько часов расстояние между ними будет 112 к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в противоположные стороны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Прямоугольник 4"/>
          <p:cNvSpPr/>
          <p:nvPr/>
        </p:nvSpPr>
        <p:spPr>
          <a:xfrm>
            <a:off x="539640" y="4437000"/>
            <a:ext cx="705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ешение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13+15=28(км/ч)-скорость удаление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112:28=4(ч)-будут проходить 112 км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са и волк продут 112 км за 4 часа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74" name="Picture 2" descr="http://purmix.ru/images/uroki/karand/givotnie/kak_narisovat_lisicu_karandashom-step-2.jpg"/>
          <p:cNvPicPr/>
          <p:nvPr/>
        </p:nvPicPr>
        <p:blipFill>
          <a:blip r:embed="rId1"/>
          <a:stretch/>
        </p:blipFill>
        <p:spPr>
          <a:xfrm>
            <a:off x="1514520" y="3141720"/>
            <a:ext cx="1833480" cy="1366920"/>
          </a:xfrm>
          <a:prstGeom prst="rect">
            <a:avLst/>
          </a:prstGeom>
          <a:ln w="0">
            <a:noFill/>
          </a:ln>
        </p:spPr>
      </p:pic>
      <p:sp>
        <p:nvSpPr>
          <p:cNvPr id="675" name="Прямая соединительная линия 7"/>
          <p:cNvSpPr/>
          <p:nvPr/>
        </p:nvSpPr>
        <p:spPr>
          <a:xfrm>
            <a:off x="3203640" y="3860640"/>
            <a:ext cx="2448000" cy="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76" name="Picture 4" descr="http://demiart.ru/forum/uploads11/post-286393-1361865035.jpg"/>
          <p:cNvPicPr/>
          <p:nvPr/>
        </p:nvPicPr>
        <p:blipFill>
          <a:blip r:embed="rId2"/>
          <a:stretch/>
        </p:blipFill>
        <p:spPr>
          <a:xfrm>
            <a:off x="5435640" y="3068640"/>
            <a:ext cx="2085840" cy="1655640"/>
          </a:xfrm>
          <a:prstGeom prst="rect">
            <a:avLst/>
          </a:prstGeom>
          <a:ln w="0">
            <a:noFill/>
          </a:ln>
        </p:spPr>
      </p:pic>
      <p:sp>
        <p:nvSpPr>
          <p:cNvPr id="677" name="Стрелка влево 10"/>
          <p:cNvSpPr/>
          <p:nvPr/>
        </p:nvSpPr>
        <p:spPr>
          <a:xfrm>
            <a:off x="395280" y="3213000"/>
            <a:ext cx="1081080" cy="57636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3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8" name="Стрелка вправо 11"/>
          <p:cNvSpPr/>
          <p:nvPr/>
        </p:nvSpPr>
        <p:spPr>
          <a:xfrm>
            <a:off x="7451640" y="3284640"/>
            <a:ext cx="1152720" cy="5047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5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9" name="Заголовок 1"/>
          <p:cNvSpPr/>
          <p:nvPr/>
        </p:nvSpPr>
        <p:spPr>
          <a:xfrm>
            <a:off x="4284720" y="6021360"/>
            <a:ext cx="46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Мубаракшин Алексе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0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2200" y="-27000"/>
            <a:ext cx="8137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вдогонку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Прямоугольник 6"/>
          <p:cNvSpPr/>
          <p:nvPr/>
        </p:nvSpPr>
        <p:spPr>
          <a:xfrm>
            <a:off x="250920" y="1133640"/>
            <a:ext cx="87850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3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84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96080" cy="3673440"/>
          </a:xfrm>
          <a:prstGeom prst="rect">
            <a:avLst/>
          </a:prstGeom>
          <a:ln w="0">
            <a:noFill/>
          </a:ln>
        </p:spPr>
      </p:pic>
      <p:sp>
        <p:nvSpPr>
          <p:cNvPr id="685" name="Заголовок 1"/>
          <p:cNvSpPr/>
          <p:nvPr/>
        </p:nvSpPr>
        <p:spPr>
          <a:xfrm>
            <a:off x="4211640" y="5589720"/>
            <a:ext cx="46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Ильин Матве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6" name="Прямоугольник 7"/>
          <p:cNvSpPr/>
          <p:nvPr/>
        </p:nvSpPr>
        <p:spPr>
          <a:xfrm>
            <a:off x="395280" y="1557360"/>
            <a:ext cx="863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250560" y="1412640"/>
            <a:ext cx="850428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 пунк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бежали букашка и паук. Скорость букашки которая вышла из пунк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 д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, а скорость паука который выбежал из пункта А 4 д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. Через сколько секунд паук съест букашку если между А и В 20 дм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Решение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) 4-2=2(дм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)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ближени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) 20:2=10(сек)-паук съест букашку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10 сек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вдогонку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9" name="Прямая соединительная линия 5"/>
          <p:cNvSpPr/>
          <p:nvPr/>
        </p:nvSpPr>
        <p:spPr>
          <a:xfrm>
            <a:off x="2700360" y="4076640"/>
            <a:ext cx="3168720" cy="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0" name="Прямоугольник 6"/>
          <p:cNvSpPr/>
          <p:nvPr/>
        </p:nvSpPr>
        <p:spPr>
          <a:xfrm>
            <a:off x="2484360" y="38307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1" name="Прямоугольник 7"/>
          <p:cNvSpPr/>
          <p:nvPr/>
        </p:nvSpPr>
        <p:spPr>
          <a:xfrm>
            <a:off x="5583600" y="38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92" name="Picture 2" descr="http://www.lookmi.ru/animals/pauk-4.jpg"/>
          <p:cNvPicPr/>
          <p:nvPr/>
        </p:nvPicPr>
        <p:blipFill>
          <a:blip r:embed="rId1"/>
          <a:stretch/>
        </p:blipFill>
        <p:spPr>
          <a:xfrm>
            <a:off x="1258920" y="3284640"/>
            <a:ext cx="1166760" cy="906480"/>
          </a:xfrm>
          <a:prstGeom prst="rect">
            <a:avLst/>
          </a:prstGeom>
          <a:ln w="0">
            <a:noFill/>
          </a:ln>
        </p:spPr>
      </p:pic>
      <p:sp>
        <p:nvSpPr>
          <p:cNvPr id="693" name="Прямоугольник 9"/>
          <p:cNvSpPr/>
          <p:nvPr/>
        </p:nvSpPr>
        <p:spPr>
          <a:xfrm>
            <a:off x="4215960" y="357336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 дм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94" name="Picture 4" descr="http://multik-pic.ru/images/dlja-samyh-malenkih6.gif"/>
          <p:cNvPicPr/>
          <p:nvPr/>
        </p:nvPicPr>
        <p:blipFill>
          <a:blip r:embed="rId2"/>
          <a:stretch/>
        </p:blipFill>
        <p:spPr>
          <a:xfrm rot="1990800">
            <a:off x="6187680" y="3920760"/>
            <a:ext cx="655560" cy="576360"/>
          </a:xfrm>
          <a:prstGeom prst="rect">
            <a:avLst/>
          </a:prstGeom>
          <a:ln w="0">
            <a:noFill/>
          </a:ln>
        </p:spPr>
      </p:pic>
      <p:sp>
        <p:nvSpPr>
          <p:cNvPr id="695" name="Стрелка вправо 12"/>
          <p:cNvSpPr/>
          <p:nvPr/>
        </p:nvSpPr>
        <p:spPr>
          <a:xfrm>
            <a:off x="2843280" y="3429000"/>
            <a:ext cx="1081080" cy="5032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дм/с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6" name="Стрелка вправо 13"/>
          <p:cNvSpPr/>
          <p:nvPr/>
        </p:nvSpPr>
        <p:spPr>
          <a:xfrm>
            <a:off x="5364000" y="3429000"/>
            <a:ext cx="1079640" cy="503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дм/с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7" name="Заголовок 1"/>
          <p:cNvSpPr/>
          <p:nvPr/>
        </p:nvSpPr>
        <p:spPr>
          <a:xfrm>
            <a:off x="4140360" y="6021360"/>
            <a:ext cx="46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Сайфутдинов Ирек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8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гда Маша увидела Медведя, то расстояние между ними было 20 м. Маша бежала к нему со скоростью 7м/сек, а Медведь удирал от неё со скоростью 5м/сек. Через сколько секунд Маша будет мучить Медвед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)7-5=2(м/сек)-разница в скорости  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)20:2=10(сек)-Маша догонит медведя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1" lang="ru-RU" sz="2200" spc="-1" strike="noStrike">
                <a:solidFill>
                  <a:srgbClr val="0d0d0d"/>
                </a:solidFill>
                <a:latin typeface="Arial"/>
                <a:ea typeface="Arial"/>
              </a:rPr>
              <a:t> 10 сек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вдогонку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01" name="Picture 2" descr="http://static3.read.ru/images/illustrations/1289816697221729926.jpg"/>
          <p:cNvPicPr/>
          <p:nvPr/>
        </p:nvPicPr>
        <p:blipFill>
          <a:blip r:embed="rId1"/>
          <a:stretch/>
        </p:blipFill>
        <p:spPr>
          <a:xfrm>
            <a:off x="1476360" y="3068640"/>
            <a:ext cx="892080" cy="1224000"/>
          </a:xfrm>
          <a:prstGeom prst="rect">
            <a:avLst/>
          </a:prstGeom>
          <a:ln w="0">
            <a:noFill/>
          </a:ln>
        </p:spPr>
      </p:pic>
      <p:sp>
        <p:nvSpPr>
          <p:cNvPr id="702" name="Прямая соединительная линия 6"/>
          <p:cNvSpPr/>
          <p:nvPr/>
        </p:nvSpPr>
        <p:spPr>
          <a:xfrm>
            <a:off x="2484360" y="4003560"/>
            <a:ext cx="2735280" cy="18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3" name="Прямоугольник 7"/>
          <p:cNvSpPr/>
          <p:nvPr/>
        </p:nvSpPr>
        <p:spPr>
          <a:xfrm>
            <a:off x="3207960" y="3500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 м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04" name="Picture 4" descr="http://st.depositphotos.com/1582151/2190/i/450/depositphotos_21903843-White-bear.jpg"/>
          <p:cNvPicPr/>
          <p:nvPr/>
        </p:nvPicPr>
        <p:blipFill>
          <a:blip r:embed="rId2"/>
          <a:stretch/>
        </p:blipFill>
        <p:spPr>
          <a:xfrm>
            <a:off x="5040360" y="277956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705" name="Стрелка вправо 9"/>
          <p:cNvSpPr/>
          <p:nvPr/>
        </p:nvSpPr>
        <p:spPr>
          <a:xfrm>
            <a:off x="2268360" y="2924280"/>
            <a:ext cx="1151280" cy="50472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7м/сек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6" name="Стрелка вправо 10"/>
          <p:cNvSpPr/>
          <p:nvPr/>
        </p:nvSpPr>
        <p:spPr>
          <a:xfrm>
            <a:off x="7020000" y="2924280"/>
            <a:ext cx="1152360" cy="5047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5м/сек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7" name="Заголовок 1"/>
          <p:cNvSpPr/>
          <p:nvPr/>
        </p:nvSpPr>
        <p:spPr>
          <a:xfrm>
            <a:off x="4140360" y="6021360"/>
            <a:ext cx="46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Мубаракшин Алексе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8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иф-Ниф отправился догонять Наф-Нафа, когда расстояние между ними составило 36 км. Через сколько часов Ниф-Ниф догонит Наф-Нафа, если скорость Ниф-Нифа 16км/ч, а скорость Наф-Нафа 4 км/ч.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.16-4=12(км)разница скоростей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. 36:12=3(ч)-Ниф-Ниф догонит Наф-Наф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3час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вдогонку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1" name="Picture 2" descr="http://purmix.ru/images/uroki/karand/givotnie/kak_narisovat_malenkogo_porosenka_karandashom_pojetapno-4.jpg"/>
          <p:cNvPicPr/>
          <p:nvPr/>
        </p:nvPicPr>
        <p:blipFill>
          <a:blip r:embed="rId1"/>
          <a:stretch/>
        </p:blipFill>
        <p:spPr>
          <a:xfrm>
            <a:off x="1476360" y="3141720"/>
            <a:ext cx="1306440" cy="1295280"/>
          </a:xfrm>
          <a:prstGeom prst="rect">
            <a:avLst/>
          </a:prstGeom>
          <a:ln w="0">
            <a:noFill/>
          </a:ln>
        </p:spPr>
      </p:pic>
      <p:sp>
        <p:nvSpPr>
          <p:cNvPr id="712" name="Прямая соединительная линия 6"/>
          <p:cNvSpPr/>
          <p:nvPr/>
        </p:nvSpPr>
        <p:spPr>
          <a:xfrm>
            <a:off x="2916360" y="4005360"/>
            <a:ext cx="2376360" cy="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3" name="Прямоугольник 7"/>
          <p:cNvSpPr/>
          <p:nvPr/>
        </p:nvSpPr>
        <p:spPr>
          <a:xfrm>
            <a:off x="3714120" y="364500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6 км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4" name="Стрелка вправо 8"/>
          <p:cNvSpPr/>
          <p:nvPr/>
        </p:nvSpPr>
        <p:spPr>
          <a:xfrm>
            <a:off x="3059280" y="3213000"/>
            <a:ext cx="1152360" cy="43200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16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15" name="Picture 4" descr="http://thumbs.dreamstime.com/t/%D0%B8-%D1%8E%D1%81%D1%82%D1%80%D0%B0%D1%86%D0%B8%D1%8F-%D1%81%D0%B2%D0%B8%D0%BD%D1%8C%D0%B8-40014657.jpg"/>
          <p:cNvPicPr/>
          <p:nvPr/>
        </p:nvPicPr>
        <p:blipFill>
          <a:blip r:embed="rId2"/>
          <a:stretch/>
        </p:blipFill>
        <p:spPr>
          <a:xfrm>
            <a:off x="5435640" y="3357720"/>
            <a:ext cx="1657440" cy="1008000"/>
          </a:xfrm>
          <a:prstGeom prst="rect">
            <a:avLst/>
          </a:prstGeom>
          <a:ln w="0">
            <a:noFill/>
          </a:ln>
        </p:spPr>
      </p:pic>
      <p:sp>
        <p:nvSpPr>
          <p:cNvPr id="716" name="Стрелка вправо 10"/>
          <p:cNvSpPr/>
          <p:nvPr/>
        </p:nvSpPr>
        <p:spPr>
          <a:xfrm>
            <a:off x="7164360" y="3141720"/>
            <a:ext cx="1152720" cy="43164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7" name="Заголовок 1"/>
          <p:cNvSpPr/>
          <p:nvPr/>
        </p:nvSpPr>
        <p:spPr>
          <a:xfrm>
            <a:off x="4211640" y="5950080"/>
            <a:ext cx="46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Казакулова Дарин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8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68360" y="188640"/>
            <a:ext cx="79912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Roboto Th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  <a:ea typeface="Roboto Th"/>
              </a:rPr>
              <a:t>Тема моего годового проекта: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 Black"/>
                <a:ea typeface="Roboto Th"/>
              </a:rPr>
              <a:t>   </a:t>
            </a:r>
            <a:r>
              <a:rPr b="0" i="1" lang="ru-RU" sz="2600" spc="-1" strike="noStrike">
                <a:solidFill>
                  <a:srgbClr val="002060"/>
                </a:solidFill>
                <a:latin typeface="Arial Black"/>
                <a:ea typeface="Roboto Th"/>
              </a:rPr>
              <a:t>Сборник авторских задач на движени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Roboto Th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"/>
          <p:cNvSpPr/>
          <p:nvPr/>
        </p:nvSpPr>
        <p:spPr>
          <a:xfrm>
            <a:off x="258840" y="2492280"/>
            <a:ext cx="870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Актуальность темы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ключается в том, что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егодня умение решать задачи на движение  для 5-классников является ошибкоопасной и не хватает заданий для  тренингов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новным направлением моей работы является  ориентированность  на самостоятельную работу решения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дач на движение в разных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правлениях для моих сверстников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1" name="TextBox 5"/>
          <p:cNvSpPr/>
          <p:nvPr/>
        </p:nvSpPr>
        <p:spPr>
          <a:xfrm>
            <a:off x="250920" y="1484280"/>
            <a:ext cx="8102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Black"/>
                <a:ea typeface="Roboto Th"/>
              </a:rPr>
              <a:t>Цель моего проекта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Roboto Th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Roboto Th"/>
              </a:rPr>
              <a:t>обработать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Roboto Th"/>
              </a:rPr>
              <a:t> и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Roboto Th"/>
              </a:rPr>
              <a:t>создать сборник авторских задач моих одноклассников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Roboto Th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2" name="Прямоугольник 12"/>
          <p:cNvSpPr/>
          <p:nvPr/>
        </p:nvSpPr>
        <p:spPr>
          <a:xfrm>
            <a:off x="8619840" y="638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13744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в одном направлении с удаление одного от другого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Прямоугольник 6"/>
          <p:cNvSpPr/>
          <p:nvPr/>
        </p:nvSpPr>
        <p:spPr>
          <a:xfrm>
            <a:off x="250920" y="1133640"/>
            <a:ext cx="87850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1" name="Прямоугольник 7"/>
          <p:cNvSpPr/>
          <p:nvPr/>
        </p:nvSpPr>
        <p:spPr>
          <a:xfrm>
            <a:off x="856188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Прямоугольник 4"/>
          <p:cNvSpPr/>
          <p:nvPr/>
        </p:nvSpPr>
        <p:spPr>
          <a:xfrm>
            <a:off x="395280" y="15573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ся и Миша поспорили кто быстрее бегает. Скорость Васи 40 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, а Миши 70 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. Какое расстояние будет между ними через 3 минуты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3" name="Прямоугольник 5"/>
          <p:cNvSpPr/>
          <p:nvPr/>
        </p:nvSpPr>
        <p:spPr>
          <a:xfrm>
            <a:off x="755640" y="4768920"/>
            <a:ext cx="81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 70-40=30 (м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н)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даления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30*3=90 (м) - будет между ними через 3 минуты</a:t>
            </a: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4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5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26" name="Picture 12" descr="http://bom-bom.ru/wp-content/uploads/2013/10/698.gif"/>
          <p:cNvPicPr/>
          <p:nvPr/>
        </p:nvPicPr>
        <p:blipFill>
          <a:blip r:embed="rId1"/>
          <a:stretch/>
        </p:blipFill>
        <p:spPr>
          <a:xfrm>
            <a:off x="1187280" y="3284640"/>
            <a:ext cx="1175040" cy="15523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4" descr="http://previews.123rf.com/images/chudtsankov/chudtsankov1211/chudtsankov121100072/16386826-Black-And-White-Outline-Of-A-Boy-Running-And-Playing-With-A-Toy--Stock-Photo.jpg"/>
          <p:cNvPicPr/>
          <p:nvPr/>
        </p:nvPicPr>
        <p:blipFill>
          <a:blip r:embed="rId2"/>
          <a:stretch/>
        </p:blipFill>
        <p:spPr>
          <a:xfrm>
            <a:off x="3851280" y="3139920"/>
            <a:ext cx="1652760" cy="1633680"/>
          </a:xfrm>
          <a:prstGeom prst="rect">
            <a:avLst/>
          </a:prstGeom>
          <a:ln w="0">
            <a:noFill/>
          </a:ln>
        </p:spPr>
      </p:pic>
      <p:sp>
        <p:nvSpPr>
          <p:cNvPr id="728" name="Стрелка вправо 12"/>
          <p:cNvSpPr/>
          <p:nvPr/>
        </p:nvSpPr>
        <p:spPr>
          <a:xfrm>
            <a:off x="1332000" y="2781360"/>
            <a:ext cx="1368360" cy="647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40м/мин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9" name="Стрелка вправо 13"/>
          <p:cNvSpPr/>
          <p:nvPr/>
        </p:nvSpPr>
        <p:spPr>
          <a:xfrm>
            <a:off x="5651640" y="2924280"/>
            <a:ext cx="1512720" cy="6285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70м/мин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0" name="Прямая соединительная линия 15"/>
          <p:cNvSpPr/>
          <p:nvPr/>
        </p:nvSpPr>
        <p:spPr>
          <a:xfrm flipV="1">
            <a:off x="2195640" y="3957120"/>
            <a:ext cx="1655640" cy="11916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1" name="Прямоугольник 17"/>
          <p:cNvSpPr/>
          <p:nvPr/>
        </p:nvSpPr>
        <p:spPr>
          <a:xfrm>
            <a:off x="755640" y="5807160"/>
            <a:ext cx="29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вет: 90 м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2" name="Заголовок 1"/>
          <p:cNvSpPr/>
          <p:nvPr/>
        </p:nvSpPr>
        <p:spPr>
          <a:xfrm>
            <a:off x="4211640" y="6021360"/>
            <a:ext cx="46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Сайфутдинов Ирек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320" y="2937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в одном направлении с удаление одного от другого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539640" y="419400"/>
            <a:ext cx="806472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ин велосипедист, обидевшись на другого, поехал со скоростью 8 м/с. Другой. пытаясь его догнать, выехал одновременно с ним и из того же места со скоростью 6 м/с. какое расстояное будет между ними через 20 секунд, когда догоняющий наконец поймёт, что ему другого уже не догнать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) 8-6=2 (м/с) скорость удаления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2) 2*20=40 (м) - будет между ними через 20 секунд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Ответ: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между ними будет 40 метров через 20 секунд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Заголовок 1"/>
          <p:cNvSpPr/>
          <p:nvPr/>
        </p:nvSpPr>
        <p:spPr>
          <a:xfrm>
            <a:off x="4211640" y="6021360"/>
            <a:ext cx="46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Аптекарь Лилия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6" name="Прямая соединительная линия 10"/>
          <p:cNvSpPr/>
          <p:nvPr/>
        </p:nvSpPr>
        <p:spPr>
          <a:xfrm>
            <a:off x="1835280" y="3860640"/>
            <a:ext cx="3889080" cy="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37" name="Picture 6" descr="Мужчины велосипедист или доставщик на велосипеде - стоковый векторный клипарт"/>
          <p:cNvPicPr/>
          <p:nvPr/>
        </p:nvPicPr>
        <p:blipFill>
          <a:blip r:embed="rId1"/>
          <a:stretch/>
        </p:blipFill>
        <p:spPr>
          <a:xfrm>
            <a:off x="5867280" y="3357720"/>
            <a:ext cx="984240" cy="1079280"/>
          </a:xfrm>
          <a:prstGeom prst="rect">
            <a:avLst/>
          </a:prstGeom>
          <a:ln w="0">
            <a:noFill/>
          </a:ln>
        </p:spPr>
      </p:pic>
      <p:sp>
        <p:nvSpPr>
          <p:cNvPr id="738" name="Стрелка вправо 15"/>
          <p:cNvSpPr/>
          <p:nvPr/>
        </p:nvSpPr>
        <p:spPr>
          <a:xfrm>
            <a:off x="7093080" y="3573360"/>
            <a:ext cx="1008000" cy="432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9" name="Прямоугольник 16"/>
          <p:cNvSpPr/>
          <p:nvPr/>
        </p:nvSpPr>
        <p:spPr>
          <a:xfrm>
            <a:off x="7096320" y="357336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8 м/с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40" name="Picture 8" descr="http://images.vector-images.com/clp2/228422/clp976945.jpg"/>
          <p:cNvPicPr/>
          <p:nvPr/>
        </p:nvPicPr>
        <p:blipFill>
          <a:blip r:embed="rId2"/>
          <a:stretch/>
        </p:blipFill>
        <p:spPr>
          <a:xfrm>
            <a:off x="900000" y="3429000"/>
            <a:ext cx="870120" cy="1008000"/>
          </a:xfrm>
          <a:prstGeom prst="rect">
            <a:avLst/>
          </a:prstGeom>
          <a:ln w="0">
            <a:noFill/>
          </a:ln>
        </p:spPr>
      </p:pic>
      <p:sp>
        <p:nvSpPr>
          <p:cNvPr id="741" name="Стрелка вправо 18"/>
          <p:cNvSpPr/>
          <p:nvPr/>
        </p:nvSpPr>
        <p:spPr>
          <a:xfrm>
            <a:off x="2124000" y="3357720"/>
            <a:ext cx="1000080" cy="4237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6м/с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2" name="Прямоугольник 19"/>
          <p:cNvSpPr/>
          <p:nvPr/>
        </p:nvSpPr>
        <p:spPr>
          <a:xfrm>
            <a:off x="3216960" y="33577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м - через 20 се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3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250560" y="475920"/>
            <a:ext cx="8713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данный момент расстояние между двумя таксистами 345 км. На каком расстоянии будут находиться таксисты через два часа, если скорость одного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72 км /ч., а другого  -68 км /ч., и они выезжают навстречу друг другу одновременно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1) 72 + 68 =140 (км /ч.) – скорость сближения таксисто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2) 140 * 2 = 280 (км) – на такое расстояние таксисты    приблизятся друг к другу за   2 час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3) 345 – 280 = 145 (км) – на таком расстоянии будут таксисты через 2 часа.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145 к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Машина и автобус выехали из двух городов, находящихся на расстоянии 740 км    навстречу друг другу со скоростями 70 км/ч и 50 км/ч.  Какое расстояние будет   между машинами через 5 часов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1) 50 + 70 = 120 (км /ч.) – скорость сближения автобуса и машины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2) 120 * 5 = 600 (км) – на такое расстояние они приблизятся друг к друг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3) 740 – 600 = 140 (км) – такое расстояние будет между ними через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5 часов.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140 к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Заголовок 1"/>
          <p:cNvSpPr/>
          <p:nvPr/>
        </p:nvSpPr>
        <p:spPr>
          <a:xfrm>
            <a:off x="4211640" y="6021360"/>
            <a:ext cx="46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Фаттахова Камилл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6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Прямоугольник 3"/>
          <p:cNvSpPr/>
          <p:nvPr/>
        </p:nvSpPr>
        <p:spPr>
          <a:xfrm>
            <a:off x="250920" y="196920"/>
            <a:ext cx="864216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Максим и Саша вышли из школы со скоростью 50 м/мин. Рома вышел вслед за ними через 6 минут со скоростью 80 м/мин. Через сколько минут  Рома догонит Максима и Сашу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1) 80 - 50 = 30 (км /ч.) –скорость сближения мальчиков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) 50 * 6 = 300 (км) – такое расстояние было между мальчиками перед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ыходом из школы Ромы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) 300 : 30 = 10 (мин.) – через такое время Рома догонит друзей.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через 10 мин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Две гоночные машины выехали навстречу друг другу.   Расстояние между ними было 660 км. Одна ехала со скоростью 100 км/ч, а другая 120 км/ч.  Через какое время они встретятся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1) 100+120=220(км/ч)- скорость сближения машин 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) 660:220=3(ч) -через такое время встретятся гоночные машины.   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через 3 часа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8" name="Прямоугольник 5"/>
          <p:cNvSpPr/>
          <p:nvPr/>
        </p:nvSpPr>
        <p:spPr>
          <a:xfrm>
            <a:off x="5268960" y="58770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Фаттахова Камилл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9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24000" y="1486080"/>
            <a:ext cx="850392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ежду домами Коли и Оли 1 км. Через сколько минут они встретятся и поздравят друг друга с Новым годом, если они идут с одинаковой скоростью      5м/мин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)5х2=10(м/мин)-Vсблж.             2)1000:10=100(мин)=1ч 40ми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1ч 40ми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 кондитерской фабрики до детского сада 150 км. С фабрики выехал грузовик с подарками в детский сад со скоростью 30 км/ч.Сколько понадобится времени грузовику на доставку груза ,если он потратил 1 час на ремонт лопнутого колеса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)150:30=5(ч)-время поездки без ремонта колеса   2)5+1=6(ч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 час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Прямоугольник 3"/>
          <p:cNvSpPr/>
          <p:nvPr/>
        </p:nvSpPr>
        <p:spPr>
          <a:xfrm>
            <a:off x="5463360" y="587700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Абрамычев Миш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2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Прямоугольник 5"/>
          <p:cNvSpPr/>
          <p:nvPr/>
        </p:nvSpPr>
        <p:spPr>
          <a:xfrm>
            <a:off x="324000" y="1432080"/>
            <a:ext cx="8569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двух деревень в противоположных направлениях выехали два велосипедиста,  1-ый со скоростью 5 км/ч, 2-ой со скоростью 7 км/ч. Расстояние между деревнями 10 км. Какое расстояние будет между ними через 4 часа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5+7=12(км/ч)              2)12х4=48(км)        3)48+10=58(км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8 км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ажды из упряжки Деда Мороза сбежал олень Вася, который бежал со скоростью 40 км/ч. ДМ на упряжке оленей пустился за ним в погоню со скоростью 60 км/ч. Через сколько часов ДМ догонит Васю, если расстояние от начала погони до её конца 100 км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60-40=20(км/ч)                         2)100:20=5(ч)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часов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4" name="Прямоугольник 6"/>
          <p:cNvSpPr/>
          <p:nvPr/>
        </p:nvSpPr>
        <p:spPr>
          <a:xfrm>
            <a:off x="5463360" y="587700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Абрамычев Миш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5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Прямоугольник 3"/>
          <p:cNvSpPr/>
          <p:nvPr/>
        </p:nvSpPr>
        <p:spPr>
          <a:xfrm>
            <a:off x="395280" y="44280"/>
            <a:ext cx="8280360" cy="62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бин Гуд отправился догонять Шерифа Нотингема на лошади, когда расстояние между ними было 27 км. Через сколько часов Робин Гуд догонит Шерифа, если скорость Робин Гуда 14км/ч, а Нотингема  5км/ч 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-5=9 (км/ч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рость сближения Робин Гуда и Шериф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:9 =3 (ч) – Робин Гуд догонит Шерифа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3 час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бин Гуд и Леди Мэриан одновременно направились на встречу друг другу в Шервудский лес, расстояние между ними было 80 км.  Скорость Робин Гуда 40 км/ч, а Леди Мэриан  10 км/ч.  Ровно в середине пути у Робин Гуда лошадь подвернула ногу и дальше Робин Гуд шел пешком со скоростью 5 км/ч.  Через  сколько часов после начала движения Робин Гуд встретится с Леди Мэриан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0:2=40 (км) – середина дороги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0:40 =1(ч) – Робин Гуд скакал на лошади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*1=10 (км) – проехала Мэриан за 1 час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0+10 =50 (км) – проехали вместе Робин Гуд и леди Мэриан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0 – 50 =30 (км) – расстояние,  оставшееся до встречи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+5=15 (км/ч) – скорость их сближения, когда Робин Гуд шел пешком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0:15=2(ч) – время, которое пройдет до встречи Робин Гуда с леди Мэриан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+1 =3(ч)- время,через которое Робин Гуд встретится с леди Мэриан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3 час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7" name="Прямоугольник 4"/>
          <p:cNvSpPr/>
          <p:nvPr/>
        </p:nvSpPr>
        <p:spPr>
          <a:xfrm>
            <a:off x="5740560" y="6021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Матрин Алексе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8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Прямоугольник 3"/>
          <p:cNvSpPr/>
          <p:nvPr/>
        </p:nvSpPr>
        <p:spPr>
          <a:xfrm>
            <a:off x="5740560" y="6021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Матрин Алексе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0" name="Прямоугольник 6"/>
          <p:cNvSpPr/>
          <p:nvPr/>
        </p:nvSpPr>
        <p:spPr>
          <a:xfrm>
            <a:off x="468360" y="1549440"/>
            <a:ext cx="835164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леас Фог с Паспарту от Аллахабарда до Калькуты на слоне решили путешествовать 3 дня и пройти 82 км. В первый день они прошли 25 км , а во второй на 4 км больше . Сколько им осталось пройти в третий день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 25+4=29(км) – прошли во второй  день Филеас  Фог с Паспарту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 25+29=54(км) прошли за два дня Филеас Фог и Паспарту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 82-54=28 (км) – осталось пройти за третий ден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28 км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бинзон Крузо с Пятницей пошли навстречу друг другу с разных концов острова, расстояние между ними было 28 км. Через сколько часов они встретятся, если скорость Робинзона Крузо 3 км/ч, а Пятницы 4 км/ч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3+4 =7(км/ч) – скорость сближения Робинзона Крузо с Пятнице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28:7 =4(ч) – время , через которое встретится Робинзон Крузо и Пятниц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рез 4 часа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1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рямоугольник 5"/>
          <p:cNvSpPr/>
          <p:nvPr/>
        </p:nvSpPr>
        <p:spPr>
          <a:xfrm>
            <a:off x="324000" y="1413000"/>
            <a:ext cx="82087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автостанции одновременно отошли в противоположных направлениях  автобус и такси. Скорость такси 60км/ч, а скорость автобуса – в 2 раза меньше. Через сколько часов расстояние между ними составит 360км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60:2=30(км) – скорость автобуса. 2.) 30+60=90(км) – скорость удаления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360:90=4(ч)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4часа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лосипедист проехал 24км со скоростью 8 км/ч. Пешеход потратил на этот путь на 1час больше. С какой скоростью шёл пешеход?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:8=3(ч) – ехал велосипедист.        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+1=4(ч) – шёл пешеход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:4=6(км/ч) – скорость пешехода.  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шеход шёл со скоростью 6км/ч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3" name="Прямоугольник 6"/>
          <p:cNvSpPr/>
          <p:nvPr/>
        </p:nvSpPr>
        <p:spPr>
          <a:xfrm>
            <a:off x="5982840" y="60213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Павлов Егор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4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79280" y="146664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Два автомобиля выехали одновременно навстречу друг другу из двух городов, расстояние между которыми 450км. Скорость первого автомобиля 70 км/ч. Какова скорость второго автомобиля, если они встретились через 3ч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Реше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) 70*3=210(км) – проехал первый автомобиль за 3час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2) 450-210=240(км) – проехал второй автомобиль за 3 час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3) 240:3=80(км/ч) – скорость второго автомобиля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80км/ч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т автостанции одновременно отошли в противоположных направлениях грузовая и легковая автомашины. Когда грузовик прошёл 70км, легковая машина прошла 140км. Скорость грузовой машины – 35км/ч. Найдите скорость легковой машин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1) 70:35=2(ч) – ехала грузовая машин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2) 140:2=70(км/ч) –скорость легковой машины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Calibri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70км/ч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6" name="Прямоугольник 4"/>
          <p:cNvSpPr/>
          <p:nvPr/>
        </p:nvSpPr>
        <p:spPr>
          <a:xfrm>
            <a:off x="5982840" y="60213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Павлов Егор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7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250560" y="1723680"/>
            <a:ext cx="864396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Roboto Th"/>
              </a:rPr>
              <a:t>Познакомиться с авторскими материалами моих одноклассников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Roboto Th"/>
              </a:rPr>
              <a:t>Определить формат будущего сборник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Roboto Th"/>
              </a:rPr>
              <a:t>Составить теоретический материал «задач на движение»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  <a:ea typeface="Roboto Th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Roboto Th"/>
              </a:rPr>
              <a:t>Составить презентацию теории авторских работ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  <a:ea typeface="Roboto Th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Roboto Th"/>
              </a:rPr>
              <a:t>Составить домашнее задание для одноклассников, в рамках повторения и оценить их решения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  <a:ea typeface="Roboto Th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Прямоугольник 1"/>
          <p:cNvSpPr/>
          <p:nvPr/>
        </p:nvSpPr>
        <p:spPr>
          <a:xfrm>
            <a:off x="3037320" y="38592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Задачи проекта: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5" name="Прямоугольник 12"/>
          <p:cNvSpPr/>
          <p:nvPr/>
        </p:nvSpPr>
        <p:spPr>
          <a:xfrm>
            <a:off x="8619840" y="638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324000" y="260280"/>
            <a:ext cx="85039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  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вальера выпустили лань она движется со скоростью 30м/мин.А через 10 минут выпустили тигра из соседнего вальера, тигр движется со скоростью 60м/мин. Догонит ли тигр лань, если расстояние до другого в альера 600м?</a:t>
            </a:r>
            <a:br>
              <a:rPr sz="16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0×10=300(м)за 10мин побежит лан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00:30=20 (мин)добавит до в альера лан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00:60=10 (мин)добавит до в альера тигр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-10=10 (мин)остается в запасе у тигр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игр догонит лань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    Предположим самое быстрое в мире животное и самый быстрый в мире человек.Гепард бежит со скоростью 80км/ч,а олип чемпион Усейн Болт со скоростью 40км/ч.Усей Болт выбежал на свою дистанцию на 30 минут раньше гепарда.Догонит ли гепард Усейна,если длинна дистанции 40км?</a:t>
            </a:r>
            <a:br>
              <a:rPr sz="16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0:2=20 (км)побежит за 30 мин Усейн бол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0-20=20 (км)осталось доделать до конца дистанции Усейн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0:2=40 (км)побежит тигр за 30 мину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0-20=20 (мин)будет у гепардов в запас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епард догонит Усейн Болт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9" name="Прямоугольник 4"/>
          <p:cNvSpPr/>
          <p:nvPr/>
        </p:nvSpPr>
        <p:spPr>
          <a:xfrm>
            <a:off x="5782320" y="602136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Галиева Камил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0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324000" y="33336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данный момент расстояние между мамой кошкой и сыном котёнком 345 км. На каком расстоянии будут находиться животные через два часа, если скорость мамы кошки 45 км /ч., а котёнка  -30 км /ч., и они бегут  навстречу друг другу одновременно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) 45 + 30 =75 (км /ч.) – скорость сближения семейства кошачьи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) 75 * 2 = 150 (км) – на такое расстояние кошка и котёнок приблизятся друг к другу за 2 час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 345 – 150 = 195 (км) – на таком расстоянии будут они через 2 часа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95 к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нова Лоло и Пепе ушли из садика для пингвинят. Вожак пингвинов, отец  Лоло  вышел вслед за ними через 6 минут со скоростью 6 км / ч.Через сколько минут  папа догонит двух пингвинят и накажит их, которые в свою очередь шли навстречу браконьерам со скоростью 4 км / ч.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) 6 - 4 = 2 (км / ч.) –скорость сближения пингвино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) 4 * 6 = 24 (км) – такое расстояние было между ни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 24 : 2 = 12 (ч.) – через это время папа Лоло догонит пингвинят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ерез 12 ч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Прямоугольник 4"/>
          <p:cNvSpPr/>
          <p:nvPr/>
        </p:nvSpPr>
        <p:spPr>
          <a:xfrm>
            <a:off x="5279760" y="602136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Нигметзянова  Алсу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3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216000" y="1484280"/>
            <a:ext cx="892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аша пошёл на встречу другу со скоростью 6 км/ч. К другу он пришёл через 30 мин.На каком расстоянии от Саши находился друг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*0,5=3 км.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асстояние от Саши до друга было 3 к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вижение на встречу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сстояние между Надеждой  Владимировной и ученицей было 165м. Ученица шла со скоростью 4 м/мин., а Надежда Владимировна 7 м/мин. Через какое время они встретятся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=11(м.)- общая скорость      165:11=15(мин.)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ерез 15 мин. они встретятс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5" name="Прямоугольник 4"/>
          <p:cNvSpPr/>
          <p:nvPr/>
        </p:nvSpPr>
        <p:spPr>
          <a:xfrm>
            <a:off x="5423400" y="587700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Шустрова Свет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6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Прямоугольник 3"/>
          <p:cNvSpPr/>
          <p:nvPr/>
        </p:nvSpPr>
        <p:spPr>
          <a:xfrm>
            <a:off x="324000" y="828720"/>
            <a:ext cx="849600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ижение в противоположные стороны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да кошка и собака цапнули друг друга они побежали в разные стороны. Кошка бежала со скоростью 8 м/мин., а собака 4 м/мин.  Через сколько времени между ними будет 32км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-4=4 (м.)- было между ними первоначально    32:4=8(мин.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рез 8 минут между ними будет 32 километра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ижение вдогонку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ьчик вышел из деревни в лес. Между деревней и лесом было 16км. Мальчик шёл со скоростью 4 км/ч. Через несколько часов к нему вышла девочка, её скорость была2 км/ч. Через какое время девочка доберётся до леса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:4=4км/ч шёл мальчик    16:2=8ч двигалась девочка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8ч двигалась девочка до леса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8" name="Прямоугольник 4"/>
          <p:cNvSpPr/>
          <p:nvPr/>
        </p:nvSpPr>
        <p:spPr>
          <a:xfrm>
            <a:off x="5423400" y="587700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Шустрова Свет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9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213840" y="1521000"/>
            <a:ext cx="892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гда волк увидел гончих собак, он  начал бежать от них со скоростью 30м/мин, а собаки побежали  за ним, со скоростью 40м/мин. Через, сколько минут  собаки догонят волка, если до погони расстояние  между ними было 50 метров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40*5)-50=150м     2) 30*5=150 м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баки догонят волка через 5 минут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шелец  и человек,  увидев  друг  друга, испугались,  побежали в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ные стороны  человек, бежал со скоростью  12км/ч, а пришелец  со скоростью 30км/ч. Какое расстояние  будет между ними через  2 час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*2= 24 км пробежал человек за 2 час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0*2=60 км пробежал пришелец за 2 часа  60+24=84 км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84 км расстояние между человеком и пришельцем через 2 час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1" name="Прямоугольник 4"/>
          <p:cNvSpPr/>
          <p:nvPr/>
        </p:nvSpPr>
        <p:spPr>
          <a:xfrm>
            <a:off x="5631480" y="601200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Карамов  Дим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2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Прямоугольник 4"/>
          <p:cNvSpPr/>
          <p:nvPr/>
        </p:nvSpPr>
        <p:spPr>
          <a:xfrm>
            <a:off x="395280" y="620640"/>
            <a:ext cx="82803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разных городов Дед Мороз и Снегурочка выехали навстречу друг другу к мальчику Мише. Скорость Деда Мороза 12км/ч, а скорость Снегурочки в 2 раза меньше, чем скорость Деда Мороза. Через 3 часа они приехали к Мише. Какое расстояние было между ними в начале их пути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12:2=6(км/ч)- скорость Снегурочки. 2)12+6=18(км/ч)- скорость  сближения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18*3=54(км)- было между ними в начале пут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4км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у Морозу и Снегурочке надо было посетить ещё 2 семьи. Один дом был слева, а другой справа от дома Деда Мороза. Тогда Дед Мороз и его внучка пошли в разные стороны: Дед Мороз к одному дому, а Снегурочка к другому. Скорость Деда Мороза 6км/ч, а скорость Снегурочки 5км/ч. Через 2 часа они дойдут  до домов. Каково расстояние между домами этих семей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6+5=11(км/ч)- скорость удаления.  2)11*2=22(км)- расстояние между домами этих семей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4" name="Прямоугольник 5"/>
          <p:cNvSpPr/>
          <p:nvPr/>
        </p:nvSpPr>
        <p:spPr>
          <a:xfrm>
            <a:off x="5180760" y="601200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Стрельникова  Кир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5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216000" y="333360"/>
            <a:ext cx="892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ак-то раз под Новый год Дед Мороз пошёл в лес за самой красивой ёлочкой. Вдруг он увидел за деревом медведя и побежал от него со скоростью 7км/ч, а медведь недоумевая остался на месте. Какое будет расстояние между ними через 3 часа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)7*3=21(км)- расстояние между ним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1к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сстояние между домами Деда Мороза и Снегурочки 20км. Из своих домов одновременно в одном направлении выехали Дед Мороз на автомобиле и Снегурочка на мотоцикле, причём Дед Мороз был впереди. Они ехали на кремлёвскую ёлку. Через 5 часов Дед Мороз приехал на праздник, расстояние между ними стало 120 км. С какой скоростью ехала Снегурочка, если скорость Деда Мороза 60км/ч? Сколько времени Дед Мороз будет ждать внучку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)120-20=100(км)- на столько увеличилось расстояние между Д.М. и С.за 5 часо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)100:5=20(км/ч)- скорость удаления Снегурочк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60-40=20(км/ч)- скорость Снегурочки. 4)120:40=3(ч)- Дед Мороз будет ждать внучк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3час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7" name="Прямоугольник 4"/>
          <p:cNvSpPr/>
          <p:nvPr/>
        </p:nvSpPr>
        <p:spPr>
          <a:xfrm>
            <a:off x="5180760" y="601200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Стрельникова  Кир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8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324000" y="1484280"/>
            <a:ext cx="8496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ва пешехода стоят на светофоре горящего красным светом. Всего расстояние между ними 50 км. Один пешеход шел 5 км/ч, а другой его догонял его со скоростью 10км/ч. Через какое время они встретятся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)50-5=45(км) –расстояние между 1 пешеходом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)10+5=15(км/ч) -скорость 1 и 2 пешехода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 45:15=3(ч)-через это время они встретятся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Они встретятся через 3 час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ва крокодила выплыли одновременно навстречу друг другу из двух озер. Расстояние между ними составило 50 км. Скорость одного крокодила 10 км/ч, а скорость второго -15 км/ч. Через сколько часов они встретятся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ближение =25 км/ч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щ=50 км/ч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щ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щ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ближения=50:25=2 ч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2 час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0" name="Прямоугольник 5"/>
          <p:cNvSpPr/>
          <p:nvPr/>
        </p:nvSpPr>
        <p:spPr>
          <a:xfrm>
            <a:off x="5221800" y="601200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Гаврилова Мелания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1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28760" y="115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Подведём итоги проекта: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07640" y="1154160"/>
            <a:ext cx="8929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 Black"/>
                <a:ea typeface="Arial"/>
              </a:rPr>
              <a:t>Выгодно использовать готовые тексты и их решения по данной теме всем 5-классникам и учителям математики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 Black"/>
                <a:ea typeface="Arial"/>
              </a:rPr>
              <a:t>Удобно решать задачи в разных направлениях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 Black"/>
                <a:ea typeface="Arial"/>
              </a:rPr>
              <a:t>Вызывает гордость, тот факт, что многие мои одноклассники стали авторами задач и разобрались в данной теме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5778360" cy="590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В современном мире </a:t>
            </a:r>
            <a:r>
              <a:rPr b="0" i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человек не готов отказаться от учебы, умений и знаний. 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Решать вопрос </a:t>
            </a:r>
            <a:r>
              <a:rPr b="0" i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надо не думая о том, что не справился с задачей, отказом от отработки и самостоятельных решений, а</a:t>
            </a: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 взять </a:t>
            </a:r>
            <a:r>
              <a:rPr b="0" i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и разобраться вовремя с текущей темой.  </a:t>
            </a:r>
            <a:br>
              <a:rPr sz="2000"/>
            </a:br>
            <a:r>
              <a:rPr b="0" i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В практической части моего проекта я составил сборник  задач на движение, тем самым каждый из нас </a:t>
            </a: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может использовать его для «старта» </a:t>
            </a:r>
            <a:r>
              <a:rPr b="0" i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в начале 6 класса и для своих друзей. 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Я благодарен </a:t>
            </a:r>
            <a:r>
              <a:rPr b="0" i="1" lang="ru-RU" sz="2000" spc="-1" strike="noStrike">
                <a:solidFill>
                  <a:srgbClr val="002060"/>
                </a:solidFill>
                <a:latin typeface="Arial Black"/>
                <a:ea typeface="Arial"/>
              </a:rPr>
              <a:t>всем авторам нашего класса и надеюсь, что каждый из вас постарается решать задачи на движение с удовольствием и правильно!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96" name="Рисунок 4" descr="environment.jpg"/>
          <p:cNvPicPr/>
          <p:nvPr/>
        </p:nvPicPr>
        <p:blipFill>
          <a:blip r:embed="rId1"/>
          <a:srcRect l="0" t="5032" r="0" b="0"/>
          <a:stretch/>
        </p:blipFill>
        <p:spPr>
          <a:xfrm>
            <a:off x="5940360" y="2205000"/>
            <a:ext cx="3032280" cy="1951200"/>
          </a:xfrm>
          <a:prstGeom prst="rect">
            <a:avLst/>
          </a:prstGeom>
          <a:ln w="0">
            <a:noFill/>
          </a:ln>
        </p:spPr>
      </p:pic>
      <p:sp>
        <p:nvSpPr>
          <p:cNvPr id="797" name="Прямоугольник 7"/>
          <p:cNvSpPr/>
          <p:nvPr/>
        </p:nvSpPr>
        <p:spPr>
          <a:xfrm>
            <a:off x="8489520" y="6381720"/>
            <a:ext cx="4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4"/>
          <p:cNvSpPr/>
          <p:nvPr/>
        </p:nvSpPr>
        <p:spPr>
          <a:xfrm>
            <a:off x="250920" y="4941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7" name="Прямоугольник 12"/>
          <p:cNvSpPr/>
          <p:nvPr/>
        </p:nvSpPr>
        <p:spPr>
          <a:xfrm>
            <a:off x="8619840" y="638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06436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Что такое задачи на движени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569" name="Picture 9" descr="http://publicdomainvectors.org/photos/drunken_duck_bus_1.png"/>
          <p:cNvPicPr/>
          <p:nvPr/>
        </p:nvPicPr>
        <p:blipFill>
          <a:blip r:embed="rId1"/>
          <a:stretch/>
        </p:blipFill>
        <p:spPr>
          <a:xfrm>
            <a:off x="250920" y="1484280"/>
            <a:ext cx="2843280" cy="15066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http://cdn01.ru/files/users/images/75/85/7585cb00c7f2556a5d80351dc2a4a41b.jpg"/>
          <p:cNvPicPr/>
          <p:nvPr/>
        </p:nvPicPr>
        <p:blipFill>
          <a:blip r:embed="rId2"/>
          <a:stretch/>
        </p:blipFill>
        <p:spPr>
          <a:xfrm>
            <a:off x="2411280" y="2924280"/>
            <a:ext cx="3571920" cy="1081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3" descr="http://st.depositphotos.com/3421809/4715/v/950/depositphotos_47152591-Walking-people.jpg"/>
          <p:cNvPicPr/>
          <p:nvPr/>
        </p:nvPicPr>
        <p:blipFill>
          <a:blip r:embed="rId3"/>
          <a:stretch/>
        </p:blipFill>
        <p:spPr>
          <a:xfrm>
            <a:off x="6012000" y="1844640"/>
            <a:ext cx="2698560" cy="181764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9"/>
          <p:cNvSpPr/>
          <p:nvPr/>
        </p:nvSpPr>
        <p:spPr>
          <a:xfrm>
            <a:off x="604440" y="414972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корость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3" name="Прямоугольник 10"/>
          <p:cNvSpPr/>
          <p:nvPr/>
        </p:nvSpPr>
        <p:spPr>
          <a:xfrm>
            <a:off x="5371200" y="5013360"/>
            <a:ext cx="29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расстояни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4" name="Прямоугольник 11"/>
          <p:cNvSpPr/>
          <p:nvPr/>
        </p:nvSpPr>
        <p:spPr>
          <a:xfrm>
            <a:off x="3348000" y="45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врем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Прямоугольник 4"/>
          <p:cNvSpPr/>
          <p:nvPr/>
        </p:nvSpPr>
        <p:spPr>
          <a:xfrm>
            <a:off x="1042920" y="2205000"/>
            <a:ext cx="73080" cy="3888000"/>
          </a:xfrm>
          <a:prstGeom prst="rect">
            <a:avLst/>
          </a:prstGeom>
          <a:solidFill>
            <a:srgbClr val="0d0d0d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9" name="Прямоугольник 6"/>
          <p:cNvSpPr/>
          <p:nvPr/>
        </p:nvSpPr>
        <p:spPr>
          <a:xfrm>
            <a:off x="3780000" y="5013360"/>
            <a:ext cx="433080" cy="792000"/>
          </a:xfrm>
          <a:prstGeom prst="rect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0" name="Прямоугольник 7"/>
          <p:cNvSpPr/>
          <p:nvPr/>
        </p:nvSpPr>
        <p:spPr>
          <a:xfrm>
            <a:off x="1835280" y="4005360"/>
            <a:ext cx="431640" cy="1800000"/>
          </a:xfrm>
          <a:prstGeom prst="rect">
            <a:avLst/>
          </a:prstGeom>
          <a:solidFill>
            <a:srgbClr val="00b05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1" name="Прямоугольник 8"/>
          <p:cNvSpPr/>
          <p:nvPr/>
        </p:nvSpPr>
        <p:spPr>
          <a:xfrm>
            <a:off x="1042920" y="5805360"/>
            <a:ext cx="5616720" cy="71640"/>
          </a:xfrm>
          <a:prstGeom prst="rect">
            <a:avLst/>
          </a:prstGeom>
          <a:solidFill>
            <a:srgbClr val="00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99640" y="117360"/>
            <a:ext cx="72010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Результат  тестирования одноклассников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3" name="Прямоугольник 4"/>
          <p:cNvSpPr/>
          <p:nvPr/>
        </p:nvSpPr>
        <p:spPr>
          <a:xfrm>
            <a:off x="4932360" y="18763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ли на 100%  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4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5" name="Прямоугольник 9"/>
          <p:cNvSpPr/>
          <p:nvPr/>
        </p:nvSpPr>
        <p:spPr>
          <a:xfrm>
            <a:off x="4356000" y="1916280"/>
            <a:ext cx="503280" cy="360360"/>
          </a:xfrm>
          <a:prstGeom prst="rect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6" name="Прямоугольник 10"/>
          <p:cNvSpPr/>
          <p:nvPr/>
        </p:nvSpPr>
        <p:spPr>
          <a:xfrm>
            <a:off x="684360" y="5445000"/>
            <a:ext cx="502920" cy="71640"/>
          </a:xfrm>
          <a:prstGeom prst="rect">
            <a:avLst/>
          </a:prstGeom>
          <a:solidFill>
            <a:srgbClr val="00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7" name="Прямоугольник 11"/>
          <p:cNvSpPr/>
          <p:nvPr/>
        </p:nvSpPr>
        <p:spPr>
          <a:xfrm>
            <a:off x="684360" y="5084640"/>
            <a:ext cx="502920" cy="73080"/>
          </a:xfrm>
          <a:prstGeom prst="rect">
            <a:avLst/>
          </a:prstGeom>
          <a:solidFill>
            <a:srgbClr val="00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8" name="Прямоугольник 12"/>
          <p:cNvSpPr/>
          <p:nvPr/>
        </p:nvSpPr>
        <p:spPr>
          <a:xfrm>
            <a:off x="684360" y="4724280"/>
            <a:ext cx="502920" cy="73080"/>
          </a:xfrm>
          <a:prstGeom prst="rect">
            <a:avLst/>
          </a:prstGeom>
          <a:solidFill>
            <a:srgbClr val="00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9" name="Прямоугольник 13"/>
          <p:cNvSpPr/>
          <p:nvPr/>
        </p:nvSpPr>
        <p:spPr>
          <a:xfrm>
            <a:off x="684360" y="4365720"/>
            <a:ext cx="502920" cy="71280"/>
          </a:xfrm>
          <a:prstGeom prst="rect">
            <a:avLst/>
          </a:prstGeom>
          <a:solidFill>
            <a:srgbClr val="00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0" name="Прямоугольник 14"/>
          <p:cNvSpPr/>
          <p:nvPr/>
        </p:nvSpPr>
        <p:spPr>
          <a:xfrm>
            <a:off x="684360" y="4076640"/>
            <a:ext cx="502920" cy="73080"/>
          </a:xfrm>
          <a:prstGeom prst="rect">
            <a:avLst/>
          </a:prstGeom>
          <a:solidFill>
            <a:srgbClr val="00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1" name="Прямоугольник 15"/>
          <p:cNvSpPr/>
          <p:nvPr/>
        </p:nvSpPr>
        <p:spPr>
          <a:xfrm>
            <a:off x="684360" y="3716280"/>
            <a:ext cx="502920" cy="73080"/>
          </a:xfrm>
          <a:prstGeom prst="rect">
            <a:avLst/>
          </a:prstGeom>
          <a:solidFill>
            <a:srgbClr val="00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2" name="Прямоугольник 16"/>
          <p:cNvSpPr/>
          <p:nvPr/>
        </p:nvSpPr>
        <p:spPr>
          <a:xfrm>
            <a:off x="684360" y="3429000"/>
            <a:ext cx="502920" cy="71280"/>
          </a:xfrm>
          <a:prstGeom prst="rect">
            <a:avLst/>
          </a:prstGeom>
          <a:solidFill>
            <a:srgbClr val="00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3" name="Прямоугольник 18"/>
          <p:cNvSpPr/>
          <p:nvPr/>
        </p:nvSpPr>
        <p:spPr>
          <a:xfrm>
            <a:off x="684360" y="3141720"/>
            <a:ext cx="502920" cy="71280"/>
          </a:xfrm>
          <a:prstGeom prst="rect">
            <a:avLst/>
          </a:prstGeom>
          <a:solidFill>
            <a:srgbClr val="00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4" name="Прямоугольник 19"/>
          <p:cNvSpPr/>
          <p:nvPr/>
        </p:nvSpPr>
        <p:spPr>
          <a:xfrm>
            <a:off x="684360" y="2852640"/>
            <a:ext cx="502920" cy="71640"/>
          </a:xfrm>
          <a:prstGeom prst="rect">
            <a:avLst/>
          </a:prstGeom>
          <a:solidFill>
            <a:srgbClr val="00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5" name="Прямоугольник 20"/>
          <p:cNvSpPr/>
          <p:nvPr/>
        </p:nvSpPr>
        <p:spPr>
          <a:xfrm>
            <a:off x="684360" y="2565360"/>
            <a:ext cx="502920" cy="71640"/>
          </a:xfrm>
          <a:prstGeom prst="rect">
            <a:avLst/>
          </a:prstGeom>
          <a:solidFill>
            <a:srgbClr val="00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6" name="Прямоугольник 23"/>
          <p:cNvSpPr/>
          <p:nvPr/>
        </p:nvSpPr>
        <p:spPr>
          <a:xfrm>
            <a:off x="25452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7" name="Прямоугольник 24"/>
          <p:cNvSpPr/>
          <p:nvPr/>
        </p:nvSpPr>
        <p:spPr>
          <a:xfrm>
            <a:off x="254520" y="49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8" name="Прямоугольник 26"/>
          <p:cNvSpPr/>
          <p:nvPr/>
        </p:nvSpPr>
        <p:spPr>
          <a:xfrm>
            <a:off x="25452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9" name="Прямоугольник 27"/>
          <p:cNvSpPr/>
          <p:nvPr/>
        </p:nvSpPr>
        <p:spPr>
          <a:xfrm>
            <a:off x="254520" y="422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0" name="Прямоугольник 28"/>
          <p:cNvSpPr/>
          <p:nvPr/>
        </p:nvSpPr>
        <p:spPr>
          <a:xfrm>
            <a:off x="254520" y="39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1" name="Прямоугольник 29"/>
          <p:cNvSpPr/>
          <p:nvPr/>
        </p:nvSpPr>
        <p:spPr>
          <a:xfrm>
            <a:off x="25452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2" name="Прямоугольник 30"/>
          <p:cNvSpPr/>
          <p:nvPr/>
        </p:nvSpPr>
        <p:spPr>
          <a:xfrm>
            <a:off x="25452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3" name="Прямоугольник 31"/>
          <p:cNvSpPr/>
          <p:nvPr/>
        </p:nvSpPr>
        <p:spPr>
          <a:xfrm>
            <a:off x="254520" y="299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4" name="Прямоугольник 32"/>
          <p:cNvSpPr/>
          <p:nvPr/>
        </p:nvSpPr>
        <p:spPr>
          <a:xfrm>
            <a:off x="254520" y="27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5" name="Прямоугольник 33"/>
          <p:cNvSpPr/>
          <p:nvPr/>
        </p:nvSpPr>
        <p:spPr>
          <a:xfrm>
            <a:off x="183960" y="2421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6" name="Прямоугольник 36"/>
          <p:cNvSpPr/>
          <p:nvPr/>
        </p:nvSpPr>
        <p:spPr>
          <a:xfrm>
            <a:off x="395280" y="5661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7" name="Прямоугольник 37"/>
          <p:cNvSpPr/>
          <p:nvPr/>
        </p:nvSpPr>
        <p:spPr>
          <a:xfrm>
            <a:off x="907200" y="184464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%- учащихс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8" name="Прямоугольник 39"/>
          <p:cNvSpPr/>
          <p:nvPr/>
        </p:nvSpPr>
        <p:spPr>
          <a:xfrm>
            <a:off x="4356000" y="2492280"/>
            <a:ext cx="503280" cy="360360"/>
          </a:xfrm>
          <a:prstGeom prst="rect">
            <a:avLst/>
          </a:prstGeom>
          <a:solidFill>
            <a:srgbClr val="00b05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9" name="Прямоугольник 4"/>
          <p:cNvSpPr/>
          <p:nvPr/>
        </p:nvSpPr>
        <p:spPr>
          <a:xfrm>
            <a:off x="4932360" y="24922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ли на 75%  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0" name="Прямоугольник 41"/>
          <p:cNvSpPr/>
          <p:nvPr/>
        </p:nvSpPr>
        <p:spPr>
          <a:xfrm>
            <a:off x="4356000" y="3068640"/>
            <a:ext cx="503280" cy="360360"/>
          </a:xfrm>
          <a:prstGeom prst="rect">
            <a:avLst/>
          </a:prstGeom>
          <a:solidFill>
            <a:srgbClr val="ffff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1" name="Прямоугольник 4"/>
          <p:cNvSpPr/>
          <p:nvPr/>
        </p:nvSpPr>
        <p:spPr>
          <a:xfrm>
            <a:off x="4932360" y="306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ли на 50%  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2" name="Прямоугольник 43"/>
          <p:cNvSpPr/>
          <p:nvPr/>
        </p:nvSpPr>
        <p:spPr>
          <a:xfrm>
            <a:off x="2843280" y="4724280"/>
            <a:ext cx="431640" cy="1081080"/>
          </a:xfrm>
          <a:prstGeom prst="rect">
            <a:avLst/>
          </a:prstGeom>
          <a:solidFill>
            <a:srgbClr val="ffff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Используемая  литератур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4" name="Прямоугольник 4"/>
          <p:cNvSpPr/>
          <p:nvPr/>
        </p:nvSpPr>
        <p:spPr>
          <a:xfrm>
            <a:off x="-49320" y="1628640"/>
            <a:ext cx="9007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 по математике 5 класс.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wilkipedia.or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a3d6"/>
                </a:solidFill>
                <a:uFillTx/>
                <a:latin typeface="Arial"/>
                <a:hlinkClick r:id="rId4"/>
              </a:rPr>
              <a:t>www.qip.ru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 учеников 5 «В» класса МБОУ СОШ №9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выполнения своей работы я использовал программу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5" name="Прямоугольник 7"/>
          <p:cNvSpPr/>
          <p:nvPr/>
        </p:nvSpPr>
        <p:spPr>
          <a:xfrm>
            <a:off x="8489520" y="638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Прямоугольник 12"/>
          <p:cNvSpPr/>
          <p:nvPr/>
        </p:nvSpPr>
        <p:spPr>
          <a:xfrm>
            <a:off x="8619840" y="638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6" name="Прямоугольник 11"/>
          <p:cNvSpPr/>
          <p:nvPr/>
        </p:nvSpPr>
        <p:spPr>
          <a:xfrm>
            <a:off x="250920" y="162864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с интересует путь, то скорость умножим на время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=v x t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интересует скорость –поделим путь на время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=S: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же время то путь поделим на скорость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=S:v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то пройденный путь, или расстояние ,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корость движения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йденный путь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-468720" y="333360"/>
            <a:ext cx="1000908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Применение формул для решения задач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Прямоугольник 15"/>
          <p:cNvSpPr/>
          <p:nvPr/>
        </p:nvSpPr>
        <p:spPr>
          <a:xfrm>
            <a:off x="8619840" y="638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20108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Виды задач на движени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Прямоугольник 3"/>
          <p:cNvSpPr/>
          <p:nvPr/>
        </p:nvSpPr>
        <p:spPr>
          <a:xfrm>
            <a:off x="324000" y="1484280"/>
            <a:ext cx="50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9432b"/>
                </a:solidFill>
                <a:latin typeface="FrG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FrG"/>
              </a:rPr>
              <a:t>Движение на встречу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1" name="Прямоугольник 4"/>
          <p:cNvSpPr/>
          <p:nvPr/>
        </p:nvSpPr>
        <p:spPr>
          <a:xfrm>
            <a:off x="324000" y="242100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9432b"/>
                </a:solidFill>
                <a:latin typeface="FrG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FrG"/>
              </a:rPr>
              <a:t>Движение в противоположные стороны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2" name="Прямоугольник 5"/>
          <p:cNvSpPr/>
          <p:nvPr/>
        </p:nvSpPr>
        <p:spPr>
          <a:xfrm>
            <a:off x="324000" y="342900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9432b"/>
                </a:solidFill>
                <a:latin typeface="FrG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FrG"/>
              </a:rPr>
              <a:t>Движение вдогонку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3" name="Прямоугольник 6"/>
          <p:cNvSpPr/>
          <p:nvPr/>
        </p:nvSpPr>
        <p:spPr>
          <a:xfrm>
            <a:off x="324000" y="4508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9432b"/>
                </a:solidFill>
                <a:latin typeface="FrG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FrG"/>
              </a:rPr>
              <a:t>Движение в одном направлении с удалением одного от другого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Прямоугольник 4"/>
          <p:cNvSpPr/>
          <p:nvPr/>
        </p:nvSpPr>
        <p:spPr>
          <a:xfrm>
            <a:off x="324000" y="9810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5" name="Прямоугольник 12"/>
          <p:cNvSpPr/>
          <p:nvPr/>
        </p:nvSpPr>
        <p:spPr>
          <a:xfrm>
            <a:off x="8619840" y="638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140000" y="5876640"/>
            <a:ext cx="46796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Мубаракшин Алексей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7" name="Прямоугольник 5"/>
          <p:cNvSpPr/>
          <p:nvPr/>
        </p:nvSpPr>
        <p:spPr>
          <a:xfrm>
            <a:off x="755640" y="141300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Из двух деревень навстречу друг другу вышли свинья и корова. Свинья шла со скоростью 3 км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ч, а корова со скоростью 4 км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ч. Встретились они через 4 часа. Каково расстояние между деревнями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8" name="Заголовок 1"/>
          <p:cNvSpPr/>
          <p:nvPr/>
        </p:nvSpPr>
        <p:spPr>
          <a:xfrm>
            <a:off x="539640" y="4508640"/>
            <a:ext cx="698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Решени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)3+4= 7(КМ/Ч)-СКОРОСТЬ СБЛИЖЕ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)7*4= 28(КМ)-РАССТОЯНИЕ МЕЖДУ ДЕРЕВН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ОТВЕТ: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ССТОЯНИЕ МЕЖДУ ДЕРЕВНЯМИ 28 КМ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9" name="Заголовок 1"/>
          <p:cNvSpPr/>
          <p:nvPr/>
        </p:nvSpPr>
        <p:spPr>
          <a:xfrm>
            <a:off x="2195640" y="40464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на встре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0" name="Прямая соединительная линия 10"/>
          <p:cNvSpPr/>
          <p:nvPr/>
        </p:nvSpPr>
        <p:spPr>
          <a:xfrm flipV="1">
            <a:off x="1859040" y="4005000"/>
            <a:ext cx="4657680" cy="2052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1" name="Прямая соединительная линия 19"/>
          <p:cNvSpPr/>
          <p:nvPr/>
        </p:nvSpPr>
        <p:spPr>
          <a:xfrm>
            <a:off x="6732720" y="2133720"/>
            <a:ext cx="0" cy="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2" name="Стрелка вправо 32"/>
          <p:cNvSpPr/>
          <p:nvPr/>
        </p:nvSpPr>
        <p:spPr>
          <a:xfrm>
            <a:off x="2195640" y="3429000"/>
            <a:ext cx="1224000" cy="5047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Georgia"/>
              </a:rPr>
              <a:t>3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3" name="Стрелка влево 33"/>
          <p:cNvSpPr/>
          <p:nvPr/>
        </p:nvSpPr>
        <p:spPr>
          <a:xfrm>
            <a:off x="5148360" y="3429000"/>
            <a:ext cx="115236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Georgia"/>
              </a:rPr>
              <a:t>4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5" name="AutoShape 1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6" name="AutoShape 1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7" name="AutoShape 2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98" name="Picture 23" descr="http://www.artsides.ru/big/item_2504.jpg"/>
          <p:cNvPicPr/>
          <p:nvPr/>
        </p:nvPicPr>
        <p:blipFill>
          <a:blip r:embed="rId1"/>
          <a:stretch/>
        </p:blipFill>
        <p:spPr>
          <a:xfrm>
            <a:off x="250920" y="3284640"/>
            <a:ext cx="1800000" cy="10713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5" descr="http://ideadnya.ru/wp-content/uploads/2008/12/korova.jpg"/>
          <p:cNvPicPr/>
          <p:nvPr/>
        </p:nvPicPr>
        <p:blipFill>
          <a:blip r:embed="rId2"/>
          <a:stretch/>
        </p:blipFill>
        <p:spPr>
          <a:xfrm>
            <a:off x="6443640" y="2852640"/>
            <a:ext cx="2401920" cy="1695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зидент  США  и президент  России  договорились  встретиться,   для  переговоров,  президент России едет со скоростью  300км/ч, а президент  США  едет со скоростью  200км/ч. Через, сколько  они встретится, если между ними 5000к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300+200=500(км/ч)-общая скорост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5000:500=10(ч)-президенты встретятс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 час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320" y="1890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на встречу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2" name="Прямая соединительная линия 5"/>
          <p:cNvSpPr/>
          <p:nvPr/>
        </p:nvSpPr>
        <p:spPr>
          <a:xfrm>
            <a:off x="2050920" y="4221000"/>
            <a:ext cx="4681800" cy="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03" name="Picture 2" descr="http://vserisunki.ru/papka2/mujchina/muzhchina_10.png"/>
          <p:cNvPicPr/>
          <p:nvPr/>
        </p:nvPicPr>
        <p:blipFill>
          <a:blip r:embed="rId1"/>
          <a:stretch/>
        </p:blipFill>
        <p:spPr>
          <a:xfrm>
            <a:off x="1403280" y="3141720"/>
            <a:ext cx="540000" cy="1439640"/>
          </a:xfrm>
          <a:prstGeom prst="rect">
            <a:avLst/>
          </a:prstGeom>
          <a:ln w="0">
            <a:noFill/>
          </a:ln>
        </p:spPr>
      </p:pic>
      <p:sp>
        <p:nvSpPr>
          <p:cNvPr id="604" name="Прямоугольник 8"/>
          <p:cNvSpPr/>
          <p:nvPr/>
        </p:nvSpPr>
        <p:spPr>
          <a:xfrm>
            <a:off x="3571560" y="3789360"/>
            <a:ext cx="130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5 000 км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05" name="Picture 2" descr="http://vserisunki.ru/papka2/mujchina/muzhchina_10.png"/>
          <p:cNvPicPr/>
          <p:nvPr/>
        </p:nvPicPr>
        <p:blipFill>
          <a:blip r:embed="rId2"/>
          <a:stretch/>
        </p:blipFill>
        <p:spPr>
          <a:xfrm>
            <a:off x="6732720" y="3213000"/>
            <a:ext cx="539640" cy="1441440"/>
          </a:xfrm>
          <a:prstGeom prst="rect">
            <a:avLst/>
          </a:prstGeom>
          <a:ln w="0">
            <a:noFill/>
          </a:ln>
        </p:spPr>
      </p:pic>
      <p:sp>
        <p:nvSpPr>
          <p:cNvPr id="606" name="Стрелка вправо 11"/>
          <p:cNvSpPr/>
          <p:nvPr/>
        </p:nvSpPr>
        <p:spPr>
          <a:xfrm>
            <a:off x="2124000" y="3429000"/>
            <a:ext cx="1295640" cy="433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300 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7" name="Стрелка влево 12"/>
          <p:cNvSpPr/>
          <p:nvPr/>
        </p:nvSpPr>
        <p:spPr>
          <a:xfrm>
            <a:off x="5076720" y="3502080"/>
            <a:ext cx="1366920" cy="43164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200км/ч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8" name="Прямоугольник 7"/>
          <p:cNvSpPr/>
          <p:nvPr/>
        </p:nvSpPr>
        <p:spPr>
          <a:xfrm>
            <a:off x="8548200" y="6381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Заголовок 1"/>
          <p:cNvSpPr/>
          <p:nvPr/>
        </p:nvSpPr>
        <p:spPr>
          <a:xfrm>
            <a:off x="4140360" y="5877000"/>
            <a:ext cx="46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 Карамов Дим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 Black"/>
              </a:rPr>
              <a:t>Движение на встречу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39040" cy="4572000"/>
          </a:xfrm>
          <a:prstGeom prst="rect">
            <a:avLst/>
          </a:prstGeom>
          <a:ln w="0">
            <a:noFill/>
          </a:ln>
        </p:spPr>
      </p:pic>
      <p:sp>
        <p:nvSpPr>
          <p:cNvPr id="612" name="Заголовок 1"/>
          <p:cNvSpPr/>
          <p:nvPr/>
        </p:nvSpPr>
        <p:spPr>
          <a:xfrm>
            <a:off x="4140360" y="5877000"/>
            <a:ext cx="46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Автор: Ильин Матве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3" name="Прямоугольник 7"/>
          <p:cNvSpPr/>
          <p:nvPr/>
        </p:nvSpPr>
        <p:spPr>
          <a:xfrm>
            <a:off x="8548200" y="6381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Black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4" name="Прямоугольник 6"/>
          <p:cNvSpPr/>
          <p:nvPr/>
        </p:nvSpPr>
        <p:spPr>
          <a:xfrm>
            <a:off x="324000" y="1484280"/>
            <a:ext cx="115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03:55:02Z</dcterms:created>
  <dc:creator>Ангелина</dc:creator>
  <dc:description/>
  <dc:language>en-US</dc:language>
  <cp:lastModifiedBy>Леонид</cp:lastModifiedBy>
  <dcterms:modified xsi:type="dcterms:W3CDTF">2016-12-02T08:32:00Z</dcterms:modified>
  <cp:revision>396</cp:revision>
  <dc:subject/>
  <dc:title>Слайд 1</dc:title>
</cp:coreProperties>
</file>