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DBA-AC6A-4AA1-B398-C12D224F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94C-A5C7-42B1-B2A4-28E1783A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DE9-8266-4E60-BCA8-0742D0D5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BED-3237-412B-85FE-718711AD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78A-4F9D-4C25-A505-04481A49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9F9-DDF8-4AF3-8F72-BD0B1B39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0B9-EAA8-48FF-B67E-0E049926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2BE-44E5-4E6D-ABD1-D71A769C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2FF-3522-464A-A158-260079CD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9D0-D0E5-47F6-B896-685D8AC1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67F-9011-4648-8C9C-441561AA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904-908C-412B-85E7-C39CA89F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4D8F-AC38-406D-8BD3-71BB7A30A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ДОУ «Детский сад №10»</a:t>
            </a:r>
            <a:br>
              <a:rPr sz="1800"/>
            </a:b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Исчезнувшие профе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кина Е.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рослав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Развозчик ль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12 профессий, которые потеряли смысл. Изображение № 4."/>
          <p:cNvPicPr/>
          <p:nvPr/>
        </p:nvPicPr>
        <p:blipFill>
          <a:blip r:embed="rId2"/>
          <a:stretch/>
        </p:blipFill>
        <p:spPr>
          <a:xfrm>
            <a:off x="684360" y="1413000"/>
            <a:ext cx="78483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816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нарщи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ивыкли к тому, что уличные фонари автоматически включаются в сумерках и выключаются утром. Но раньше для этого дела нужен был фонарщик. Используя длинный шест, он тушил, зажигал и дозаправлял уличные фонар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12. Фонарщик. Мы привыкли к тому, что уличные фонари автоматически включаются в сумерках и выключаются утром. Но раньше для этого дела нужен был фонарщик. Используя длинный шест, он тушил, зажигал и дозаправлял уличные фонари. "/>
          <p:cNvPicPr/>
          <p:nvPr/>
        </p:nvPicPr>
        <p:blipFill>
          <a:blip r:embed="rId2"/>
          <a:stretch/>
        </p:blipFill>
        <p:spPr>
          <a:xfrm>
            <a:off x="0" y="0"/>
            <a:ext cx="46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626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Телефонис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2984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ефонисты были неотъемлемой частью работы телефонной сети. Операторы соединяли междугородние и международные звонк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9. Телефонистка. Телефонисты были неотъемлемой частью работы телефонной сети. Операторы соединяли междугородние и международные звонки. "/>
          <p:cNvPicPr/>
          <p:nvPr/>
        </p:nvPicPr>
        <p:blipFill>
          <a:blip r:embed="rId2"/>
          <a:stretch/>
        </p:blipFill>
        <p:spPr>
          <a:xfrm>
            <a:off x="3381480" y="1341360"/>
            <a:ext cx="5762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884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хититель труп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Эти люди выкапывали трупы из могил для нужд студентов медицинских университет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10. Похититель трупов. Эти люди выкапывали трупы из могил для нужд студентов медицинских университетов. "/>
          <p:cNvPicPr/>
          <p:nvPr/>
        </p:nvPicPr>
        <p:blipFill>
          <a:blip r:embed="rId2"/>
          <a:stretch/>
        </p:blipFill>
        <p:spPr>
          <a:xfrm>
            <a:off x="1547640" y="2400480"/>
            <a:ext cx="57628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1327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анди Танцовщик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вучит странно и весело. В действительности – это трудная работа по прокладке и обслуживанию железных дорог. А название – просто сленг. Сам термин имеет неопределенное происхождени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13. Ганди Танцовщик. Звучит странно и весело. В действительности – это трудная работа по прокладке и обслуживанию железных дорог. А название – просто сленг. Сам термин имеет неопределенное происхождение. "/>
          <p:cNvPicPr/>
          <p:nvPr/>
        </p:nvPicPr>
        <p:blipFill>
          <a:blip r:embed="rId2"/>
          <a:stretch/>
        </p:blipFill>
        <p:spPr>
          <a:xfrm>
            <a:off x="1619280" y="2314440"/>
            <a:ext cx="60102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40000" y="333360"/>
            <a:ext cx="287964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олочник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аньше молочники носили молоко ежедневно. Дело в том, что раньше не было холодильников и молоко портилось буквально за сутки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14. Молочник. Раньше молочники носили молоко ежедневно. Дело в том, что раньше не было холодильников и молоко портилось буквально за сутки. "/>
          <p:cNvPicPr/>
          <p:nvPr/>
        </p:nvPicPr>
        <p:blipFill>
          <a:blip r:embed="rId2"/>
          <a:stretch/>
        </p:blipFill>
        <p:spPr>
          <a:xfrm>
            <a:off x="0" y="620640"/>
            <a:ext cx="576252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4920" y="-169272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68360" y="429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ревенчатый во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задача – сплавлять бревна по рек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15. Бревенчатый водитель. Его задача – сплавлять бревна по реке. "/>
          <p:cNvPicPr/>
          <p:nvPr/>
        </p:nvPicPr>
        <p:blipFill>
          <a:blip r:embed="rId2"/>
          <a:stretch/>
        </p:blipFill>
        <p:spPr>
          <a:xfrm>
            <a:off x="0" y="0"/>
            <a:ext cx="91440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олотарь 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появления канализации горожане были вынуждены пользоваться услугами ассенизаторов-золотарей. Две лошади-клячи, неторопливо тащившие бочку с отходами, были типичным элементом даже столичного пейзажа. Сами работники тоже редко бывали трезвыми и трудились преимущественно по ночам, чтобы не «радовать» горожан запах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zolotar.jpg"/>
          <p:cNvPicPr/>
          <p:nvPr/>
        </p:nvPicPr>
        <p:blipFill>
          <a:blip r:embed="rId2"/>
          <a:stretch/>
        </p:blipFill>
        <p:spPr>
          <a:xfrm>
            <a:off x="1258920" y="2494080"/>
            <a:ext cx="655164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ПЛАКАЛЬЩИЦЫ Без плакальщиц, или воплениц, на Руси не обходилось ни одно обряд...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479736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левальщ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еятели репы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о в том, что у репы очень мелкие семечки: в 1 кг их больше миллиона, и вручную их просто не разбросать. Вот и придумали выплевывать семена. Однако и плевать – дело не простое, этому искусству приходилось специально обучаться. Поэтому профессия плевальщика очень ценилась и почиталась в на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Исчезнувшие профессии: Плевальщики"/>
          <p:cNvPicPr/>
          <p:nvPr/>
        </p:nvPicPr>
        <p:blipFill>
          <a:blip r:embed="rId2"/>
          <a:stretch/>
        </p:blipFill>
        <p:spPr>
          <a:xfrm>
            <a:off x="1403280" y="0"/>
            <a:ext cx="63007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ногие профессии уходят в далекое прошлое и в жизни современного общества оказываются совершенно ненужными, а причиной этому выступает быстрое развитие науки и техники, появление машин, способных заменить ручной труд человека, избавить от тяжелых нагрузок, увеличить производительность процесс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19280" y="1557000"/>
            <a:ext cx="3924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Шарманщ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reetorgan.jpg"/>
          <p:cNvPicPr/>
          <p:nvPr/>
        </p:nvPicPr>
        <p:blipFill>
          <a:blip r:embed="rId2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так ж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ильщик обу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к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– человек, вручную ткавший тканые полот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во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мщ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л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рл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кенщ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– рыбак, выполняющий очень ответственную функцию по зажиганию специальных фонарей, размещенных на бакенах (плавучие корзины), которые помогали суднам в ночное время не сесть на мелковод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ндар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емесленник, изготавливающий бочки, кадки или другую обручную или вязаную посу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53953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4248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еловек-будильник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ейчас нас будят электронные будильники, а раньше это делал специальный человек. Он ходил по улицам и стучал в окна и двери, чтобы убедиться, что люди проснулись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1. Человек-будильник. Сейчас нас будят электронные будильники, а раньше это делал специальный человек. Он ходил по улицам и стучал в окна и двери, чтобы убедиться, что люди проснулись. "/>
          <p:cNvPicPr/>
          <p:nvPr/>
        </p:nvPicPr>
        <p:blipFill>
          <a:blip r:embed="rId2"/>
          <a:stretch/>
        </p:blipFill>
        <p:spPr>
          <a:xfrm>
            <a:off x="5075280" y="404640"/>
            <a:ext cx="40687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4247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ектор для рабочих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работе слишком скучно? Этот господин будет развлекать вас чтением вслух. С приходом радио и других видов теле и радиовещания эта профессия стала невостребованно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2. Лектор для рабочих. На работе слишком скучно? Этот господин будет развлекать вас чтением вслух. С приходом радио и других видов теле и радиовещания эта профессия стала невостребованной. "/>
          <p:cNvPicPr/>
          <p:nvPr/>
        </p:nvPicPr>
        <p:blipFill>
          <a:blip r:embed="rId2"/>
          <a:stretch/>
        </p:blipFill>
        <p:spPr>
          <a:xfrm>
            <a:off x="2733840" y="2768760"/>
            <a:ext cx="64101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67280" y="333000"/>
            <a:ext cx="3276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Человек-радар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т человек использует акустическое устройство чтобы обнаружить звук двигателей приближающейся вражеской авиации.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3. Человек-радар. Этот человек использует акустическое устройство чтобы обнаружить звук двигателей приближающейся вражеской авиации. "/>
          <p:cNvPicPr/>
          <p:nvPr/>
        </p:nvPicPr>
        <p:blipFill>
          <a:blip r:embed="rId2"/>
          <a:stretch/>
        </p:blipFill>
        <p:spPr>
          <a:xfrm>
            <a:off x="324000" y="404640"/>
            <a:ext cx="54385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95280" y="4508640"/>
            <a:ext cx="6948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рысол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о изобретения крысиных ловушек, работу по ловле крыс осуществляли люди. Профессия была опасной, так как крысоловы постоянно подвергались укусам и, следовательно, инфекциям, переносимым крыс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4. Крысолов. До изобретения крысиных ловушек, работу по ловле крыс осуществляли люди. Профессия была опасной, так как крысоловы постоянно подвергались укусам и, следовательно, инфекциям, переносимым крысами. "/>
          <p:cNvPicPr/>
          <p:nvPr/>
        </p:nvPicPr>
        <p:blipFill>
          <a:blip r:embed="rId2"/>
          <a:stretch/>
        </p:blipFill>
        <p:spPr>
          <a:xfrm>
            <a:off x="1763640" y="0"/>
            <a:ext cx="57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61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инспоттер боулинг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роли пинспоттеров обычно выступали дети, которые убирали сбитые кегли и расставляли нов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5. Пинспоттер боулинга. В роли пинспоттеров обычно выступали дети, которые убирали сбитые кегли и расставляли новые."/>
          <p:cNvPicPr/>
          <p:nvPr/>
        </p:nvPicPr>
        <p:blipFill>
          <a:blip r:embed="rId2"/>
          <a:stretch/>
        </p:blipFill>
        <p:spPr>
          <a:xfrm>
            <a:off x="0" y="2428920"/>
            <a:ext cx="642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2360" y="692280"/>
            <a:ext cx="3524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Трубочи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юди, которые удаляли сажу из труб печей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7. Трубочист. Люди, которые удаляли сажу из труб печей. "/>
          <p:cNvPicPr/>
          <p:nvPr/>
        </p:nvPicPr>
        <p:blipFill>
          <a:blip r:embed="rId2"/>
          <a:stretch/>
        </p:blipFill>
        <p:spPr>
          <a:xfrm>
            <a:off x="395280" y="620640"/>
            <a:ext cx="420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614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езчик льд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 изобретения холодильных камер, продукты охлаждались полученным путем резки льдом. Работа по резке льда была трудна и довольно опасн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8. Резчик льда. До изобретения холодильных камер, продукты охлаждались полученным путем резки льдом. Работа по резке льда была трудна и довольно опасна. "/>
          <p:cNvPicPr/>
          <p:nvPr/>
        </p:nvPicPr>
        <p:blipFill>
          <a:blip r:embed="rId2"/>
          <a:stretch/>
        </p:blipFill>
        <p:spPr>
          <a:xfrm>
            <a:off x="2411280" y="2328840"/>
            <a:ext cx="6732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0T13:36:31Z</dcterms:created>
  <dc:creator>katya_milto@outlook.com</dc:creator>
  <dc:description/>
  <dc:language>en-US</dc:language>
  <cp:lastModifiedBy>katya_milto@outlook.com</cp:lastModifiedBy>
  <dcterms:modified xsi:type="dcterms:W3CDTF">2016-12-02T08:50:49Z</dcterms:modified>
  <cp:revision>3</cp:revision>
  <dc:subject/>
  <dc:title>МДОУ «Детский сад №10» Исчезнувшие профессии</dc:title>
</cp:coreProperties>
</file>