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3F7-4BD6-43B7-8164-2D11C8A4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92-3C4C-469E-8D5F-A065A456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B7B-959F-4FF1-A53C-753F5262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0AA-3A3B-40AB-AE65-84D460E5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C87-5C04-40D9-8D57-6BF3BCFD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4C8-725B-4A5A-9CC8-F8748E5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557-A3D4-41D2-BB53-B0E0D3E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7E4-7E66-46D3-8479-8F248DB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CA3-70FC-4DA2-9528-4EF09746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894-6FA8-4BB1-820F-D31D882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25D-581C-4DFC-AE1A-3DAAAD1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F4F-9C35-4A22-ADBF-8075C76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9B9E-F956-45CD-BC87-463B261E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sportal.ru/nachalnaya-shkola" TargetMode="External"/><Relationship Id="rId3" Type="http://schemas.openxmlformats.org/officeDocument/2006/relationships/hyperlink" Target="https://www.google.ru/search?q=&#1082;&#1072;&#1088;&#1090;&#1080;&#1085;&#1082;&#1080;+&#1088;&#1086;&#1076;&#1080;&#1090;&#1077;&#1083;&#1100;&#1089;&#1082;&#1086;&#1075;&#1086;+&#1089;&#1086;&#1073;&#1088;&#1072;&#1085;&#1080;&#1103;" TargetMode="External"/><Relationship Id="rId4" Type="http://schemas.openxmlformats.org/officeDocument/2006/relationships/hyperlink" Target="https://www.google.ru/search?q=&#1082;&#1072;&#1088;&#1090;&#1080;&#1085;&#1082;&#1080;+&#1088;&#1086;&#1076;&#1080;&#1090;&#1077;&#1083;&#1100;&#1089;&#1082;&#1086;&#1075;&#1086;+&#1089;&#1086;&#1073;&#1088;&#1072;&#1085;&#1080;&#1103;" TargetMode="External"/><Relationship Id="rId5" Type="http://schemas.openxmlformats.org/officeDocument/2006/relationships/hyperlink" Target="https://www.google.ru/search?q=&#1082;&#1072;&#1088;&#1090;&#1080;&#1085;&#1082;&#1080;+&#1088;&#1086;&#1076;&#1080;&#1090;&#1077;&#1083;&#1100;&#1089;&#1082;&#1086;&#1075;&#1086;+&#1089;&#1086;&#1073;&#1088;&#1072;&#1085;&#1080;&#1103;" TargetMode="External"/><Relationship Id="rId6" Type="http://schemas.openxmlformats.org/officeDocument/2006/relationships/hyperlink" Target="https://www.google.ru/search?q=&#1082;&#1072;&#1088;&#1090;&#1080;&#1085;&#1082;&#1080;+&#1088;&#1086;&#1076;&#1080;&#1090;&#1077;&#1083;&#1100;&#1089;&#1082;&#1086;&#1075;&#1086;+&#1089;&#1086;&#1073;&#1088;&#1072;&#1085;&#1080;&#1103;" TargetMode="External"/><Relationship Id="rId7" Type="http://schemas.openxmlformats.org/officeDocument/2006/relationships/hyperlink" Target="https://www.google.ru/search?q=&#1082;&#1072;&#1088;&#1090;&#1080;&#1085;&#1082;&#1080;+&#1088;&#1086;&#1076;&#1080;&#1090;&#1077;&#1083;&#1100;&#1089;&#1082;&#1086;&#1075;&#1086;+&#1089;&#1086;&#1073;&#1088;&#1072;&#1085;&#1080;&#1103;" TargetMode="External"/><Relationship Id="rId8" Type="http://schemas.openxmlformats.org/officeDocument/2006/relationships/hyperlink" Target="http://liubavyshka.ru/photo/144-2" TargetMode="External"/><Relationship Id="rId9" Type="http://schemas.openxmlformats.org/officeDocument/2006/relationships/hyperlink" Target="http://liubavyshka.ru/photo/144-2" TargetMode="External"/><Relationship Id="rId10" Type="http://schemas.openxmlformats.org/officeDocument/2006/relationships/hyperlink" Target="http://liubavyshka.ru/photo/144-2" TargetMode="External"/><Relationship Id="rId11" Type="http://schemas.openxmlformats.org/officeDocument/2006/relationships/hyperlink" Target="http://liubavyshka.ru/photo/144-2" TargetMode="External"/><Relationship Id="rId12" Type="http://schemas.openxmlformats.org/officeDocument/2006/relationships/hyperlink" Target="http://liubavyshka.ru/photo/144-2" TargetMode="External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eorgia"/>
              </a:rPr>
              <a:t>Как подготовить и провести 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и по запросу картинки о родительском собрании"/>
          <p:cNvPicPr/>
          <p:nvPr/>
        </p:nvPicPr>
        <p:blipFill>
          <a:blip r:embed="rId2"/>
          <a:stretch/>
        </p:blipFill>
        <p:spPr>
          <a:xfrm>
            <a:off x="395280" y="3284640"/>
            <a:ext cx="4103640" cy="202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16360" y="39337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Times New Roman"/>
              </a:rPr>
              <a:t>Составила учитель начальных класс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Times New Roman"/>
              </a:rPr>
              <a:t>Людмила Вениаминовна Золотух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9480" y="353880"/>
            <a:ext cx="491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атуз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проведения родительского собр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нформация обще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изменение учебного плана, предстоящие мероприятия, планируемые расходы: зачем и почем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ьно – благодарность тем родителям, которые помогали классу и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1187280" y="4076640"/>
            <a:ext cx="6328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Анализ развития детей за определенный пери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чностные изменения (проблемы, возникающие между детьми; данные диагност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чебная деятельность ( уровень мотивации, достижения, пробле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и по запросу картинки о родительском собрании"/>
          <p:cNvPicPr/>
          <p:nvPr/>
        </p:nvPicPr>
        <p:blipFill>
          <a:blip r:embed="rId2"/>
          <a:stretch/>
        </p:blipFill>
        <p:spPr>
          <a:xfrm>
            <a:off x="3132000" y="4005360"/>
            <a:ext cx="24084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 Обсуждение конкрет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росвещение родителей, обучение родителей, повышение их психолого-педагогической компетент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и по запросу картинки о родительском собрании"/>
          <p:cNvPicPr/>
          <p:nvPr/>
        </p:nvPicPr>
        <p:blipFill>
          <a:blip r:embed="rId2"/>
          <a:stretch/>
        </p:blipFill>
        <p:spPr>
          <a:xfrm>
            <a:off x="2340000" y="3573360"/>
            <a:ext cx="40100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неучеб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деляем существующую (возникшую) пробл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пределяем причины ее возникновения (чем больше вариантов, тем лучше; смотрим на проблему с разных стор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едпринимаем попытку ее теоретического разрешения, обсуждаем ЛЮБЫЕ варианты и оцениваем их эффективность, реальность воплощения, прогнозируем возможные последствия (к чему это может привести); определяем участников разрешения данной проблемы и распределяем ответственность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Учеб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анализируются причины затруднений детей при освоении учебного кур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идет совместное обсуждение: сбор информации, обращение к опыту родителей тех детей, у которых подобных затруднений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даются методические советы по коррекции учебной деятельности детей (рекомендации по организации выполнения домашних заданий, требования к ведению тетрадей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лучше взять одну, но конкретную проблему, и проработать ее доскональ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1108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Как сообщить родителя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б успеваемости ребенка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 афишируя его неуспех на весь кла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хорошего начать и хорошим закон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дать оценки на листочках, а на обороте совете и рекомендации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 плохом сказать в общем, не называя фами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лохих учениках найти хорошее и похвалить их за что-то при вс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 хорошем –вслух, о недостатках –индивиду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казать родителям тетради с хорошими и плохими работами детей, не называя фами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419640" y="5157720"/>
            <a:ext cx="21445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В конце родительского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Принятие решения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Индивидуальные консультации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3419640" y="3284640"/>
            <a:ext cx="31669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АЖНО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9819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ворите о проблеме, а не о персона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мечайте успехи и резервы. Никаких обсуждений конкретного ребенка! Если хвалите, то всех –за что-нибу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не диктует правильное решение, а стимулирует к его поиску коллектив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уйте наглядные примеры – как надо, как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превращайте индивидуальную консультацию в показательную ( с одним говорю –все стоят кругом слуша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Школа и учеба смайлик картинка"/>
          <p:cNvPicPr/>
          <p:nvPr/>
        </p:nvPicPr>
        <p:blipFill>
          <a:blip r:embed="rId2"/>
          <a:stretch/>
        </p:blipFill>
        <p:spPr>
          <a:xfrm>
            <a:off x="4067280" y="5013360"/>
            <a:ext cx="1428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авила успешного проведения родительского собр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аж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я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еря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шив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4932360" y="278136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15960" y="410040"/>
            <a:ext cx="7993800" cy="14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авила поведе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классного руководител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на родительском собр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ять собственное напряжение перед встречей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ть родителям почувствовать Ваше уважение и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бедить родителей в том, что у школы и семьи одни проблемы, одни задачи, одни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райтесь понять родителей, правильно определить наиболее волнующие их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на из основных универсальных форм взаимодействия школы с семьями учащихся и пропаганды психолого – педагогических зн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школа повышения у родителей компетентности в вопросах обучения детей, формирующая родительское общественное мнение, родительский коллект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3851280" y="4292640"/>
            <a:ext cx="2124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м и делом помочь родителям находить оптимальные пути и способы решения проблемных ситуаций, формировать у них уверенность в том, что в воспитании детей они всегда могут рассчитывать на Вашу поддержку и помощь друг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о, доброжелательно, заинтересованно. Важно, чтобы родители всех учеников (и благополучных и «сложных») ушли с собрания с верой в сво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ртинки по запросу картинки о родительском собрании"/>
          <p:cNvPicPr/>
          <p:nvPr/>
        </p:nvPicPr>
        <p:blipFill>
          <a:blip r:embed="rId2"/>
          <a:stretch/>
        </p:blipFill>
        <p:spPr>
          <a:xfrm>
            <a:off x="3419640" y="4292640"/>
            <a:ext cx="179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314720" y="315720"/>
            <a:ext cx="7521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Уважаемые классные руководители постарайтесь ответить на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8055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зовите тему родительского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ую подготовительную работу Вы пров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 приглашали родителей? Сообщали ли им о теме собр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ое начало собрания вы использо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ыло ли на собрании обсуждение конкретной проблемы? Просвещение родител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шли ли Вы совместно с родителями к какому-либо реш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ыла или нет индивидуальная консультация с родител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лагодарили ли Вы родителей за что-нибудь на родительском собр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10285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3440" y="628560"/>
            <a:ext cx="761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сайты о родит. соб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sportal.ru/nachalnaya-sh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ogl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earch?q=картинки+родительского+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liubavyshk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ot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14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и по запросу спасибо за внимание с гифками"/>
          <p:cNvPicPr/>
          <p:nvPr/>
        </p:nvPicPr>
        <p:blipFill>
          <a:blip r:embed="rId13"/>
          <a:stretch/>
        </p:blipFill>
        <p:spPr>
          <a:xfrm>
            <a:off x="2195640" y="249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Формы родительских собр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ительский лект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ференция по обмену оп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пут-размышление по проблемам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треча с администрацией, учителями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брание-семинар (семинар-практик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брание – бес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брание дискусс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Школа и учеба смайлик картинка"/>
          <p:cNvPicPr/>
          <p:nvPr/>
        </p:nvPicPr>
        <p:blipFill>
          <a:blip r:embed="rId2"/>
          <a:stretch/>
        </p:blipFill>
        <p:spPr>
          <a:xfrm>
            <a:off x="6156360" y="4797360"/>
            <a:ext cx="144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Алгоритм подготовки родительского собр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бор темы и формы проведения родительского собрания учиты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возрастные особенност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еобладание типов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ровень образованности и заинтересованност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облемы классного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цели и задачи учебно-воспитательного процесса, стоящие перед шко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дготови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изучение научно-методическ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анализ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оведение микро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пределение вида, формы и этапов родительского собрания, способов и приемов организации работы его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бъявление за 2-3 недели о родительском собрании учащим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запись в дневниках учащихся о теме и сроках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иглашение родителей и других его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привлечение к его подготовке членов родительского ко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формление и оборудование места проведения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2411280" y="3068640"/>
            <a:ext cx="4567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Как пригласить родителей на собр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2133720"/>
            <a:ext cx="8055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ь в дневнике учащегося с проверкой подписи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онок по телеф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дружеских связей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глашение на отдельном листке с указанием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е приглашение, набранное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глашение с интригующим вопросом или просьбой подготовиться к выступ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хотворная откры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глашение с помощью родительское ко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по проведению родительского собр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но должно просвещать родителей, а не констатировать ошибки и неудачи детей в уч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но должно носить как теоретический, так и практический характер: разбор ситуаций, тренинги, дискусс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но не должно заниматься обсуждением и осуждением личностей учащихся, педагогов,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и по запросу картинки родительского собрания"/>
          <p:cNvPicPr/>
          <p:nvPr/>
        </p:nvPicPr>
        <p:blipFill>
          <a:blip r:embed="rId2"/>
          <a:stretch/>
        </p:blipFill>
        <p:spPr>
          <a:xfrm>
            <a:off x="2700360" y="3645000"/>
            <a:ext cx="385272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24160" y="389160"/>
            <a:ext cx="8106120" cy="10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Как начать собрание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расположить родителей к разговор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79819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ование цитат, эпиграф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приветствовать и поблагодарить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рическое начало (стихи, инструментальная му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комство родителей с проблемой и реглам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-особому (необычно) рассадить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тавка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клама педагогическ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еоролик о жизни класса или выступле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чать собрание с результатов анкетирования учащихся,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метить работу родительского ко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ование цифр и фактов для привлечения внимания к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разить радость от общения с родителями и их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3:38:52Z</dcterms:created>
  <dc:creator>Николай</dc:creator>
  <dc:description/>
  <dc:language>en-US</dc:language>
  <cp:lastModifiedBy>Николай</cp:lastModifiedBy>
  <dcterms:modified xsi:type="dcterms:W3CDTF">2016-11-27T06:39:46Z</dcterms:modified>
  <cp:revision>3</cp:revision>
  <dc:subject/>
  <dc:title>Слайд 1</dc:title>
</cp:coreProperties>
</file>