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5D3E-9049-4D2E-A1E3-B8287E343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DA3F-67C1-4DFE-9C67-105A98F8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6913-181B-468C-B221-774AA6150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D74C-4632-453A-8549-BBA7615F8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5766-38E3-479D-9C2F-E5ED3E63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C2F0-5B8C-470F-8B9C-B85F6E19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F736-8364-4714-8C6F-16466A6A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32DA-BC10-422B-8A1B-9AD60699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571C-E7A1-488B-86BA-8E279C03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55F2-BAFC-41C3-8A96-C41900CB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9CE5-52B8-4239-9D89-454C2A43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86DB-7D25-4187-B6D4-763EE95E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ршакова Людмила Никола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02AC-FB31-4B9D-B760-FE43F53628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4" descr=""/>
          <p:cNvPicPr/>
          <p:nvPr/>
        </p:nvPicPr>
        <p:blipFill>
          <a:blip r:embed="rId1"/>
          <a:stretch/>
        </p:blipFill>
        <p:spPr>
          <a:xfrm>
            <a:off x="4048200" y="633240"/>
            <a:ext cx="4529160" cy="3152880"/>
          </a:xfrm>
          <a:prstGeom prst="rect">
            <a:avLst/>
          </a:prstGeom>
          <a:ln w="0">
            <a:noFill/>
          </a:ln>
        </p:spPr>
      </p:pic>
      <p:pic>
        <p:nvPicPr>
          <p:cNvPr id="42" name="WordArt 5" descr=""/>
          <p:cNvPicPr/>
          <p:nvPr/>
        </p:nvPicPr>
        <p:blipFill>
          <a:blip r:embed="rId2"/>
          <a:stretch/>
        </p:blipFill>
        <p:spPr>
          <a:xfrm>
            <a:off x="4621320" y="4591080"/>
            <a:ext cx="3760560" cy="1114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rcRect l="0" t="968" r="0" b="8181"/>
          <a:stretch/>
        </p:blipFill>
        <p:spPr>
          <a:xfrm>
            <a:off x="0" y="571680"/>
            <a:ext cx="3603600" cy="5572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D:\Angelina\ГОД ЛИТЕРАТУРЫ\9fqjj9.png"/>
          <p:cNvPicPr/>
          <p:nvPr/>
        </p:nvPicPr>
        <p:blipFill>
          <a:blip r:embed="rId4"/>
          <a:stretch/>
        </p:blipFill>
        <p:spPr>
          <a:xfrm flipH="1" rot="7814400">
            <a:off x="775800" y="4256280"/>
            <a:ext cx="3919680" cy="21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13840" y="285840"/>
            <a:ext cx="864396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13-го июля, на рассвете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, казнь совершилась. Казнимые были в оковах выведены из своих келий и приведены к эшафоту. Когда приговор был им прочитан и они услышали слова: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"за такие злодеяния повесить!«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Где покоится прах Рылеева, не извест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x1-Z5_094"/>
          <p:cNvPicPr/>
          <p:nvPr/>
        </p:nvPicPr>
        <p:blipFill>
          <a:blip r:embed="rId1"/>
          <a:stretch/>
        </p:blipFill>
        <p:spPr>
          <a:xfrm>
            <a:off x="3416400" y="3071880"/>
            <a:ext cx="557820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2999880"/>
            <a:ext cx="50004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Нравственная чистота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"Рыцаря Полярной Звезды",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i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обаяние, которое он производил на окружающих, глубокая гражданская скорбь, жажда борьбы делают его одной из самых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ривлекательных, светлых личностей нашей культурной исто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20030510220858"/>
          <p:cNvPicPr/>
          <p:nvPr/>
        </p:nvPicPr>
        <p:blipFill>
          <a:blip r:embed="rId1"/>
          <a:stretch/>
        </p:blipFill>
        <p:spPr>
          <a:xfrm>
            <a:off x="285840" y="285840"/>
            <a:ext cx="2571840" cy="2124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D:\Angelina\Рылеев\993.jpg"/>
          <p:cNvPicPr/>
          <p:nvPr/>
        </p:nvPicPr>
        <p:blipFill>
          <a:blip r:embed="rId2"/>
          <a:stretch/>
        </p:blipFill>
        <p:spPr>
          <a:xfrm>
            <a:off x="5500800" y="2143080"/>
            <a:ext cx="3322440" cy="44290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3357720" y="642960"/>
            <a:ext cx="53575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Среди наших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гражданских поэтов Рылееву принадлежит первое мес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335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cc"/>
                </a:solidFill>
                <a:latin typeface="Arial"/>
              </a:rPr>
              <a:t>Подготовила ученица 4 класса</a:t>
            </a:r>
            <a:br>
              <a:rPr sz="1600"/>
            </a:br>
            <a:r>
              <a:rPr b="0" i="1" lang="ru-RU" sz="1600" spc="-1" strike="noStrike">
                <a:solidFill>
                  <a:srgbClr val="0000cc"/>
                </a:solidFill>
                <a:latin typeface="Arial"/>
              </a:rPr>
              <a:t>Фёдорова Ангелина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040" y="221436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251000" indent="-35568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cc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0" y="0"/>
            <a:ext cx="41148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Кондратий </a:t>
            </a: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Фёдорович </a:t>
            </a: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Рылеев – </a:t>
            </a: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декабрист и поэт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Родился 18 сентября 1795 года в селе Бато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0" y="0"/>
            <a:ext cx="41148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 1801—1814 годах учился в Петербургском первом кадетском корпус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857240" y="404640"/>
            <a:ext cx="6840720" cy="24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Победа над Наполеоном побудила его взяться за пер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Появились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од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"Любовь к Отчизне" (1813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"Князю Смоленскому" (181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http://culture.natm.ru/tinybrowser/images/metodicheskiy-kabinet/derzhava-slavnaya-rossiya-sred-gruppa/_full/_008.jpg"/>
          <p:cNvPicPr/>
          <p:nvPr/>
        </p:nvPicPr>
        <p:blipFill>
          <a:blip r:embed="rId1"/>
          <a:stretch/>
        </p:blipFill>
        <p:spPr>
          <a:xfrm>
            <a:off x="3143160" y="2941560"/>
            <a:ext cx="5357880" cy="3916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064"/>
          <p:cNvPicPr/>
          <p:nvPr/>
        </p:nvPicPr>
        <p:blipFill>
          <a:blip r:embed="rId2"/>
          <a:stretch/>
        </p:blipFill>
        <p:spPr>
          <a:xfrm>
            <a:off x="142920" y="142920"/>
            <a:ext cx="159696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0" y="0"/>
            <a:ext cx="41148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Кондратий </a:t>
            </a: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Фёдорович Рылеев </a:t>
            </a: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участвовал в заграничных походах русской армии </a:t>
            </a: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1814—1815 годов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 1818 году вышел в отставку и в 1820 году переехал в Петербург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56920" y="428400"/>
            <a:ext cx="66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Monotype Corsiva"/>
                <a:ea typeface="Arial"/>
              </a:rPr>
              <a:t>Петербург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85600" y="1785600"/>
            <a:ext cx="51577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В Петербурге К.Ф. Рылеев сблизился со столичными  литераторами, стал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членом "Вольного общества  любителей российской словесности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Создатель альманаха "Полярная звезда".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423-2"/>
          <p:cNvPicPr/>
          <p:nvPr/>
        </p:nvPicPr>
        <p:blipFill>
          <a:blip r:embed="rId1"/>
          <a:stretch/>
        </p:blipFill>
        <p:spPr>
          <a:xfrm>
            <a:off x="6715080" y="3500280"/>
            <a:ext cx="2324160" cy="3240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064"/>
          <p:cNvPicPr/>
          <p:nvPr/>
        </p:nvPicPr>
        <p:blipFill>
          <a:blip r:embed="rId2"/>
          <a:stretch/>
        </p:blipFill>
        <p:spPr>
          <a:xfrm>
            <a:off x="142920" y="142920"/>
            <a:ext cx="159696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28400" y="357120"/>
            <a:ext cx="8001000" cy="25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В 1823 он был принят в члены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Северного тайного общества, вскоре став одним из его руководителей.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 В дни перед восстанием проявил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исключительную энергию, став душой предстоящего переворота, настаивал на необходимости решительных действий.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9" descr="64089244_614.jpg"/>
          <p:cNvPicPr/>
          <p:nvPr/>
        </p:nvPicPr>
        <p:blipFill>
          <a:blip r:embed="rId1"/>
          <a:stretch/>
        </p:blipFill>
        <p:spPr>
          <a:xfrm>
            <a:off x="3643200" y="2714760"/>
            <a:ext cx="550080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50560" y="285480"/>
            <a:ext cx="439236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14 декабря 1825 года многие из членов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Северного тайного общества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 изменили своему слову и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не явились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 на Сенатскую площад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Надежда на успех вооруженного восстания разлетелась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Ночью он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был арестован и отвезен во дворец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, где заговорщиков допрашивал сам государь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Оттуда его свезли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в Петропавловскую крепость, и он был заключен в каземат № 17 Алексеевского равелин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Где он продолжал писать стихи, накалывая буквы иглой на кленовых листьях.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078569"/>
          <p:cNvPicPr/>
          <p:nvPr/>
        </p:nvPicPr>
        <p:blipFill>
          <a:blip r:embed="rId1"/>
          <a:stretch/>
        </p:blipFill>
        <p:spPr>
          <a:xfrm>
            <a:off x="4835520" y="214200"/>
            <a:ext cx="41720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5480" y="0"/>
            <a:ext cx="850716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Monotype Corsiva"/>
              </a:rPr>
              <a:t>Из приговора по делу декабристов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28760" y="92844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Рылеев был признан виновным в том, что </a:t>
            </a:r>
            <a:r>
              <a:rPr b="0" lang="ru-RU" sz="2800" spc="-1" strike="noStrike">
                <a:solidFill>
                  <a:srgbClr val="0000cc"/>
                </a:solidFill>
                <a:latin typeface="Monotype Corsiva"/>
                <a:ea typeface="Arial"/>
              </a:rPr>
              <a:t>"</a:t>
            </a:r>
            <a:r>
              <a:rPr b="0" lang="ru-RU" sz="3200" spc="-1" strike="noStrike">
                <a:solidFill>
                  <a:srgbClr val="0000cc"/>
                </a:solidFill>
                <a:latin typeface="Monotype Corsiva"/>
                <a:ea typeface="Arial"/>
              </a:rPr>
              <a:t>умышлял на цареубийство, назначал к совершению оного лица, умышлял на лишение свободы, на изгнание и на истребление Императорской фамилии и приготовлял к тому средства, усилил деятельность Северного общества, управлял оным, приуготовлял способы к бунту, составлял планы, заставлял сочинить манифест о разрушении правительства, сам сочинял и распространял возмутительные песни и стихи и принимал членов, приуготовлял главные средства к мятежу и начальствовал в оных, возбуждал к мятежу нижних чинов чрез их начальников посредством разных обольщений и во время мятежа сам приходил на площадь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7:15:35Z</dcterms:created>
  <dc:creator>Ангелина</dc:creator>
  <dc:description/>
  <dc:language>en-US</dc:language>
  <cp:lastModifiedBy>Umka</cp:lastModifiedBy>
  <dcterms:modified xsi:type="dcterms:W3CDTF">2016-10-04T02:28:28Z</dcterms:modified>
  <cp:revision>32</cp:revision>
  <dc:subject/>
  <dc:title>Слайд 1</dc:title>
</cp:coreProperties>
</file>