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A709-7240-44A7-9E77-6D56D1AE1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CFFA-84F1-4B28-B08B-0657E294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3D20-738E-4BAF-B5FF-F0060FE50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503D-C58A-42A0-8CBF-8C3E14AD5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B917-D8F1-4D10-A8D2-C7CD160B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1628-8395-4AA3-978C-081D5F1D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B5C8-CF1A-470E-95BA-38301633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B569-8651-4199-AB13-BE66A2B1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8F67-8624-49A4-B7CC-4E6CB4B0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E069-A833-4866-869E-59FF0D74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BE6B-151E-4063-B150-403D25D3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DC40-57D3-4F0C-82BB-DA69D9EA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FBB5-B9AE-43A3-B772-8C71D90E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6CE1-88BC-424F-AC7F-41F5251B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6D78-E485-4BF6-A7A3-5C54AFE6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012C-418B-4372-A6A1-7F5892C5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9663-644F-4E7F-B5E5-56DC31937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7929-A9C2-40B9-94ED-7C43DBE7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A5CB-E4B7-4AF9-876F-D169DAE8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349C-D6C2-4E8D-9F06-32D35AB5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85B7-406D-4A50-9231-BF09C751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9584-512D-43E3-9C06-AF62F13E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3C9D-517B-49A4-9281-6E047729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4DD5-12D7-4CF8-B15A-67E24D8E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5EBA-FD3E-469B-8114-4A38257475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FD95-9495-44C8-804D-04ABE27395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150920" y="2995560"/>
            <a:ext cx="691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Заместителя директ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КУ «Нижневартовская общеобразовательная санаторная школ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Маликовой Альбины Адгамов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Заголовок 3" descr=""/>
          <p:cNvPicPr/>
          <p:nvPr/>
        </p:nvPicPr>
        <p:blipFill>
          <a:blip r:embed="rId1"/>
          <a:stretch/>
        </p:blipFill>
        <p:spPr>
          <a:xfrm>
            <a:off x="1500120" y="1212840"/>
            <a:ext cx="62168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оект – это специально организованный учителем и самостоятельно выполняемый учащимися комплекс действий, завершающихся созданием творческого проду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89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етод проекта – это одна из личностно- ориентированных технологий, в основе которой лежит развитие познавательных навыков учащихся, умений самостоятельно конструировать свои знания, ориентироваться в информационном пространстве, развитие критического и творческого мыш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7142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дач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обуждать интерес к предлагаемой деятель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общать детей к процессу позн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влекать детей к воспроизведению образов, используя различные вариант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обуждать детей к совместной поисковой деятельности, экспериментирован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2214360" y="2071800"/>
            <a:ext cx="607212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1. Проблема</a:t>
            </a: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2. Проектирование</a:t>
            </a: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3. Поиск информац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4. Продукт проектной деятельност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5. Презентац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712800" y="42696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356840" y="1643040"/>
            <a:ext cx="70009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1.Мотивацион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2. Планирующе – подготовительны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3. Информационно – операционны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4. Рефлексивно – оценочны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Цель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обуждение интереса и бережного отношения к историческим и культурным ценностям нашего села, воспитание патриотического сознания учащихся и чувства гордости за достижения своих земля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уклет – это рекламное или информационное издание, отпечатанное на одном листе, многократно сложенн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285560" y="171468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тбор нужного матери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азработка дизай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пределение порядка выполнения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езентац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07:14:30Z</dcterms:created>
  <dc:creator>Comp</dc:creator>
  <dc:description/>
  <dc:language>en-US</dc:language>
  <cp:lastModifiedBy>Маликова Альбина</cp:lastModifiedBy>
  <dcterms:modified xsi:type="dcterms:W3CDTF">2016-11-23T14:36:36Z</dcterms:modified>
  <cp:revision>25</cp:revision>
  <dc:subject/>
  <dc:title>Слайд 1</dc:title>
</cp:coreProperties>
</file>