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gif" ContentType="image/gif"/>
  <Override PartName="/ppt/media/image8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move the slide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2C60D-B0F4-4168-A852-16DE8DE90E1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C54FC-5077-4C39-AB8D-27243E8DFCD2}" type="slidenum">
              <a:rPr b="0" lang="ru-RU" sz="1200" spc="-1" strike="noStrike">
                <a:solidFill>
                  <a:srgbClr val="00669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96E90-009D-42D4-9D58-732959C7211E}" type="slidenum">
              <a:rPr b="0" lang="ru-RU" sz="1200" spc="-1" strike="noStrike">
                <a:solidFill>
                  <a:srgbClr val="00669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1ACBC-E5B8-4F61-B895-1C40F4AC1A0F}" type="slidenum">
              <a:rPr b="0" lang="ru-RU" sz="1200" spc="-1" strike="noStrike">
                <a:solidFill>
                  <a:srgbClr val="00669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688E8-BB9C-44AC-A9EB-0EF85F319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3056D-3622-407B-BF28-BB5A46D30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C2BCC-5CE0-4648-817D-6AE433A97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6B19C-2D27-47C5-BC86-755A882AB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02D55-0EF2-43DA-A0EB-7D0BE6638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C7EBB-E19A-4D58-A5C6-28CCBA2A8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68CCA-8ACD-406F-B864-B3F1A239D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D6590-4885-4475-8029-2658E026E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128E0-E0B0-48C7-B033-57991E0BE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C6438-DD88-4B1A-92FC-AC9DA4865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27382-8AB9-4BB6-906D-0C76124D8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BCD05-A399-43B9-B56D-8E6E7CFC7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35D02-EFDF-4818-B0F3-A1C8376E7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8F576-E156-4C7C-85DD-4756050FB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50018-3E58-4C20-8A92-710754D6F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8AEC0-FA6B-4FC7-AA5B-BF9CED038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403E1-7CCF-4C4B-B271-CBC1DEE41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4DA76-DB79-4566-AAE7-5233EE89D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8D56B-32EF-48E0-90FC-6745EB31D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B2776-A370-42FA-BC9D-07ACCE65B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B159D-09B7-4874-B1B7-AD9FB2128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5B9B7-77EB-44AB-988D-E38370631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CD3F8-85F7-404A-8A7E-767E83F08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E14AF-22E4-4839-8738-F69DAF291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6C3BC-A770-49D1-95D5-227035EB7246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5988F-4668-4018-AB2C-8512D50DF2A4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" Target="slide2.xml"/><Relationship Id="rId5" Type="http://schemas.openxmlformats.org/officeDocument/2006/relationships/image" Target="../media/image4.gif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" Target="slide2.xml"/><Relationship Id="rId4" Type="http://schemas.openxmlformats.org/officeDocument/2006/relationships/image" Target="../media/image4.gi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692000" y="620640"/>
            <a:ext cx="698508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Математика </a:t>
            </a:r>
            <a:br>
              <a:rPr sz="5200"/>
            </a:b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1 класс</a:t>
            </a:r>
            <a:br>
              <a:rPr sz="5200"/>
            </a:br>
            <a:br>
              <a:rPr sz="5200"/>
            </a:b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«Решение задач»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2488680" y="5157360"/>
            <a:ext cx="614700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99"/>
                </a:solidFill>
                <a:latin typeface="Verdana"/>
              </a:rPr>
              <a:t>Фатхуллина Гульфия Альбертовна</a:t>
            </a:r>
            <a:endParaRPr b="1" lang="en-US" sz="1600" spc="-1" strike="noStrike">
              <a:solidFill>
                <a:srgbClr val="006699"/>
              </a:solidFill>
              <a:latin typeface="Verdana"/>
            </a:endParaRPr>
          </a:p>
          <a:p>
            <a:pPr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99"/>
                </a:solidFill>
                <a:latin typeface="Verdana"/>
              </a:rPr>
              <a:t>Учитель начальных классов</a:t>
            </a:r>
            <a:endParaRPr b="1" lang="en-US" sz="1600" spc="-1" strike="noStrike">
              <a:solidFill>
                <a:srgbClr val="006699"/>
              </a:solidFill>
              <a:latin typeface="Verdana"/>
            </a:endParaRPr>
          </a:p>
          <a:p>
            <a:pPr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99"/>
                </a:solidFill>
                <a:latin typeface="Verdana"/>
              </a:rPr>
              <a:t>МАОУ «Лицей №121»</a:t>
            </a:r>
            <a:endParaRPr b="1" lang="en-US" sz="16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050"/>
                </a:solidFill>
                <a:latin typeface="Verdana"/>
              </a:rPr>
              <a:t>Задача 2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13840" y="1500120"/>
            <a:ext cx="8472600" cy="46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00"/>
                </a:solidFill>
                <a:latin typeface="Verdana"/>
              </a:rPr>
              <a:t>      </a:t>
            </a:r>
            <a:r>
              <a:rPr b="0" lang="en-US" sz="4000" spc="-1" strike="noStrike">
                <a:solidFill>
                  <a:srgbClr val="990000"/>
                </a:solidFill>
                <a:latin typeface="Verdana"/>
              </a:rPr>
              <a:t>На стоянке было 9 машин. 3 машины уехали. Сколько машин осталось?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9" name="AutoShape 4"/>
          <p:cNvSpPr/>
          <p:nvPr/>
        </p:nvSpPr>
        <p:spPr>
          <a:xfrm>
            <a:off x="1908000" y="3071880"/>
            <a:ext cx="6983640" cy="3786120"/>
          </a:xfrm>
          <a:prstGeom prst="horizontalScroll">
            <a:avLst>
              <a:gd name="adj" fmla="val 12500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Arial"/>
              </a:rPr>
              <a:t>9 – 3 = 6 (м.)</a:t>
            </a:r>
            <a:endParaRPr b="0" lang="en-US" sz="40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Arial"/>
              </a:rPr>
              <a:t>Ответ: 6 машин.</a:t>
            </a:r>
            <a:endParaRPr b="0" lang="en-US" sz="40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5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6" dur="5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9" dur="5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050"/>
                </a:solidFill>
                <a:latin typeface="Verdana"/>
              </a:rPr>
              <a:t>Задача 3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285840" y="1356840"/>
            <a:ext cx="857232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00"/>
                </a:solidFill>
                <a:latin typeface="Verdana"/>
              </a:rPr>
              <a:t>Женя пришила 5 красных пуговиц и 4 зелёных. Сколько всего пуговиц пришила Женя?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2" name="AutoShape 4"/>
          <p:cNvSpPr/>
          <p:nvPr/>
        </p:nvSpPr>
        <p:spPr>
          <a:xfrm>
            <a:off x="2050920" y="3286080"/>
            <a:ext cx="6553440" cy="3571920"/>
          </a:xfrm>
          <a:prstGeom prst="horizontalScroll">
            <a:avLst>
              <a:gd name="adj" fmla="val 12500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Arial"/>
              </a:rPr>
              <a:t>5 + 4 = 9 (п.)</a:t>
            </a:r>
            <a:endParaRPr b="0" lang="en-US" sz="40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Arial"/>
              </a:rPr>
              <a:t>Ответ: 9 пуговиц.</a:t>
            </a:r>
            <a:endParaRPr b="0" lang="en-US" sz="40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6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9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2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8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6666"/>
                </a:solidFill>
                <a:latin typeface="Verdana"/>
              </a:rPr>
              <a:t>СРАВНИ</a:t>
            </a:r>
            <a:br>
              <a:rPr sz="4000"/>
            </a:br>
            <a:r>
              <a:rPr b="0" i="1" lang="ru-RU" sz="4000" spc="-1" strike="noStrike">
                <a:solidFill>
                  <a:srgbClr val="006666"/>
                </a:solidFill>
                <a:latin typeface="Verdana"/>
              </a:rPr>
              <a:t>Покажи знаки: </a:t>
            </a:r>
            <a:r>
              <a:rPr b="0" i="1" lang="en-US" sz="4000" spc="-1" strike="noStrike">
                <a:solidFill>
                  <a:srgbClr val="006666"/>
                </a:solidFill>
                <a:latin typeface="Verdana"/>
              </a:rPr>
              <a:t>&lt; &gt;</a:t>
            </a:r>
            <a:r>
              <a:rPr b="0" i="1" lang="ru-RU" sz="4000" spc="-1" strike="noStrike">
                <a:solidFill>
                  <a:srgbClr val="006666"/>
                </a:solidFill>
                <a:latin typeface="Verdana"/>
              </a:rPr>
              <a:t>  </a:t>
            </a:r>
            <a:r>
              <a:rPr b="0" i="1" lang="en-US" sz="4000" spc="-1" strike="noStrike">
                <a:solidFill>
                  <a:srgbClr val="006666"/>
                </a:solidFill>
                <a:latin typeface="Verdana"/>
              </a:rPr>
              <a:t>=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Picture 3" descr=""/>
          <p:cNvPicPr/>
          <p:nvPr/>
        </p:nvPicPr>
        <p:blipFill>
          <a:blip r:embed="rId1"/>
          <a:stretch/>
        </p:blipFill>
        <p:spPr>
          <a:xfrm>
            <a:off x="539640" y="2195640"/>
            <a:ext cx="3240360" cy="297648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4" descr=""/>
          <p:cNvPicPr/>
          <p:nvPr/>
        </p:nvPicPr>
        <p:blipFill>
          <a:blip r:embed="rId2"/>
          <a:stretch/>
        </p:blipFill>
        <p:spPr>
          <a:xfrm>
            <a:off x="5292720" y="2205000"/>
            <a:ext cx="3166920" cy="302436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5" descr=""/>
          <p:cNvPicPr/>
          <p:nvPr/>
        </p:nvPicPr>
        <p:blipFill>
          <a:blip r:embed="rId3"/>
          <a:stretch/>
        </p:blipFill>
        <p:spPr>
          <a:xfrm>
            <a:off x="4211640" y="3141720"/>
            <a:ext cx="581040" cy="581040"/>
          </a:xfrm>
          <a:prstGeom prst="rect">
            <a:avLst/>
          </a:prstGeom>
          <a:ln w="0">
            <a:noFill/>
          </a:ln>
        </p:spPr>
      </p:pic>
      <p:sp>
        <p:nvSpPr>
          <p:cNvPr id="180" name="Rectangle 6"/>
          <p:cNvSpPr/>
          <p:nvPr/>
        </p:nvSpPr>
        <p:spPr>
          <a:xfrm>
            <a:off x="3851280" y="2924280"/>
            <a:ext cx="1079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6666"/>
                </a:solidFill>
                <a:latin typeface="Arial"/>
              </a:rPr>
              <a:t>  </a:t>
            </a:r>
            <a:r>
              <a:rPr b="0" i="1" lang="en-US" sz="6000" spc="-1" strike="noStrike">
                <a:solidFill>
                  <a:srgbClr val="006666"/>
                </a:solidFill>
                <a:latin typeface="Arial"/>
              </a:rPr>
              <a:t>&lt;</a:t>
            </a:r>
            <a:endParaRPr b="0" lang="en-US" sz="6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1" name="AutoShape 8">
            <a:hlinkClick r:id="" action="ppaction://hlinkshowjump?jump=previousslide"/>
          </p:cNvPr>
          <p:cNvSpPr/>
          <p:nvPr/>
        </p:nvSpPr>
        <p:spPr>
          <a:xfrm>
            <a:off x="8028000" y="6464160"/>
            <a:ext cx="466560" cy="393840"/>
          </a:xfrm>
          <a:custGeom>
            <a:avLst/>
            <a:gdLst>
              <a:gd name="textAreaLeft" fmla="*/ 25200 w 466560"/>
              <a:gd name="textAreaRight" fmla="*/ 441360 w 466560"/>
              <a:gd name="textAreaTop" fmla="*/ 25200 h 393840"/>
              <a:gd name="textAreaBottom" fmla="*/ 368640 h 393840"/>
            </a:gdLst>
            <a:ahLst/>
            <a:rect l="textAreaLeft" t="textAreaTop" r="textAreaRight" b="textAreaBottom"/>
            <a:pathLst>
              <a:path w="25585" h="21600">
                <a:moveTo>
                  <a:pt x="0" y="0"/>
                </a:moveTo>
                <a:lnTo>
                  <a:pt x="25585" y="0"/>
                </a:lnTo>
                <a:lnTo>
                  <a:pt x="25585" y="21600"/>
                </a:lnTo>
                <a:lnTo>
                  <a:pt x="0" y="21600"/>
                </a:lnTo>
                <a:close/>
              </a:path>
              <a:path fill="lightenLess" w="25585" h="21600">
                <a:moveTo>
                  <a:pt x="0" y="0"/>
                </a:moveTo>
                <a:lnTo>
                  <a:pt x="25585" y="0"/>
                </a:lnTo>
                <a:lnTo>
                  <a:pt x="24185" y="1400"/>
                </a:lnTo>
                <a:lnTo>
                  <a:pt x="1400" y="1400"/>
                </a:lnTo>
                <a:close/>
              </a:path>
              <a:path fill="darken" w="25585" h="21600">
                <a:moveTo>
                  <a:pt x="25585" y="0"/>
                </a:moveTo>
                <a:lnTo>
                  <a:pt x="25585" y="21600"/>
                </a:lnTo>
                <a:lnTo>
                  <a:pt x="24185" y="20200"/>
                </a:lnTo>
                <a:lnTo>
                  <a:pt x="24185" y="1400"/>
                </a:lnTo>
                <a:close/>
              </a:path>
              <a:path fill="darkenLess" w="25585" h="21600">
                <a:moveTo>
                  <a:pt x="255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85" y="20200"/>
                </a:lnTo>
                <a:close/>
              </a:path>
              <a:path fill="lighten" w="255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85" h="21600">
                <a:moveTo>
                  <a:pt x="5786" y="10800"/>
                </a:moveTo>
                <a:lnTo>
                  <a:pt x="19799" y="3794"/>
                </a:lnTo>
                <a:lnTo>
                  <a:pt x="19799" y="17806"/>
                </a:lnTo>
                <a:close/>
              </a:path>
            </a:pathLst>
          </a:custGeom>
          <a:solidFill>
            <a:srgbClr val="cc99ff"/>
          </a:solidFill>
          <a:ln w="93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2" name="AutoShape 9">
            <a:hlinkClick r:id="" action="ppaction://hlinkshowjump?jump=nextslide"/>
          </p:cNvPr>
          <p:cNvSpPr/>
          <p:nvPr/>
        </p:nvSpPr>
        <p:spPr>
          <a:xfrm>
            <a:off x="8675640" y="6453360"/>
            <a:ext cx="468360" cy="404640"/>
          </a:xfrm>
          <a:custGeom>
            <a:avLst/>
            <a:gdLst>
              <a:gd name="textAreaLeft" fmla="*/ 25920 w 468360"/>
              <a:gd name="textAreaRight" fmla="*/ 442440 w 468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4998" h="21600">
                <a:moveTo>
                  <a:pt x="0" y="0"/>
                </a:moveTo>
                <a:lnTo>
                  <a:pt x="24998" y="0"/>
                </a:lnTo>
                <a:lnTo>
                  <a:pt x="24998" y="21600"/>
                </a:lnTo>
                <a:lnTo>
                  <a:pt x="0" y="21600"/>
                </a:lnTo>
                <a:close/>
              </a:path>
              <a:path fill="lightenLess" w="24998" h="21600">
                <a:moveTo>
                  <a:pt x="0" y="0"/>
                </a:moveTo>
                <a:lnTo>
                  <a:pt x="24998" y="0"/>
                </a:lnTo>
                <a:lnTo>
                  <a:pt x="23598" y="1400"/>
                </a:lnTo>
                <a:lnTo>
                  <a:pt x="1400" y="1400"/>
                </a:lnTo>
                <a:close/>
              </a:path>
              <a:path fill="darken" w="24998" h="21600">
                <a:moveTo>
                  <a:pt x="24998" y="0"/>
                </a:moveTo>
                <a:lnTo>
                  <a:pt x="24998" y="21600"/>
                </a:lnTo>
                <a:lnTo>
                  <a:pt x="23598" y="20200"/>
                </a:lnTo>
                <a:lnTo>
                  <a:pt x="23598" y="1400"/>
                </a:lnTo>
                <a:close/>
              </a:path>
              <a:path fill="darkenLess" w="24998" h="21600">
                <a:moveTo>
                  <a:pt x="249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98" y="20200"/>
                </a:lnTo>
                <a:close/>
              </a:path>
              <a:path fill="lighten" w="249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998" h="21600">
                <a:moveTo>
                  <a:pt x="5493" y="3794"/>
                </a:moveTo>
                <a:lnTo>
                  <a:pt x="19506" y="10800"/>
                </a:lnTo>
                <a:lnTo>
                  <a:pt x="5493" y="17806"/>
                </a:lnTo>
                <a:close/>
              </a:path>
            </a:pathLst>
          </a:custGeom>
          <a:solidFill>
            <a:srgbClr val="cc99ff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83" name="Picture 12" descr="3STR3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7380360" y="6475320"/>
            <a:ext cx="431640" cy="38268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6200"/>
                            </p:stCondLst>
                            <p:childTnLst>
                              <p:par>
                                <p:cTn id="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8200"/>
                            </p:stCondLst>
                            <p:childTnLst>
                              <p:par>
                                <p:cTn id="1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2" descr=""/>
          <p:cNvPicPr/>
          <p:nvPr/>
        </p:nvPicPr>
        <p:blipFill>
          <a:blip r:embed="rId1"/>
          <a:stretch/>
        </p:blipFill>
        <p:spPr>
          <a:xfrm>
            <a:off x="900000" y="1341360"/>
            <a:ext cx="2664000" cy="410544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3" descr=""/>
          <p:cNvPicPr/>
          <p:nvPr/>
        </p:nvPicPr>
        <p:blipFill>
          <a:blip r:embed="rId2"/>
          <a:stretch/>
        </p:blipFill>
        <p:spPr>
          <a:xfrm>
            <a:off x="5580000" y="1341360"/>
            <a:ext cx="2737080" cy="410364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4" descr=""/>
          <p:cNvPicPr/>
          <p:nvPr/>
        </p:nvPicPr>
        <p:blipFill>
          <a:blip r:embed="rId3"/>
          <a:stretch/>
        </p:blipFill>
        <p:spPr>
          <a:xfrm>
            <a:off x="4211640" y="3284640"/>
            <a:ext cx="581040" cy="581040"/>
          </a:xfrm>
          <a:prstGeom prst="rect">
            <a:avLst/>
          </a:prstGeom>
          <a:ln w="0">
            <a:noFill/>
          </a:ln>
        </p:spPr>
      </p:pic>
      <p:sp>
        <p:nvSpPr>
          <p:cNvPr id="187" name="Rectangle 5"/>
          <p:cNvSpPr/>
          <p:nvPr/>
        </p:nvSpPr>
        <p:spPr>
          <a:xfrm>
            <a:off x="4211640" y="2349360"/>
            <a:ext cx="93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6666"/>
                </a:solidFill>
                <a:latin typeface="Arial"/>
              </a:rPr>
              <a:t>   </a:t>
            </a:r>
            <a:endParaRPr b="0" lang="en-US" sz="4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8" name="Rectangle 6"/>
          <p:cNvSpPr/>
          <p:nvPr/>
        </p:nvSpPr>
        <p:spPr>
          <a:xfrm>
            <a:off x="4141800" y="3068640"/>
            <a:ext cx="62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6666"/>
                </a:solidFill>
                <a:latin typeface="Arial"/>
              </a:rPr>
              <a:t>=</a:t>
            </a:r>
            <a:endParaRPr b="0" lang="en-US" sz="6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9" name="Rectangle 7"/>
          <p:cNvSpPr/>
          <p:nvPr/>
        </p:nvSpPr>
        <p:spPr>
          <a:xfrm>
            <a:off x="4411800" y="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0" name="AutoShape 9">
            <a:hlinkClick r:id="" action="ppaction://hlinkshowjump?jump=previousslide"/>
          </p:cNvPr>
          <p:cNvSpPr/>
          <p:nvPr/>
        </p:nvSpPr>
        <p:spPr>
          <a:xfrm>
            <a:off x="8028000" y="6464160"/>
            <a:ext cx="466560" cy="393840"/>
          </a:xfrm>
          <a:custGeom>
            <a:avLst/>
            <a:gdLst>
              <a:gd name="textAreaLeft" fmla="*/ 25200 w 466560"/>
              <a:gd name="textAreaRight" fmla="*/ 441360 w 466560"/>
              <a:gd name="textAreaTop" fmla="*/ 25200 h 393840"/>
              <a:gd name="textAreaBottom" fmla="*/ 368640 h 393840"/>
            </a:gdLst>
            <a:ahLst/>
            <a:rect l="textAreaLeft" t="textAreaTop" r="textAreaRight" b="textAreaBottom"/>
            <a:pathLst>
              <a:path w="25585" h="21600">
                <a:moveTo>
                  <a:pt x="0" y="0"/>
                </a:moveTo>
                <a:lnTo>
                  <a:pt x="25585" y="0"/>
                </a:lnTo>
                <a:lnTo>
                  <a:pt x="25585" y="21600"/>
                </a:lnTo>
                <a:lnTo>
                  <a:pt x="0" y="21600"/>
                </a:lnTo>
                <a:close/>
              </a:path>
              <a:path fill="lightenLess" w="25585" h="21600">
                <a:moveTo>
                  <a:pt x="0" y="0"/>
                </a:moveTo>
                <a:lnTo>
                  <a:pt x="25585" y="0"/>
                </a:lnTo>
                <a:lnTo>
                  <a:pt x="24185" y="1400"/>
                </a:lnTo>
                <a:lnTo>
                  <a:pt x="1400" y="1400"/>
                </a:lnTo>
                <a:close/>
              </a:path>
              <a:path fill="darken" w="25585" h="21600">
                <a:moveTo>
                  <a:pt x="25585" y="0"/>
                </a:moveTo>
                <a:lnTo>
                  <a:pt x="25585" y="21600"/>
                </a:lnTo>
                <a:lnTo>
                  <a:pt x="24185" y="20200"/>
                </a:lnTo>
                <a:lnTo>
                  <a:pt x="24185" y="1400"/>
                </a:lnTo>
                <a:close/>
              </a:path>
              <a:path fill="darkenLess" w="25585" h="21600">
                <a:moveTo>
                  <a:pt x="255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85" y="20200"/>
                </a:lnTo>
                <a:close/>
              </a:path>
              <a:path fill="lighten" w="255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85" h="21600">
                <a:moveTo>
                  <a:pt x="5786" y="10800"/>
                </a:moveTo>
                <a:lnTo>
                  <a:pt x="19799" y="3794"/>
                </a:lnTo>
                <a:lnTo>
                  <a:pt x="19799" y="17806"/>
                </a:lnTo>
                <a:close/>
              </a:path>
            </a:pathLst>
          </a:custGeom>
          <a:solidFill>
            <a:srgbClr val="cc99ff"/>
          </a:solidFill>
          <a:ln w="93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1" name="AutoShape 10">
            <a:hlinkClick r:id="" action="ppaction://hlinkshowjump?jump=nextslide"/>
          </p:cNvPr>
          <p:cNvSpPr/>
          <p:nvPr/>
        </p:nvSpPr>
        <p:spPr>
          <a:xfrm>
            <a:off x="8675640" y="6453360"/>
            <a:ext cx="468360" cy="404640"/>
          </a:xfrm>
          <a:custGeom>
            <a:avLst/>
            <a:gdLst>
              <a:gd name="textAreaLeft" fmla="*/ 25920 w 468360"/>
              <a:gd name="textAreaRight" fmla="*/ 442440 w 468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4998" h="21600">
                <a:moveTo>
                  <a:pt x="0" y="0"/>
                </a:moveTo>
                <a:lnTo>
                  <a:pt x="24998" y="0"/>
                </a:lnTo>
                <a:lnTo>
                  <a:pt x="24998" y="21600"/>
                </a:lnTo>
                <a:lnTo>
                  <a:pt x="0" y="21600"/>
                </a:lnTo>
                <a:close/>
              </a:path>
              <a:path fill="lightenLess" w="24998" h="21600">
                <a:moveTo>
                  <a:pt x="0" y="0"/>
                </a:moveTo>
                <a:lnTo>
                  <a:pt x="24998" y="0"/>
                </a:lnTo>
                <a:lnTo>
                  <a:pt x="23598" y="1400"/>
                </a:lnTo>
                <a:lnTo>
                  <a:pt x="1400" y="1400"/>
                </a:lnTo>
                <a:close/>
              </a:path>
              <a:path fill="darken" w="24998" h="21600">
                <a:moveTo>
                  <a:pt x="24998" y="0"/>
                </a:moveTo>
                <a:lnTo>
                  <a:pt x="24998" y="21600"/>
                </a:lnTo>
                <a:lnTo>
                  <a:pt x="23598" y="20200"/>
                </a:lnTo>
                <a:lnTo>
                  <a:pt x="23598" y="1400"/>
                </a:lnTo>
                <a:close/>
              </a:path>
              <a:path fill="darkenLess" w="24998" h="21600">
                <a:moveTo>
                  <a:pt x="249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98" y="20200"/>
                </a:lnTo>
                <a:close/>
              </a:path>
              <a:path fill="lighten" w="249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998" h="21600">
                <a:moveTo>
                  <a:pt x="5493" y="3794"/>
                </a:moveTo>
                <a:lnTo>
                  <a:pt x="19506" y="10800"/>
                </a:lnTo>
                <a:lnTo>
                  <a:pt x="5493" y="17806"/>
                </a:lnTo>
                <a:close/>
              </a:path>
            </a:pathLst>
          </a:custGeom>
          <a:solidFill>
            <a:srgbClr val="cc99ff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 spd="med">
    <p:cover dir="d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2" descr=""/>
          <p:cNvPicPr/>
          <p:nvPr/>
        </p:nvPicPr>
        <p:blipFill>
          <a:blip r:embed="rId1"/>
          <a:stretch/>
        </p:blipFill>
        <p:spPr>
          <a:xfrm>
            <a:off x="468360" y="1770120"/>
            <a:ext cx="3529080" cy="326052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3" descr=""/>
          <p:cNvPicPr/>
          <p:nvPr/>
        </p:nvPicPr>
        <p:blipFill>
          <a:blip r:embed="rId2"/>
          <a:stretch/>
        </p:blipFill>
        <p:spPr>
          <a:xfrm>
            <a:off x="5076720" y="1773360"/>
            <a:ext cx="3598920" cy="332244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4" descr=""/>
          <p:cNvPicPr/>
          <p:nvPr/>
        </p:nvPicPr>
        <p:blipFill>
          <a:blip r:embed="rId3"/>
          <a:stretch/>
        </p:blipFill>
        <p:spPr>
          <a:xfrm>
            <a:off x="4211640" y="3284640"/>
            <a:ext cx="581040" cy="581040"/>
          </a:xfrm>
          <a:prstGeom prst="rect">
            <a:avLst/>
          </a:prstGeom>
          <a:ln w="0">
            <a:noFill/>
          </a:ln>
        </p:spPr>
      </p:pic>
      <p:sp>
        <p:nvSpPr>
          <p:cNvPr id="195" name="Rectangle 5"/>
          <p:cNvSpPr/>
          <p:nvPr/>
        </p:nvSpPr>
        <p:spPr>
          <a:xfrm>
            <a:off x="4213080" y="3068640"/>
            <a:ext cx="62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6666"/>
                </a:solidFill>
                <a:latin typeface="Arial"/>
              </a:rPr>
              <a:t>&gt;</a:t>
            </a:r>
            <a:endParaRPr b="0" lang="en-US" sz="6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6" name="AutoShape 8">
            <a:hlinkClick r:id="" action="ppaction://hlinkshowjump?jump=previousslide"/>
          </p:cNvPr>
          <p:cNvSpPr/>
          <p:nvPr/>
        </p:nvSpPr>
        <p:spPr>
          <a:xfrm>
            <a:off x="8028000" y="6464160"/>
            <a:ext cx="466560" cy="393840"/>
          </a:xfrm>
          <a:custGeom>
            <a:avLst/>
            <a:gdLst>
              <a:gd name="textAreaLeft" fmla="*/ 25200 w 466560"/>
              <a:gd name="textAreaRight" fmla="*/ 441360 w 466560"/>
              <a:gd name="textAreaTop" fmla="*/ 25200 h 393840"/>
              <a:gd name="textAreaBottom" fmla="*/ 368640 h 393840"/>
            </a:gdLst>
            <a:ahLst/>
            <a:rect l="textAreaLeft" t="textAreaTop" r="textAreaRight" b="textAreaBottom"/>
            <a:pathLst>
              <a:path w="25585" h="21600">
                <a:moveTo>
                  <a:pt x="0" y="0"/>
                </a:moveTo>
                <a:lnTo>
                  <a:pt x="25585" y="0"/>
                </a:lnTo>
                <a:lnTo>
                  <a:pt x="25585" y="21600"/>
                </a:lnTo>
                <a:lnTo>
                  <a:pt x="0" y="21600"/>
                </a:lnTo>
                <a:close/>
              </a:path>
              <a:path fill="lightenLess" w="25585" h="21600">
                <a:moveTo>
                  <a:pt x="0" y="0"/>
                </a:moveTo>
                <a:lnTo>
                  <a:pt x="25585" y="0"/>
                </a:lnTo>
                <a:lnTo>
                  <a:pt x="24185" y="1400"/>
                </a:lnTo>
                <a:lnTo>
                  <a:pt x="1400" y="1400"/>
                </a:lnTo>
                <a:close/>
              </a:path>
              <a:path fill="darken" w="25585" h="21600">
                <a:moveTo>
                  <a:pt x="25585" y="0"/>
                </a:moveTo>
                <a:lnTo>
                  <a:pt x="25585" y="21600"/>
                </a:lnTo>
                <a:lnTo>
                  <a:pt x="24185" y="20200"/>
                </a:lnTo>
                <a:lnTo>
                  <a:pt x="24185" y="1400"/>
                </a:lnTo>
                <a:close/>
              </a:path>
              <a:path fill="darkenLess" w="25585" h="21600">
                <a:moveTo>
                  <a:pt x="255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85" y="20200"/>
                </a:lnTo>
                <a:close/>
              </a:path>
              <a:path fill="lighten" w="255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85" h="21600">
                <a:moveTo>
                  <a:pt x="5786" y="10800"/>
                </a:moveTo>
                <a:lnTo>
                  <a:pt x="19799" y="3794"/>
                </a:lnTo>
                <a:lnTo>
                  <a:pt x="19799" y="17806"/>
                </a:lnTo>
                <a:close/>
              </a:path>
            </a:pathLst>
          </a:custGeom>
          <a:solidFill>
            <a:srgbClr val="cc99ff"/>
          </a:solidFill>
          <a:ln w="93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7" name="AutoShape 9">
            <a:hlinkClick r:id="" action="ppaction://hlinkshowjump?jump=nextslide"/>
          </p:cNvPr>
          <p:cNvSpPr/>
          <p:nvPr/>
        </p:nvSpPr>
        <p:spPr>
          <a:xfrm>
            <a:off x="8675640" y="6453360"/>
            <a:ext cx="468360" cy="404640"/>
          </a:xfrm>
          <a:custGeom>
            <a:avLst/>
            <a:gdLst>
              <a:gd name="textAreaLeft" fmla="*/ 25920 w 468360"/>
              <a:gd name="textAreaRight" fmla="*/ 442440 w 468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4998" h="21600">
                <a:moveTo>
                  <a:pt x="0" y="0"/>
                </a:moveTo>
                <a:lnTo>
                  <a:pt x="24998" y="0"/>
                </a:lnTo>
                <a:lnTo>
                  <a:pt x="24998" y="21600"/>
                </a:lnTo>
                <a:lnTo>
                  <a:pt x="0" y="21600"/>
                </a:lnTo>
                <a:close/>
              </a:path>
              <a:path fill="lightenLess" w="24998" h="21600">
                <a:moveTo>
                  <a:pt x="0" y="0"/>
                </a:moveTo>
                <a:lnTo>
                  <a:pt x="24998" y="0"/>
                </a:lnTo>
                <a:lnTo>
                  <a:pt x="23598" y="1400"/>
                </a:lnTo>
                <a:lnTo>
                  <a:pt x="1400" y="1400"/>
                </a:lnTo>
                <a:close/>
              </a:path>
              <a:path fill="darken" w="24998" h="21600">
                <a:moveTo>
                  <a:pt x="24998" y="0"/>
                </a:moveTo>
                <a:lnTo>
                  <a:pt x="24998" y="21600"/>
                </a:lnTo>
                <a:lnTo>
                  <a:pt x="23598" y="20200"/>
                </a:lnTo>
                <a:lnTo>
                  <a:pt x="23598" y="1400"/>
                </a:lnTo>
                <a:close/>
              </a:path>
              <a:path fill="darkenLess" w="24998" h="21600">
                <a:moveTo>
                  <a:pt x="249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98" y="20200"/>
                </a:lnTo>
                <a:close/>
              </a:path>
              <a:path fill="lighten" w="249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998" h="21600">
                <a:moveTo>
                  <a:pt x="5493" y="3794"/>
                </a:moveTo>
                <a:lnTo>
                  <a:pt x="19506" y="10800"/>
                </a:lnTo>
                <a:lnTo>
                  <a:pt x="5493" y="17806"/>
                </a:lnTo>
                <a:close/>
              </a:path>
            </a:pathLst>
          </a:custGeom>
          <a:solidFill>
            <a:srgbClr val="cc99ff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 spd="med">
    <p:cover dir="d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2000"/>
                            </p:stCondLst>
                            <p:childTnLst>
                              <p:par>
                                <p:cTn id="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68360" y="537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Сколько осталось?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9" name="Rectangle 3"/>
          <p:cNvSpPr/>
          <p:nvPr/>
        </p:nvSpPr>
        <p:spPr>
          <a:xfrm>
            <a:off x="179280" y="3140640"/>
            <a:ext cx="417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Сколько букашек на листе? 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200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4324320" cy="298116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5" descr=""/>
          <p:cNvPicPr/>
          <p:nvPr/>
        </p:nvPicPr>
        <p:blipFill>
          <a:blip r:embed="rId2"/>
          <a:stretch/>
        </p:blipFill>
        <p:spPr>
          <a:xfrm>
            <a:off x="4319640" y="1557360"/>
            <a:ext cx="4824360" cy="3389400"/>
          </a:xfrm>
          <a:prstGeom prst="rect">
            <a:avLst/>
          </a:prstGeom>
          <a:ln w="0">
            <a:noFill/>
          </a:ln>
        </p:spPr>
      </p:pic>
      <p:sp>
        <p:nvSpPr>
          <p:cNvPr id="202" name="Rectangle 6"/>
          <p:cNvSpPr/>
          <p:nvPr/>
        </p:nvSpPr>
        <p:spPr>
          <a:xfrm>
            <a:off x="4790880" y="4967640"/>
            <a:ext cx="252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3465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Что произошло?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3" name="AutoShape 8">
            <a:hlinkClick r:id="" action="ppaction://hlinkshowjump?jump=previousslide"/>
          </p:cNvPr>
          <p:cNvSpPr/>
          <p:nvPr/>
        </p:nvSpPr>
        <p:spPr>
          <a:xfrm>
            <a:off x="8028000" y="6464160"/>
            <a:ext cx="466560" cy="393840"/>
          </a:xfrm>
          <a:custGeom>
            <a:avLst/>
            <a:gdLst>
              <a:gd name="textAreaLeft" fmla="*/ 25200 w 466560"/>
              <a:gd name="textAreaRight" fmla="*/ 441360 w 466560"/>
              <a:gd name="textAreaTop" fmla="*/ 25200 h 393840"/>
              <a:gd name="textAreaBottom" fmla="*/ 368640 h 393840"/>
            </a:gdLst>
            <a:ahLst/>
            <a:rect l="textAreaLeft" t="textAreaTop" r="textAreaRight" b="textAreaBottom"/>
            <a:pathLst>
              <a:path w="25585" h="21600">
                <a:moveTo>
                  <a:pt x="0" y="0"/>
                </a:moveTo>
                <a:lnTo>
                  <a:pt x="25585" y="0"/>
                </a:lnTo>
                <a:lnTo>
                  <a:pt x="25585" y="21600"/>
                </a:lnTo>
                <a:lnTo>
                  <a:pt x="0" y="21600"/>
                </a:lnTo>
                <a:close/>
              </a:path>
              <a:path fill="lightenLess" w="25585" h="21600">
                <a:moveTo>
                  <a:pt x="0" y="0"/>
                </a:moveTo>
                <a:lnTo>
                  <a:pt x="25585" y="0"/>
                </a:lnTo>
                <a:lnTo>
                  <a:pt x="24185" y="1400"/>
                </a:lnTo>
                <a:lnTo>
                  <a:pt x="1400" y="1400"/>
                </a:lnTo>
                <a:close/>
              </a:path>
              <a:path fill="darken" w="25585" h="21600">
                <a:moveTo>
                  <a:pt x="25585" y="0"/>
                </a:moveTo>
                <a:lnTo>
                  <a:pt x="25585" y="21600"/>
                </a:lnTo>
                <a:lnTo>
                  <a:pt x="24185" y="20200"/>
                </a:lnTo>
                <a:lnTo>
                  <a:pt x="24185" y="1400"/>
                </a:lnTo>
                <a:close/>
              </a:path>
              <a:path fill="darkenLess" w="25585" h="21600">
                <a:moveTo>
                  <a:pt x="255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85" y="20200"/>
                </a:lnTo>
                <a:close/>
              </a:path>
              <a:path fill="lighten" w="255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85" h="21600">
                <a:moveTo>
                  <a:pt x="5786" y="10800"/>
                </a:moveTo>
                <a:lnTo>
                  <a:pt x="19799" y="3794"/>
                </a:lnTo>
                <a:lnTo>
                  <a:pt x="19799" y="17806"/>
                </a:lnTo>
                <a:close/>
              </a:path>
            </a:pathLst>
          </a:custGeom>
          <a:solidFill>
            <a:srgbClr val="cc99ff"/>
          </a:solidFill>
          <a:ln w="93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4" name="AutoShape 9">
            <a:hlinkClick r:id="" action="ppaction://hlinkshowjump?jump=nextslide"/>
          </p:cNvPr>
          <p:cNvSpPr/>
          <p:nvPr/>
        </p:nvSpPr>
        <p:spPr>
          <a:xfrm>
            <a:off x="8567640" y="6453360"/>
            <a:ext cx="576360" cy="404640"/>
          </a:xfrm>
          <a:custGeom>
            <a:avLst/>
            <a:gdLst>
              <a:gd name="textAreaLeft" fmla="*/ 25920 w 576360"/>
              <a:gd name="textAreaRight" fmla="*/ 550440 w 576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0758" h="21600">
                <a:moveTo>
                  <a:pt x="0" y="0"/>
                </a:moveTo>
                <a:lnTo>
                  <a:pt x="30758" y="0"/>
                </a:lnTo>
                <a:lnTo>
                  <a:pt x="30758" y="21600"/>
                </a:lnTo>
                <a:lnTo>
                  <a:pt x="0" y="21600"/>
                </a:lnTo>
                <a:close/>
              </a:path>
              <a:path fill="lightenLess" w="30758" h="21600">
                <a:moveTo>
                  <a:pt x="0" y="0"/>
                </a:moveTo>
                <a:lnTo>
                  <a:pt x="30758" y="0"/>
                </a:lnTo>
                <a:lnTo>
                  <a:pt x="29358" y="1400"/>
                </a:lnTo>
                <a:lnTo>
                  <a:pt x="1400" y="1400"/>
                </a:lnTo>
                <a:close/>
              </a:path>
              <a:path fill="darken" w="30758" h="21600">
                <a:moveTo>
                  <a:pt x="30758" y="0"/>
                </a:moveTo>
                <a:lnTo>
                  <a:pt x="30758" y="21600"/>
                </a:lnTo>
                <a:lnTo>
                  <a:pt x="29358" y="20200"/>
                </a:lnTo>
                <a:lnTo>
                  <a:pt x="29358" y="1400"/>
                </a:lnTo>
                <a:close/>
              </a:path>
              <a:path fill="darkenLess" w="30758" h="21600">
                <a:moveTo>
                  <a:pt x="307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358" y="20200"/>
                </a:lnTo>
                <a:close/>
              </a:path>
              <a:path fill="lighten" w="307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758" h="21600">
                <a:moveTo>
                  <a:pt x="8373" y="3794"/>
                </a:moveTo>
                <a:lnTo>
                  <a:pt x="22386" y="10800"/>
                </a:lnTo>
                <a:lnTo>
                  <a:pt x="8373" y="17806"/>
                </a:lnTo>
                <a:close/>
              </a:path>
            </a:pathLst>
          </a:custGeom>
          <a:solidFill>
            <a:srgbClr val="cc99ff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205" name="Picture 10" descr="3STR3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380360" y="6475320"/>
            <a:ext cx="431640" cy="382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2000"/>
                            </p:stCondLst>
                            <p:childTnLst>
                              <p:par>
                                <p:cTn id="7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4000"/>
                            </p:stCondLst>
                            <p:childTnLst>
                              <p:par>
                                <p:cTn id="7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6000"/>
                            </p:stCondLst>
                            <p:childTnLst>
                              <p:par>
                                <p:cTn id="8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8000"/>
                            </p:stCondLst>
                            <p:childTnLst>
                              <p:par>
                                <p:cTn id="8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0000"/>
                            </p:stCondLst>
                            <p:childTnLst>
                              <p:par>
                                <p:cTn id="9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2"/>
          <p:cNvSpPr/>
          <p:nvPr/>
        </p:nvSpPr>
        <p:spPr>
          <a:xfrm>
            <a:off x="468360" y="3068640"/>
            <a:ext cx="80643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6699"/>
                </a:solidFill>
                <a:latin typeface="Arial"/>
              </a:rPr>
              <a:t>Ответ: осталось 2 букашки. </a:t>
            </a:r>
            <a:endParaRPr b="0" lang="en-US" sz="4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7" name="Rectangle 3"/>
          <p:cNvSpPr/>
          <p:nvPr/>
        </p:nvSpPr>
        <p:spPr>
          <a:xfrm>
            <a:off x="324000" y="2060640"/>
            <a:ext cx="81356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99"/>
                </a:solidFill>
                <a:latin typeface="Arial"/>
              </a:rPr>
              <a:t>   </a:t>
            </a:r>
            <a:r>
              <a:rPr b="0" lang="en-US" sz="4800" spc="-1" strike="noStrike">
                <a:solidFill>
                  <a:srgbClr val="006699"/>
                </a:solidFill>
                <a:latin typeface="Arial"/>
              </a:rPr>
              <a:t>3 – 1 = 2(б.)</a:t>
            </a:r>
            <a:endParaRPr b="0" lang="en-US" sz="4800" spc="-1" strike="noStrike">
              <a:solidFill>
                <a:srgbClr val="00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8" name="AutoShape 5">
            <a:hlinkClick r:id="" action="ppaction://hlinkshowjump?jump=previousslide"/>
          </p:cNvPr>
          <p:cNvSpPr/>
          <p:nvPr/>
        </p:nvSpPr>
        <p:spPr>
          <a:xfrm>
            <a:off x="8028000" y="6464160"/>
            <a:ext cx="466560" cy="393840"/>
          </a:xfrm>
          <a:custGeom>
            <a:avLst/>
            <a:gdLst>
              <a:gd name="textAreaLeft" fmla="*/ 25200 w 466560"/>
              <a:gd name="textAreaRight" fmla="*/ 441360 w 466560"/>
              <a:gd name="textAreaTop" fmla="*/ 25200 h 393840"/>
              <a:gd name="textAreaBottom" fmla="*/ 368640 h 393840"/>
            </a:gdLst>
            <a:ahLst/>
            <a:rect l="textAreaLeft" t="textAreaTop" r="textAreaRight" b="textAreaBottom"/>
            <a:pathLst>
              <a:path w="25585" h="21600">
                <a:moveTo>
                  <a:pt x="0" y="0"/>
                </a:moveTo>
                <a:lnTo>
                  <a:pt x="25585" y="0"/>
                </a:lnTo>
                <a:lnTo>
                  <a:pt x="25585" y="21600"/>
                </a:lnTo>
                <a:lnTo>
                  <a:pt x="0" y="21600"/>
                </a:lnTo>
                <a:close/>
              </a:path>
              <a:path fill="lightenLess" w="25585" h="21600">
                <a:moveTo>
                  <a:pt x="0" y="0"/>
                </a:moveTo>
                <a:lnTo>
                  <a:pt x="25585" y="0"/>
                </a:lnTo>
                <a:lnTo>
                  <a:pt x="24185" y="1400"/>
                </a:lnTo>
                <a:lnTo>
                  <a:pt x="1400" y="1400"/>
                </a:lnTo>
                <a:close/>
              </a:path>
              <a:path fill="darken" w="25585" h="21600">
                <a:moveTo>
                  <a:pt x="25585" y="0"/>
                </a:moveTo>
                <a:lnTo>
                  <a:pt x="25585" y="21600"/>
                </a:lnTo>
                <a:lnTo>
                  <a:pt x="24185" y="20200"/>
                </a:lnTo>
                <a:lnTo>
                  <a:pt x="24185" y="1400"/>
                </a:lnTo>
                <a:close/>
              </a:path>
              <a:path fill="darkenLess" w="25585" h="21600">
                <a:moveTo>
                  <a:pt x="255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85" y="20200"/>
                </a:lnTo>
                <a:close/>
              </a:path>
              <a:path fill="lighten" w="255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85" h="21600">
                <a:moveTo>
                  <a:pt x="5786" y="10800"/>
                </a:moveTo>
                <a:lnTo>
                  <a:pt x="19799" y="3794"/>
                </a:lnTo>
                <a:lnTo>
                  <a:pt x="19799" y="17806"/>
                </a:lnTo>
                <a:close/>
              </a:path>
            </a:pathLst>
          </a:custGeom>
          <a:solidFill>
            <a:srgbClr val="cc99ff"/>
          </a:solidFill>
          <a:ln w="93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9" name="AutoShape 6">
            <a:hlinkClick r:id="" action="ppaction://hlinkshowjump?jump=nextslide"/>
          </p:cNvPr>
          <p:cNvSpPr/>
          <p:nvPr/>
        </p:nvSpPr>
        <p:spPr>
          <a:xfrm>
            <a:off x="8567640" y="6453360"/>
            <a:ext cx="576360" cy="404640"/>
          </a:xfrm>
          <a:custGeom>
            <a:avLst/>
            <a:gdLst>
              <a:gd name="textAreaLeft" fmla="*/ 25920 w 576360"/>
              <a:gd name="textAreaRight" fmla="*/ 550440 w 576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0758" h="21600">
                <a:moveTo>
                  <a:pt x="0" y="0"/>
                </a:moveTo>
                <a:lnTo>
                  <a:pt x="30758" y="0"/>
                </a:lnTo>
                <a:lnTo>
                  <a:pt x="30758" y="21600"/>
                </a:lnTo>
                <a:lnTo>
                  <a:pt x="0" y="21600"/>
                </a:lnTo>
                <a:close/>
              </a:path>
              <a:path fill="lightenLess" w="30758" h="21600">
                <a:moveTo>
                  <a:pt x="0" y="0"/>
                </a:moveTo>
                <a:lnTo>
                  <a:pt x="30758" y="0"/>
                </a:lnTo>
                <a:lnTo>
                  <a:pt x="29358" y="1400"/>
                </a:lnTo>
                <a:lnTo>
                  <a:pt x="1400" y="1400"/>
                </a:lnTo>
                <a:close/>
              </a:path>
              <a:path fill="darken" w="30758" h="21600">
                <a:moveTo>
                  <a:pt x="30758" y="0"/>
                </a:moveTo>
                <a:lnTo>
                  <a:pt x="30758" y="21600"/>
                </a:lnTo>
                <a:lnTo>
                  <a:pt x="29358" y="20200"/>
                </a:lnTo>
                <a:lnTo>
                  <a:pt x="29358" y="1400"/>
                </a:lnTo>
                <a:close/>
              </a:path>
              <a:path fill="darkenLess" w="30758" h="21600">
                <a:moveTo>
                  <a:pt x="307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358" y="20200"/>
                </a:lnTo>
                <a:close/>
              </a:path>
              <a:path fill="lighten" w="307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758" h="21600">
                <a:moveTo>
                  <a:pt x="8373" y="3794"/>
                </a:moveTo>
                <a:lnTo>
                  <a:pt x="22386" y="10800"/>
                </a:lnTo>
                <a:lnTo>
                  <a:pt x="8373" y="17806"/>
                </a:lnTo>
                <a:close/>
              </a:path>
            </a:pathLst>
          </a:custGeom>
          <a:solidFill>
            <a:srgbClr val="cc99ff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210" name="Picture 7" descr="3STR3"/>
          <p:cNvPicPr/>
          <p:nvPr/>
        </p:nvPicPr>
        <p:blipFill>
          <a:blip r:embed="rId1"/>
          <a:stretch/>
        </p:blipFill>
        <p:spPr>
          <a:xfrm>
            <a:off x="7380360" y="6475320"/>
            <a:ext cx="431640" cy="382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4000"/>
                            </p:stCondLst>
                            <p:childTnLst>
                              <p:par>
                                <p:cTn id="11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68360" y="537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Сколько осталось?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2" name="Rectangle 3"/>
          <p:cNvSpPr/>
          <p:nvPr/>
        </p:nvSpPr>
        <p:spPr>
          <a:xfrm>
            <a:off x="180360" y="3140640"/>
            <a:ext cx="358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Arial"/>
              </a:rPr>
              <a:t>Сколько земляничек?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3" name="Rectangle 4"/>
          <p:cNvSpPr/>
          <p:nvPr/>
        </p:nvSpPr>
        <p:spPr>
          <a:xfrm>
            <a:off x="4613400" y="4940640"/>
            <a:ext cx="45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3465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Arial"/>
              </a:rPr>
              <a:t>Сколько ягод съела улитка?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214" name="Picture 5" descr=""/>
          <p:cNvPicPr/>
          <p:nvPr/>
        </p:nvPicPr>
        <p:blipFill>
          <a:blip r:embed="rId1"/>
          <a:stretch/>
        </p:blipFill>
        <p:spPr>
          <a:xfrm>
            <a:off x="4427640" y="2565360"/>
            <a:ext cx="4219560" cy="227664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6" descr=""/>
          <p:cNvPicPr/>
          <p:nvPr/>
        </p:nvPicPr>
        <p:blipFill>
          <a:blip r:embed="rId2"/>
          <a:stretch/>
        </p:blipFill>
        <p:spPr>
          <a:xfrm>
            <a:off x="684360" y="907920"/>
            <a:ext cx="2663640" cy="1729080"/>
          </a:xfrm>
          <a:prstGeom prst="rect">
            <a:avLst/>
          </a:prstGeom>
          <a:ln w="0">
            <a:noFill/>
          </a:ln>
        </p:spPr>
      </p:pic>
      <p:sp>
        <p:nvSpPr>
          <p:cNvPr id="216" name="AutoShape 8">
            <a:hlinkClick r:id="" action="ppaction://hlinkshowjump?jump=previousslide"/>
          </p:cNvPr>
          <p:cNvSpPr/>
          <p:nvPr/>
        </p:nvSpPr>
        <p:spPr>
          <a:xfrm>
            <a:off x="8028000" y="6464160"/>
            <a:ext cx="466560" cy="393840"/>
          </a:xfrm>
          <a:custGeom>
            <a:avLst/>
            <a:gdLst>
              <a:gd name="textAreaLeft" fmla="*/ 25200 w 466560"/>
              <a:gd name="textAreaRight" fmla="*/ 441360 w 466560"/>
              <a:gd name="textAreaTop" fmla="*/ 25200 h 393840"/>
              <a:gd name="textAreaBottom" fmla="*/ 368640 h 393840"/>
            </a:gdLst>
            <a:ahLst/>
            <a:rect l="textAreaLeft" t="textAreaTop" r="textAreaRight" b="textAreaBottom"/>
            <a:pathLst>
              <a:path w="25585" h="21600">
                <a:moveTo>
                  <a:pt x="0" y="0"/>
                </a:moveTo>
                <a:lnTo>
                  <a:pt x="25585" y="0"/>
                </a:lnTo>
                <a:lnTo>
                  <a:pt x="25585" y="21600"/>
                </a:lnTo>
                <a:lnTo>
                  <a:pt x="0" y="21600"/>
                </a:lnTo>
                <a:close/>
              </a:path>
              <a:path fill="lightenLess" w="25585" h="21600">
                <a:moveTo>
                  <a:pt x="0" y="0"/>
                </a:moveTo>
                <a:lnTo>
                  <a:pt x="25585" y="0"/>
                </a:lnTo>
                <a:lnTo>
                  <a:pt x="24185" y="1400"/>
                </a:lnTo>
                <a:lnTo>
                  <a:pt x="1400" y="1400"/>
                </a:lnTo>
                <a:close/>
              </a:path>
              <a:path fill="darken" w="25585" h="21600">
                <a:moveTo>
                  <a:pt x="25585" y="0"/>
                </a:moveTo>
                <a:lnTo>
                  <a:pt x="25585" y="21600"/>
                </a:lnTo>
                <a:lnTo>
                  <a:pt x="24185" y="20200"/>
                </a:lnTo>
                <a:lnTo>
                  <a:pt x="24185" y="1400"/>
                </a:lnTo>
                <a:close/>
              </a:path>
              <a:path fill="darkenLess" w="25585" h="21600">
                <a:moveTo>
                  <a:pt x="255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85" y="20200"/>
                </a:lnTo>
                <a:close/>
              </a:path>
              <a:path fill="lighten" w="255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85" h="21600">
                <a:moveTo>
                  <a:pt x="5786" y="10800"/>
                </a:moveTo>
                <a:lnTo>
                  <a:pt x="19799" y="3794"/>
                </a:lnTo>
                <a:lnTo>
                  <a:pt x="19799" y="17806"/>
                </a:lnTo>
                <a:close/>
              </a:path>
            </a:pathLst>
          </a:custGeom>
          <a:solidFill>
            <a:srgbClr val="cc99ff"/>
          </a:solidFill>
          <a:ln w="93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7" name="AutoShape 9">
            <a:hlinkClick r:id="" action="ppaction://hlinkshowjump?jump=nextslide"/>
          </p:cNvPr>
          <p:cNvSpPr/>
          <p:nvPr/>
        </p:nvSpPr>
        <p:spPr>
          <a:xfrm>
            <a:off x="8567640" y="6453360"/>
            <a:ext cx="576360" cy="404640"/>
          </a:xfrm>
          <a:custGeom>
            <a:avLst/>
            <a:gdLst>
              <a:gd name="textAreaLeft" fmla="*/ 25920 w 576360"/>
              <a:gd name="textAreaRight" fmla="*/ 550440 w 576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0758" h="21600">
                <a:moveTo>
                  <a:pt x="0" y="0"/>
                </a:moveTo>
                <a:lnTo>
                  <a:pt x="30758" y="0"/>
                </a:lnTo>
                <a:lnTo>
                  <a:pt x="30758" y="21600"/>
                </a:lnTo>
                <a:lnTo>
                  <a:pt x="0" y="21600"/>
                </a:lnTo>
                <a:close/>
              </a:path>
              <a:path fill="lightenLess" w="30758" h="21600">
                <a:moveTo>
                  <a:pt x="0" y="0"/>
                </a:moveTo>
                <a:lnTo>
                  <a:pt x="30758" y="0"/>
                </a:lnTo>
                <a:lnTo>
                  <a:pt x="29358" y="1400"/>
                </a:lnTo>
                <a:lnTo>
                  <a:pt x="1400" y="1400"/>
                </a:lnTo>
                <a:close/>
              </a:path>
              <a:path fill="darken" w="30758" h="21600">
                <a:moveTo>
                  <a:pt x="30758" y="0"/>
                </a:moveTo>
                <a:lnTo>
                  <a:pt x="30758" y="21600"/>
                </a:lnTo>
                <a:lnTo>
                  <a:pt x="29358" y="20200"/>
                </a:lnTo>
                <a:lnTo>
                  <a:pt x="29358" y="1400"/>
                </a:lnTo>
                <a:close/>
              </a:path>
              <a:path fill="darkenLess" w="30758" h="21600">
                <a:moveTo>
                  <a:pt x="307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358" y="20200"/>
                </a:lnTo>
                <a:close/>
              </a:path>
              <a:path fill="lighten" w="307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758" h="21600">
                <a:moveTo>
                  <a:pt x="8373" y="3794"/>
                </a:moveTo>
                <a:lnTo>
                  <a:pt x="22386" y="10800"/>
                </a:lnTo>
                <a:lnTo>
                  <a:pt x="8373" y="17806"/>
                </a:lnTo>
                <a:close/>
              </a:path>
            </a:pathLst>
          </a:custGeom>
          <a:solidFill>
            <a:srgbClr val="cc99ff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218" name="Picture 10" descr="3STR3"/>
          <p:cNvPicPr/>
          <p:nvPr/>
        </p:nvPicPr>
        <p:blipFill>
          <a:blip r:embed="rId3"/>
          <a:stretch/>
        </p:blipFill>
        <p:spPr>
          <a:xfrm>
            <a:off x="7380360" y="6475320"/>
            <a:ext cx="431640" cy="382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7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4000"/>
                            </p:stCondLst>
                            <p:childTnLst>
                              <p:par>
                                <p:cTn id="13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7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6000"/>
                            </p:stCondLst>
                            <p:childTnLst>
                              <p:par>
                                <p:cTn id="13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8000"/>
                            </p:stCondLst>
                            <p:childTnLst>
                              <p:par>
                                <p:cTn id="1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10000"/>
                            </p:stCondLst>
                            <p:childTnLst>
                              <p:par>
                                <p:cTn id="15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2"/>
          <p:cNvSpPr/>
          <p:nvPr/>
        </p:nvSpPr>
        <p:spPr>
          <a:xfrm>
            <a:off x="395280" y="1916280"/>
            <a:ext cx="80643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6699"/>
                </a:solidFill>
                <a:latin typeface="Arial"/>
              </a:rPr>
              <a:t>    </a:t>
            </a:r>
            <a:r>
              <a:rPr b="0" lang="ru-RU" sz="4800" spc="-1" strike="noStrike">
                <a:solidFill>
                  <a:srgbClr val="006699"/>
                </a:solidFill>
                <a:latin typeface="Arial"/>
              </a:rPr>
              <a:t>4 – 3 = 1(яг.)</a:t>
            </a:r>
            <a:endParaRPr b="0" lang="en-US" sz="4800" spc="-1" strike="noStrike">
              <a:solidFill>
                <a:srgbClr val="00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0" name="Rectangle 3"/>
          <p:cNvSpPr/>
          <p:nvPr/>
        </p:nvSpPr>
        <p:spPr>
          <a:xfrm>
            <a:off x="468360" y="3500280"/>
            <a:ext cx="80643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6699"/>
                </a:solidFill>
                <a:latin typeface="Arial"/>
              </a:rPr>
              <a:t>Ответ: осталась 1 ягодка. </a:t>
            </a:r>
            <a:endParaRPr b="0" lang="en-US" sz="4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1" name="AutoShape 5">
            <a:hlinkClick r:id="" action="ppaction://hlinkshowjump?jump=previousslide"/>
          </p:cNvPr>
          <p:cNvSpPr/>
          <p:nvPr/>
        </p:nvSpPr>
        <p:spPr>
          <a:xfrm>
            <a:off x="8028000" y="6464160"/>
            <a:ext cx="466560" cy="393840"/>
          </a:xfrm>
          <a:custGeom>
            <a:avLst/>
            <a:gdLst>
              <a:gd name="textAreaLeft" fmla="*/ 25200 w 466560"/>
              <a:gd name="textAreaRight" fmla="*/ 441360 w 466560"/>
              <a:gd name="textAreaTop" fmla="*/ 25200 h 393840"/>
              <a:gd name="textAreaBottom" fmla="*/ 368640 h 393840"/>
            </a:gdLst>
            <a:ahLst/>
            <a:rect l="textAreaLeft" t="textAreaTop" r="textAreaRight" b="textAreaBottom"/>
            <a:pathLst>
              <a:path w="25585" h="21600">
                <a:moveTo>
                  <a:pt x="0" y="0"/>
                </a:moveTo>
                <a:lnTo>
                  <a:pt x="25585" y="0"/>
                </a:lnTo>
                <a:lnTo>
                  <a:pt x="25585" y="21600"/>
                </a:lnTo>
                <a:lnTo>
                  <a:pt x="0" y="21600"/>
                </a:lnTo>
                <a:close/>
              </a:path>
              <a:path fill="lightenLess" w="25585" h="21600">
                <a:moveTo>
                  <a:pt x="0" y="0"/>
                </a:moveTo>
                <a:lnTo>
                  <a:pt x="25585" y="0"/>
                </a:lnTo>
                <a:lnTo>
                  <a:pt x="24185" y="1400"/>
                </a:lnTo>
                <a:lnTo>
                  <a:pt x="1400" y="1400"/>
                </a:lnTo>
                <a:close/>
              </a:path>
              <a:path fill="darken" w="25585" h="21600">
                <a:moveTo>
                  <a:pt x="25585" y="0"/>
                </a:moveTo>
                <a:lnTo>
                  <a:pt x="25585" y="21600"/>
                </a:lnTo>
                <a:lnTo>
                  <a:pt x="24185" y="20200"/>
                </a:lnTo>
                <a:lnTo>
                  <a:pt x="24185" y="1400"/>
                </a:lnTo>
                <a:close/>
              </a:path>
              <a:path fill="darkenLess" w="25585" h="21600">
                <a:moveTo>
                  <a:pt x="255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85" y="20200"/>
                </a:lnTo>
                <a:close/>
              </a:path>
              <a:path fill="lighten" w="255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85" h="21600">
                <a:moveTo>
                  <a:pt x="5786" y="10800"/>
                </a:moveTo>
                <a:lnTo>
                  <a:pt x="19799" y="3794"/>
                </a:lnTo>
                <a:lnTo>
                  <a:pt x="19799" y="17806"/>
                </a:lnTo>
                <a:close/>
              </a:path>
            </a:pathLst>
          </a:custGeom>
          <a:solidFill>
            <a:srgbClr val="cc99ff"/>
          </a:solidFill>
          <a:ln w="93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2" name="AutoShape 6">
            <a:hlinkClick r:id="" action="ppaction://hlinkshowjump?jump=nextslide"/>
          </p:cNvPr>
          <p:cNvSpPr/>
          <p:nvPr/>
        </p:nvSpPr>
        <p:spPr>
          <a:xfrm>
            <a:off x="8567640" y="6453360"/>
            <a:ext cx="576360" cy="404640"/>
          </a:xfrm>
          <a:custGeom>
            <a:avLst/>
            <a:gdLst>
              <a:gd name="textAreaLeft" fmla="*/ 25920 w 576360"/>
              <a:gd name="textAreaRight" fmla="*/ 550440 w 576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0758" h="21600">
                <a:moveTo>
                  <a:pt x="0" y="0"/>
                </a:moveTo>
                <a:lnTo>
                  <a:pt x="30758" y="0"/>
                </a:lnTo>
                <a:lnTo>
                  <a:pt x="30758" y="21600"/>
                </a:lnTo>
                <a:lnTo>
                  <a:pt x="0" y="21600"/>
                </a:lnTo>
                <a:close/>
              </a:path>
              <a:path fill="lightenLess" w="30758" h="21600">
                <a:moveTo>
                  <a:pt x="0" y="0"/>
                </a:moveTo>
                <a:lnTo>
                  <a:pt x="30758" y="0"/>
                </a:lnTo>
                <a:lnTo>
                  <a:pt x="29358" y="1400"/>
                </a:lnTo>
                <a:lnTo>
                  <a:pt x="1400" y="1400"/>
                </a:lnTo>
                <a:close/>
              </a:path>
              <a:path fill="darken" w="30758" h="21600">
                <a:moveTo>
                  <a:pt x="30758" y="0"/>
                </a:moveTo>
                <a:lnTo>
                  <a:pt x="30758" y="21600"/>
                </a:lnTo>
                <a:lnTo>
                  <a:pt x="29358" y="20200"/>
                </a:lnTo>
                <a:lnTo>
                  <a:pt x="29358" y="1400"/>
                </a:lnTo>
                <a:close/>
              </a:path>
              <a:path fill="darkenLess" w="30758" h="21600">
                <a:moveTo>
                  <a:pt x="307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358" y="20200"/>
                </a:lnTo>
                <a:close/>
              </a:path>
              <a:path fill="lighten" w="307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758" h="21600">
                <a:moveTo>
                  <a:pt x="8373" y="3794"/>
                </a:moveTo>
                <a:lnTo>
                  <a:pt x="22386" y="10800"/>
                </a:lnTo>
                <a:lnTo>
                  <a:pt x="8373" y="17806"/>
                </a:lnTo>
                <a:close/>
              </a:path>
            </a:pathLst>
          </a:custGeom>
          <a:solidFill>
            <a:srgbClr val="cc99ff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223" name="Picture 7" descr="3STR3"/>
          <p:cNvPicPr/>
          <p:nvPr/>
        </p:nvPicPr>
        <p:blipFill>
          <a:blip r:embed="rId1"/>
          <a:stretch/>
        </p:blipFill>
        <p:spPr>
          <a:xfrm>
            <a:off x="7380360" y="6475320"/>
            <a:ext cx="431640" cy="382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2000"/>
                            </p:stCondLst>
                            <p:childTnLst>
                              <p:par>
                                <p:cTn id="16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4000"/>
                            </p:stCondLst>
                            <p:childTnLst>
                              <p:par>
                                <p:cTn id="17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2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050"/>
                </a:solidFill>
                <a:latin typeface="Verdana"/>
              </a:rPr>
              <a:t>Задача 1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285840" y="1356840"/>
            <a:ext cx="885816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00"/>
                </a:solidFill>
                <a:latin typeface="Verdana"/>
              </a:rPr>
              <a:t>     </a:t>
            </a:r>
            <a:r>
              <a:rPr b="0" lang="en-US" sz="4000" spc="-1" strike="noStrike">
                <a:solidFill>
                  <a:srgbClr val="990000"/>
                </a:solidFill>
                <a:latin typeface="Verdana"/>
              </a:rPr>
              <a:t>Гуляя в парке, Света нашла 4 дубовых листочка и 6 кленовых. Сколько всего листьев нашла Света?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6" name="AutoShape 4"/>
          <p:cNvSpPr/>
          <p:nvPr/>
        </p:nvSpPr>
        <p:spPr>
          <a:xfrm>
            <a:off x="2000160" y="3357720"/>
            <a:ext cx="6748560" cy="3716280"/>
          </a:xfrm>
          <a:prstGeom prst="horizontalScroll">
            <a:avLst>
              <a:gd name="adj" fmla="val 12500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Arial"/>
              </a:rPr>
              <a:t>4 + 6 = 10 (л.)</a:t>
            </a:r>
            <a:endParaRPr b="0" lang="en-US" sz="40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Arial"/>
              </a:rPr>
              <a:t>Ответ: 10 листьев.</a:t>
            </a:r>
            <a:endParaRPr b="0" lang="en-US" sz="40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09T17:41:09Z</dcterms:created>
  <dc:creator>Customer</dc:creator>
  <dc:description/>
  <dc:language>en-US</dc:language>
  <cp:lastModifiedBy>Customer</cp:lastModifiedBy>
  <dcterms:modified xsi:type="dcterms:W3CDTF">2016-12-02T16:50:34Z</dcterms:modified>
  <cp:revision>4</cp:revision>
  <dc:subject/>
  <dc:title>Математика  1 класс</dc:title>
</cp:coreProperties>
</file>