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B8B-798D-4E5D-BA85-F8B8EFF6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250-9B69-4DD4-BDF0-461EDCF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80E-F86E-46BA-9472-3A105CEA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84D-2AD5-43C3-A912-65FF71F2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86FE-45EB-462D-8C69-6A0AB41F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87A5-7B6A-42FF-AB06-F3A8471F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D977-E4EF-4879-9E95-0FB4143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AE91-AD12-4860-83A7-103AB30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225-FF65-4A58-964B-6724D89B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DFCD-C5E5-4863-B25E-85CB80CC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C481-5FCE-42C9-B1F6-DE68A40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4E0-1A59-40AD-A2C9-A2A42CD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5C25-0BDC-42EB-A601-45D7B7AA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05EB-02AE-4DE3-85E1-18D27160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6F3B-6D5C-4447-B502-D04DF9EC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200A-9172-4CFF-BD3C-C1966D08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AD4-0991-42C9-9B29-2F54534F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0F72-E85B-4043-B6C7-A865144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ACAA-B468-433A-8847-CFCE52BD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8903-A1E1-4522-A7EE-2B3D1EE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98F9-63F4-4279-AA2A-CAB7F23F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BD3E-8C67-4917-AD92-937EC713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ACD-A4F9-47C9-B92A-68E89698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52C5-3694-494C-87B5-A9DA63EE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A17A-29CF-463C-BB71-65E923D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24E7-C544-4231-A811-D39CD88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55D8-7A51-4AE5-BE83-3283FA1A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C159-E0FC-409C-923B-D8E7897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73FA-7F82-4B18-9A43-ADD923F6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DA12-A168-4621-AB0F-2DA9A879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AFDB-EA6E-4FBA-847A-F864B65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437E-7F92-4802-BEE2-6793E439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054B-7040-4FD1-ADB2-027979BB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B9F-C21F-4BDC-B31E-FAEE287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91A8-DC77-48E3-AC2A-C8F95CA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A7F8-831A-43CB-8404-E362ABC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B2AB-693A-4837-8CBB-D8490850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7527-3A69-480B-A42F-F012E26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EC52-4016-41D8-9D36-F864F52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8F94-E029-4F70-99C7-5DAFD19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4A9B-5918-4CFA-9B38-D31043E3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1D8D6-EB51-4434-ACB0-D740786C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C5DC-B7FA-4867-8E1D-C05B161E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D3FD-DBFC-4ECA-8234-F35E8FCB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6A6-C1D9-4A99-9B59-DB244A3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2E78A-4A88-4CAC-994A-D475142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1BA0-C568-45BE-812B-76A7E4B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106D8-C74B-4187-9C93-CD0DDB0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21735-6BBF-43AB-B4BF-1B51D25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BCE9-DB4A-46A9-864B-1F25907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3814-6252-4B5A-8FD3-DA54FE6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0A2C-767A-4697-9C0D-E608BE0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109B4-9AE9-4411-8D95-2CC3393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B44C-B058-4D17-B0B1-4A1A2FF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978E-94D9-482D-9EDB-B5215990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B97-5836-4061-9D57-6A2B4CCB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5D04-E7DE-4E5E-8F04-C58A5E1C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11368-BE11-4BB0-B7CF-F5E440F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2448-20EE-4453-9685-EE37CB8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086D-8AC5-4FDE-BE0D-B944FA6D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5055C-FBA7-4324-A0FF-69A63DA4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945D-CCA9-4FA7-BF83-AE15C8DF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1275-D2C7-424C-96C7-4A1E249F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58AF-9871-4E6F-932D-E2AB617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090B0-BA74-4C77-9D8C-A510137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8617-1F87-4170-8F01-E991ECB4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22E-578C-41E4-9C72-B7C2048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1ADC-4C19-46A9-A2AC-4AF8B50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0158-3CBC-4510-825A-EC2AC78A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1F69-6093-4844-AFFD-DE2754FF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14A1-D9E4-4D0A-8C13-15B9AFF2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0517C-8E25-48F2-97EA-4DD49C85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3253-44FE-494A-A4C9-DD7DAA54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4C4E9-A36B-4957-B2CB-449297F0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7C5D6-D1EA-4AAA-9B0B-DC345CFA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ECE0-6FB3-4A68-AB09-8A5E94C0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D61F-A154-4DA5-914E-127F44A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878-C178-44B4-9AAE-07CE2098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8833-9282-4EE1-B8C3-E36D2696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0105A-5E63-4EDC-92F1-29ADBCCE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51E9-D1BA-4151-82A0-1E199E9B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F518-6977-4AFD-9134-865A58DF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A66A-F6BA-4B20-AED4-AC5F7F74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D18-AB62-458F-ABE7-43C4D29E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8E2-EB96-473A-8061-6C0568AFB66A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963-3716-4E36-A81A-E63750A45BE4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853C-6BCD-4B60-98A6-62044113CCAB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443-1DDC-4F4D-ADC8-FDEFC1CFB51C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8FE4-D01F-4E59-BCAC-A024F6E92649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D45-316C-47B5-9A57-8C1C59CC0762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173-B298-4701-AEFC-797A3A906494}" type="slidenum">
              <a:rPr b="0" lang="ru-RU" sz="10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10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Candara"/>
              </a:rPr>
              <a:t>Телеинтервью как жанр устного публичного диалога</a:t>
            </a:r>
            <a:endParaRPr b="0" lang="en-US" sz="40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Candara"/>
              </a:rPr>
              <a:t>Работу выполнили: учащиеся 11 класса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Candara"/>
              </a:rPr>
              <a:t>Александра Полтавская и Марина Ульянов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Candara"/>
              </a:rPr>
              <a:t>Руководитель: учитель Н.А. Мошкина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КОУ Александровская СОШ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Научно-исследовательская работа на тему: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Слайд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Слайд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Слайд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Слайд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Слайд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Слайд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Слайд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Слайд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Слайд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4" descr="Слайд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Слайд3"/>
          <p:cNvPicPr/>
          <p:nvPr/>
        </p:nvPicPr>
        <p:blipFill>
          <a:blip r:embed="rId2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5b6f"/>
                </a:solidFill>
                <a:latin typeface="Candara"/>
              </a:rPr>
              <a:t>Объект исследования- </a:t>
            </a:r>
            <a:r>
              <a:rPr b="0" lang="ru-RU" sz="2800" spc="-1" strike="noStrike">
                <a:solidFill>
                  <a:srgbClr val="4e5b6f"/>
                </a:solidFill>
                <a:latin typeface="Candara"/>
              </a:rPr>
              <a:t>устное публичная телевизионная речь.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5b6f"/>
                </a:solidFill>
                <a:latin typeface="Candara"/>
              </a:rPr>
              <a:t>Предмет исследования- </a:t>
            </a:r>
            <a:r>
              <a:rPr b="0" lang="ru-RU" sz="2800" spc="-1" strike="noStrike">
                <a:solidFill>
                  <a:srgbClr val="4e5b6f"/>
                </a:solidFill>
                <a:latin typeface="Candara"/>
              </a:rPr>
              <a:t>жанр телеинтервью.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5b6f"/>
                </a:solidFill>
                <a:latin typeface="Candara"/>
              </a:rPr>
              <a:t>Методы работы: </a:t>
            </a:r>
            <a:r>
              <a:rPr b="0" lang="ru-RU" sz="2800" spc="-1" strike="noStrike">
                <a:solidFill>
                  <a:srgbClr val="4e5b6f"/>
                </a:solidFill>
                <a:latin typeface="Candara"/>
              </a:rPr>
              <a:t>метод наблюдения, описания, сопоставления.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Слайд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Слайд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871560" y="2674800"/>
          <a:ext cx="7661160" cy="3057840"/>
        </p:xfrm>
        <a:graphic>
          <a:graphicData uri="http://schemas.openxmlformats.org/drawingml/2006/table">
            <a:tbl>
              <a:tblPr/>
              <a:tblGrid>
                <a:gridCol w="604800"/>
                <a:gridCol w="705636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тервью-расспрос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тервью-обмен мнениям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тервью-портр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Типы телеинтервью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Слайд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8:14:52Z</dcterms:created>
  <dc:creator>Лена</dc:creator>
  <dc:description/>
  <dc:language>en-US</dc:language>
  <cp:lastModifiedBy>начальные классы</cp:lastModifiedBy>
  <dcterms:modified xsi:type="dcterms:W3CDTF">2016-04-23T08:45:00Z</dcterms:modified>
  <cp:revision>9</cp:revision>
  <dc:subject/>
  <dc:title>Слайд 1</dc:title>
</cp:coreProperties>
</file>