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E4F-BF89-4430-A745-5FF485A2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AA7-A759-465B-8EAA-C095998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AD4-DA05-417F-B859-B43F3AA0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484-ADD1-4AB5-AFF5-18996488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E377-25F1-4849-8AD5-53057412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67BA-1EFF-44B3-9368-18A4895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6599-7DE6-4AA2-AB84-957923A5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896-3190-4081-AF8F-FB0DAD8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8D95-A7EF-4760-A590-4109FB92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0863-72DF-419A-9DC7-051A003B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7984-BDDA-42DD-B526-BFC4596C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53A-9245-417B-B89C-CCDE8062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8BC-AF78-4BF4-A6AE-950002A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9B4D-947C-404C-875F-6ABFE79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8ADD-30B7-4350-B0C8-247570AC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5D9-6BAC-442A-9271-CA7A4680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2BFB-5AC2-4585-A587-B15D5AB6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35D2-1323-4F62-BB4C-AAB43F1A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6329-E167-4710-840D-14CE7C60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222A-7B16-404E-BB5E-922AC38A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F936-DBBD-4608-A094-3A4AE0C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6FED-F741-4055-AA63-A2C611C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FB7-1E08-4315-8F19-41E8FDF5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2A4D-86A1-4610-B9DB-7FA03F7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81C0-757F-4AA8-8946-6EC3E48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8A9A-AE51-4681-B058-4639731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529D-317A-4FA3-896A-B8B702E6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C4E3-533B-4E2F-B006-1B9B8EE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8AFB-0812-4CE1-B979-0BF8FEB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DCB0-7251-4AAF-8BAE-8F9318FE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7246-6F44-4B6D-824F-50754692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1C56-8F37-42EF-8C1B-5CF2374F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EC77-8530-485C-9397-7E37828A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4DF-C4CC-4770-A91C-7A1036A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AAAD-2F5A-42CD-82B5-0CF9F0A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D407-5F70-41E3-8A8D-11B9881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560A-AEBD-4EBD-9961-A4252DE0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38E6-B200-48C7-BA25-A21C100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6B76-0FFB-4402-991D-7D7DE4F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931AF-278B-4475-B3C0-AF18C4F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CD64-FB2F-4559-813D-578CA11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406E-8F8E-4589-9722-C5DE4984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CC9B-3A51-4F87-B82B-DE0AFEB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275-07A9-4909-9351-FE28C07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ABB-DB0C-4D57-9425-5DB552A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E0C-F41D-4F0D-9D22-99A388F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1CC-6715-4FB4-9764-5030D28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C4F-E176-4983-8CB3-8E00FF9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C34A-B598-4261-B864-23C152B70F3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0989-C8A2-4DE0-9B6D-E03A01F9D2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B8D-1B54-4AF4-AEDD-7A8F1E71CF1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CB6-2FF0-46F5-AE31-AAB4180800C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738360"/>
            <a:ext cx="8650440" cy="3369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4653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 ученица 11 класса Фадеева Поли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Упражнения на выносливость(плавание, лыжные гонки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http://hntr.ru/wp-content/uploads/2015/12/swimming.jpg"/>
          <p:cNvPicPr/>
          <p:nvPr/>
        </p:nvPicPr>
        <p:blipFill>
          <a:blip r:embed="rId1"/>
          <a:stretch/>
        </p:blipFill>
        <p:spPr>
          <a:xfrm>
            <a:off x="324000" y="1989000"/>
            <a:ext cx="3993840" cy="266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olympiady.org/img/sport/lizhnye-gonki-1.jpg"/>
          <p:cNvPicPr/>
          <p:nvPr/>
        </p:nvPicPr>
        <p:blipFill>
          <a:blip r:embed="rId2"/>
          <a:stretch/>
        </p:blipFill>
        <p:spPr>
          <a:xfrm>
            <a:off x="3995640" y="3789360"/>
            <a:ext cx="46468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На координацию движений(прыжки в воду, фигурное катание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http://gtrk-saratov.ru/images/cms/data/2016/March/2403/deti.jpg"/>
          <p:cNvPicPr/>
          <p:nvPr/>
        </p:nvPicPr>
        <p:blipFill>
          <a:blip r:embed="rId1"/>
          <a:stretch/>
        </p:blipFill>
        <p:spPr>
          <a:xfrm>
            <a:off x="468360" y="1916280"/>
            <a:ext cx="4341600" cy="2449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ttp://cs322425.vk.me/v322425957/7ccb/mB5GzcnkUSM.jpg"/>
          <p:cNvPicPr/>
          <p:nvPr/>
        </p:nvPicPr>
        <p:blipFill>
          <a:blip r:embed="rId2"/>
          <a:stretch/>
        </p:blipFill>
        <p:spPr>
          <a:xfrm>
            <a:off x="3995640" y="3645000"/>
            <a:ext cx="4545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4617b"/>
                </a:solidFill>
                <a:latin typeface="Calibri"/>
              </a:rPr>
              <a:t>Упражнения на гибкость(упражнения в растягивании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Picture 2" descr="http://fireflydance.com.ua/wp-content/uploads/2013/10/streyching.jpg"/>
          <p:cNvPicPr/>
          <p:nvPr/>
        </p:nvPicPr>
        <p:blipFill>
          <a:blip r:embed="rId1"/>
          <a:stretch/>
        </p:blipFill>
        <p:spPr>
          <a:xfrm>
            <a:off x="971640" y="2205000"/>
            <a:ext cx="658152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Упражнения, требующие комплексного проявления физических качеств и двигательных навыков в изменяющихся условиях(подвижные и спортивные игры, фехтование, бокс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https://fencingstatistics.files.wordpress.com/2014/04/04-27_vezzali.jpg"/>
          <p:cNvPicPr/>
          <p:nvPr/>
        </p:nvPicPr>
        <p:blipFill>
          <a:blip r:embed="rId1"/>
          <a:stretch/>
        </p:blipFill>
        <p:spPr>
          <a:xfrm>
            <a:off x="468360" y="2133720"/>
            <a:ext cx="4143240" cy="244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://klgdboxing.ru/wp-content/uploads/2011/12/1-2.jpg"/>
          <p:cNvPicPr/>
          <p:nvPr/>
        </p:nvPicPr>
        <p:blipFill>
          <a:blip r:embed="rId2"/>
          <a:stretch/>
        </p:blipFill>
        <p:spPr>
          <a:xfrm>
            <a:off x="4716360" y="3068640"/>
            <a:ext cx="4176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ические упраж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792440"/>
            <a:ext cx="8242560" cy="454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socpatron.ru/images/1203.jpg"/>
          <p:cNvPicPr/>
          <p:nvPr/>
        </p:nvPicPr>
        <p:blipFill>
          <a:blip r:embed="rId2"/>
          <a:stretch/>
        </p:blipFill>
        <p:spPr>
          <a:xfrm>
            <a:off x="4572000" y="2133720"/>
            <a:ext cx="3968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ические упраж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Слово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nstantia"/>
                <a:ea typeface="Calibri"/>
              </a:rPr>
              <a:t>физические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отражает характер совершаемой работы (в отличие от умственной), внешне проявляемой в виде перемещений тела человека и его частей в пространстве и во време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лово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упражнение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означает повторяемость действия направленных на физические и психические свойства человека и совершенствование способа исполнения этих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Скругленный прямоугольник 11"/>
          <p:cNvGrpSpPr/>
          <p:nvPr/>
        </p:nvGrpSpPr>
        <p:grpSpPr>
          <a:xfrm>
            <a:off x="1743120" y="603360"/>
            <a:ext cx="5584680" cy="1189080"/>
            <a:chOff x="1743120" y="603360"/>
            <a:chExt cx="5584680" cy="1189080"/>
          </a:xfrm>
        </p:grpSpPr>
        <p:pic>
          <p:nvPicPr>
            <p:cNvPr id="203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1743120" y="603360"/>
              <a:ext cx="55846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819440" y="676440"/>
              <a:ext cx="543240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nstantia"/>
                </a:rPr>
                <a:t>Эффект физических упражнений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cxnSp>
        <p:nvCxnSpPr>
          <p:cNvPr id="205" name="Прямая со стрелкой 13"/>
          <p:cNvCxnSpPr/>
          <p:nvPr/>
        </p:nvCxnSpPr>
        <p:spPr>
          <a:xfrm flipH="1">
            <a:off x="2195280" y="1916280"/>
            <a:ext cx="50544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Прямая со стрелкой 16"/>
          <p:cNvCxnSpPr/>
          <p:nvPr/>
        </p:nvCxnSpPr>
        <p:spPr>
          <a:xfrm>
            <a:off x="6300360" y="1916280"/>
            <a:ext cx="35964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07" name="Скругленный прямоугольник 18"/>
          <p:cNvGrpSpPr/>
          <p:nvPr/>
        </p:nvGrpSpPr>
        <p:grpSpPr>
          <a:xfrm>
            <a:off x="1042920" y="2693880"/>
            <a:ext cx="2303640" cy="774720"/>
            <a:chOff x="1042920" y="2693880"/>
            <a:chExt cx="2303640" cy="774720"/>
          </a:xfrm>
        </p:grpSpPr>
        <p:pic>
          <p:nvPicPr>
            <p:cNvPr id="208" name="Скругленный 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1042920" y="2693880"/>
              <a:ext cx="2303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143000" y="2808360"/>
              <a:ext cx="21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Внутреннее содержание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0" name="Скругленный прямоугольник 19"/>
          <p:cNvGrpSpPr/>
          <p:nvPr/>
        </p:nvGrpSpPr>
        <p:grpSpPr>
          <a:xfrm>
            <a:off x="5651640" y="2693880"/>
            <a:ext cx="2303280" cy="774720"/>
            <a:chOff x="5651640" y="2693880"/>
            <a:chExt cx="2303280" cy="774720"/>
          </a:xfrm>
        </p:grpSpPr>
        <p:pic>
          <p:nvPicPr>
            <p:cNvPr id="211" name="Скругленный прямоугольник 19" descr=""/>
            <p:cNvPicPr/>
            <p:nvPr/>
          </p:nvPicPr>
          <p:blipFill>
            <a:blip r:embed="rId3"/>
            <a:stretch/>
          </p:blipFill>
          <p:spPr>
            <a:xfrm>
              <a:off x="5651640" y="2693880"/>
              <a:ext cx="23032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751360" y="2808360"/>
              <a:ext cx="210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Внешнее содержание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3" name="Скругленный прямоугольник 20"/>
          <p:cNvGrpSpPr/>
          <p:nvPr/>
        </p:nvGrpSpPr>
        <p:grpSpPr>
          <a:xfrm>
            <a:off x="895320" y="3462480"/>
            <a:ext cx="2597040" cy="3170160"/>
            <a:chOff x="895320" y="3462480"/>
            <a:chExt cx="2597040" cy="3170160"/>
          </a:xfrm>
        </p:grpSpPr>
        <p:pic>
          <p:nvPicPr>
            <p:cNvPr id="214" name="Скругленный прямоугольник 20" descr=""/>
            <p:cNvPicPr/>
            <p:nvPr/>
          </p:nvPicPr>
          <p:blipFill>
            <a:blip r:embed="rId4"/>
            <a:stretch/>
          </p:blipFill>
          <p:spPr>
            <a:xfrm>
              <a:off x="895320" y="3462480"/>
              <a:ext cx="25970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090440" y="3621240"/>
              <a:ext cx="2210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nstantia"/>
                </a:rPr>
                <a:t>-совокупность физиологических, психологических и биомеханических процессов, происходящих в организме человека при выполнении данного упражнения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6" name="Скругленный прямоугольник 21"/>
          <p:cNvGrpSpPr/>
          <p:nvPr/>
        </p:nvGrpSpPr>
        <p:grpSpPr>
          <a:xfrm>
            <a:off x="5578560" y="3462480"/>
            <a:ext cx="2595600" cy="3170160"/>
            <a:chOff x="5578560" y="3462480"/>
            <a:chExt cx="2595600" cy="3170160"/>
          </a:xfrm>
        </p:grpSpPr>
        <p:pic>
          <p:nvPicPr>
            <p:cNvPr id="217" name="Скругленный прямоугольник 21" descr=""/>
            <p:cNvPicPr/>
            <p:nvPr/>
          </p:nvPicPr>
          <p:blipFill>
            <a:blip r:embed="rId5"/>
            <a:stretch/>
          </p:blipFill>
          <p:spPr>
            <a:xfrm>
              <a:off x="5578560" y="3462480"/>
              <a:ext cx="259560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772240" y="3621240"/>
              <a:ext cx="22082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nstantia"/>
                </a:rPr>
                <a:t>-совокупность элементов, из которых состоит данное физическое упражнение. Например, прыжок в длину с разбега состоит из четырёх элементов: разбег, отталкивание, полёт, приземление</a:t>
              </a:r>
              <a:endParaRPr b="0" lang="en-US" sz="17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4617b"/>
                </a:solidFill>
                <a:latin typeface="Calibri"/>
              </a:rPr>
              <a:t>Классификация физических упражнений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2" descr=""/>
          <p:cNvPicPr/>
          <p:nvPr/>
        </p:nvPicPr>
        <p:blipFill>
          <a:blip r:embed="rId1"/>
          <a:stretch/>
        </p:blipFill>
        <p:spPr>
          <a:xfrm>
            <a:off x="365040" y="1646280"/>
            <a:ext cx="8328240" cy="4687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www.funlib.ru/cimg/2014/102006/1849400"/>
          <p:cNvPicPr/>
          <p:nvPr/>
        </p:nvPicPr>
        <p:blipFill>
          <a:blip r:embed="rId2"/>
          <a:stretch/>
        </p:blipFill>
        <p:spPr>
          <a:xfrm>
            <a:off x="5003640" y="1773360"/>
            <a:ext cx="32004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По аналитическому призна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е физические упражнения  группируются по их воздействию на мышцы руг, ног, брюшного пресса, спины и т.д. С помощью такой классификации составляются различные комплексы упражнений(утренняя гимнастика, атлетическая гимнастика, разминка и т.п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4617b"/>
                </a:solidFill>
                <a:latin typeface="Calibri"/>
              </a:rPr>
              <a:t>По признаку физиологических зон мощност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2" descr=""/>
          <p:cNvPicPr/>
          <p:nvPr/>
        </p:nvPicPr>
        <p:blipFill>
          <a:blip r:embed="rId1"/>
          <a:stretch/>
        </p:blipFill>
        <p:spPr>
          <a:xfrm>
            <a:off x="328680" y="1712880"/>
            <a:ext cx="8364600" cy="4621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redesound.ru/uploads/images/rep_pro_sport_zanimajsja_sportom.jpg"/>
          <p:cNvPicPr/>
          <p:nvPr/>
        </p:nvPicPr>
        <p:blipFill>
          <a:blip r:embed="rId2"/>
          <a:stretch/>
        </p:blipFill>
        <p:spPr>
          <a:xfrm>
            <a:off x="4716360" y="2492280"/>
            <a:ext cx="4011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76500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упражнений с нагрузкой максимальной мощности характерна мышечная работа такой интенсивности, которую человек может выполнять не более 20 се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пражнения с нагрузкой субмаксимальной мощности могут продолжаться от 20 сек. до 5 мин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пражнения с большой мощностью можно выполнять в пределах от 5 до 30 мин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упражнениям умеренной интенсивности относятся такие, которые могут продолжаться свыше 30 мин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libri"/>
              </a:rPr>
              <a:t>По признаку преимущественной направленности на развитие отдельных физических качест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Физические упражнения классифицируются н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Скоростно-силовые виды упражнений(прыжки, метания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s://ds02.infourok.ru/uploads/ex/0a06/0000449d-41df7850/hello_html_m14fe9842.jpg"/>
          <p:cNvPicPr/>
          <p:nvPr/>
        </p:nvPicPr>
        <p:blipFill>
          <a:blip r:embed="rId1"/>
          <a:stretch/>
        </p:blipFill>
        <p:spPr>
          <a:xfrm>
            <a:off x="1403280" y="3716280"/>
            <a:ext cx="5086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4:13:27Z</dcterms:created>
  <dc:creator>Альбина</dc:creator>
  <dc:description/>
  <dc:language>en-US</dc:language>
  <cp:lastModifiedBy>Альбина</cp:lastModifiedBy>
  <dcterms:modified xsi:type="dcterms:W3CDTF">2016-11-30T16:38:56Z</dcterms:modified>
  <cp:revision>15</cp:revision>
  <dc:subject/>
  <dc:title>Основные формы и виды физических упражнений</dc:title>
</cp:coreProperties>
</file>