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550-0059-49F0-A57A-0DAC8F84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4C2-BFAB-497C-B649-1D435B87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195-DD58-4197-A194-CDE4F1B2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C9E-BE78-4BE8-AD25-B3F03767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42EC-BDB5-4072-8A8C-CFBDC7B2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F601-FF02-4293-AEB6-48C3736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76A7-B0F7-4C5C-9795-2B5A5126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C91F-148C-4092-81E6-2ED90F0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C1C4-0903-4EF2-8C24-68867829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5CE4-D078-427F-9965-6FB3D26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F5A0-0554-4626-8B09-6DB68B99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653-BC63-4A26-A9E4-E71FB047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A35E-3C2E-40BD-B8F5-F2A2125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DD67-027B-4D9C-B597-87E76C0A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E0F8-8240-456F-8A3D-01774718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FE75-DBBD-4D1C-85A5-9E7C58FB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3C20-F56E-40B4-9335-A638F951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9245-A1C8-4DA5-A981-474E89D8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F3A0-7686-4B41-8806-A54B5118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AD21-BE26-41C0-88D1-42286A3E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2ED4-9D29-4484-98D2-A3A3E2FD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756C-7D93-4460-B64F-9D8A2FAC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37A-4541-4BD2-B902-A125F00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4151-E0B5-4602-B86C-B4676CF8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AB1D1-6646-44EE-BEA9-D2EF9C0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1AFB-A7B4-400E-B6D0-D6F0AC0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D1C6-A502-4CDB-949D-4C7A50F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80F75-9233-4170-B77C-798C0F43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0FBB-EEA9-4174-BC4D-8BAFB194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5F52-8F5A-47C2-8BA0-AA6F0192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7E4-66EA-4EF6-9A55-A16E76A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918-8EBC-444C-8AA8-B5055804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666-8E38-4CAE-98A7-7026EAEE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A27-1DF5-4D58-A9E4-E984114A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810-3366-4041-87E9-A0D34363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AA5-FF54-4326-BD0A-99B8EFEB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073F-DC3A-447C-BC42-580D8E9F4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645E-BEFA-42EF-8A54-48E8789AA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2C5B-ADB0-4966-89B0-C0B71900C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6" descr=""/>
          <p:cNvPicPr/>
          <p:nvPr/>
        </p:nvPicPr>
        <p:blipFill>
          <a:blip r:embed="rId1"/>
          <a:stretch/>
        </p:blipFill>
        <p:spPr>
          <a:xfrm>
            <a:off x="5267160" y="4711680"/>
            <a:ext cx="2743200" cy="1135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1729080" y="1500120"/>
            <a:ext cx="452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Чудесный с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иходи сказка.mp3" descr=""/>
          <p:cNvPicPr/>
          <p:nvPr/>
        </p:nvPicPr>
        <p:blipFill>
          <a:blip r:embed="rId2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4460040" y="90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TP61001"/>
          <p:cNvPicPr/>
          <p:nvPr/>
        </p:nvPicPr>
        <p:blipFill>
          <a:blip r:embed="rId3"/>
          <a:stretch/>
        </p:blipFill>
        <p:spPr>
          <a:xfrm>
            <a:off x="1357200" y="2286000"/>
            <a:ext cx="1981440" cy="1477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P61009"/>
          <p:cNvPicPr/>
          <p:nvPr/>
        </p:nvPicPr>
        <p:blipFill>
          <a:blip r:embed="rId4"/>
          <a:stretch/>
        </p:blipFill>
        <p:spPr>
          <a:xfrm>
            <a:off x="3500280" y="2286000"/>
            <a:ext cx="1971720" cy="146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STP61008"/>
          <p:cNvPicPr/>
          <p:nvPr/>
        </p:nvPicPr>
        <p:blipFill>
          <a:blip r:embed="rId5"/>
          <a:stretch/>
        </p:blipFill>
        <p:spPr>
          <a:xfrm>
            <a:off x="5572080" y="2286000"/>
            <a:ext cx="1967040" cy="146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56800" y="1428840"/>
            <a:ext cx="78296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 – В ЛЕСУ ЗВЕРИ . И вот, как – то раз, КОГДА СИДЕЛИ НА ПОЛЯНЕ  зашёл у них спор: а нужно ли им, таким БОЛЬШИМ знать правила дорожного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 сказ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что там знать, мы и так всё знаем и умеем, а правила написаны для ЛЮДЕЙ, которые на машинах ездят, и нам, ЖИВОТНЫМ , дорогу не уступаю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ут, откуда ни возьмись, НА ПОЛЯНЕ  появился НАСТОЯЩИЙ ПОЛИЦЕЙСКИЙ. Самый что ни ЕСТЬ ПОЛИЦЕЙСКИЙ  одет он был в полицейскую форму и фуражку, а в руке он держал полосатую палочку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И так удивились, что НА ПОЛЯНЕ  воцарилась небывалая тишина, а ЗАЯЦ  даже залез под ДЕРЕВО – от исп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ЕЙСКИЙ сказ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х, вы, умники! Да как же так! Я, лесной инспектор движения, всех зверей обучил правилам поведения на дорогах. Ведь столько птиц, кошек, и даже лосей и косуль гибнет под колёсами машин! А вы не хотите их знать! А, ну – ка, по местам! Начинаем весёлый урок по правилам дорожного движ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И  были так поражены, что даже не стали спорить, и тихо расселись ПО ПЕНЕЧ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НА ДЕРЕВЕ появился большой экран, НА ПОЛЯНЕ  стало темно, а на экране дети увидели ВОЛКА – пешехода, который переходил улицу по пешеходному переходу и напевал такую песенку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рогу так перехожу: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влево погляж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сли нет машины,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у до середины,                   Потом смотрю вним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о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сли нет дви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аю без со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4240" y="1714680"/>
            <a:ext cx="7972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се запомнили? – спросил  инспектор. – А теперь смотрим да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ране появился уютный двор, а рядом шумела машинами городская улица. Во дворе появился зайчик. А сним его друзья – Лисичка, Котик 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  сказ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йчас я прокачус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ругие животные ответ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льзя, ты скат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й глупый заяц! – сказала ЛИСА– Конечно же, кататься на санках и лыжах можно только в лесу, на стадионе, а не на ули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заяц сказал Лисичке: « Лисичка, поиграй со мн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ть на улице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ДЕМ во двор, там ведь ждут нас друз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посмотрим следующий мультик, - сказал инспект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живлённой улице стоял ПОЛИЦЕЙСКИЙ и грустная   Маша с огромной шишкой на голове. И вдруг МЕДВЕДЬ сел  и с удивлением огляделся вокруг. Он был в берлоге, проснулся от щебетания птиц. «Какой чудесный сон!», - подумал МЕДВЕДЬ - «Вот бы и правда в лесу состоялся такой весёлый урок, тогда бы все ЗВЕРИ точно бы запомнили все правила поведения на дорога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гда он шёл по лесу, в его голове то и дело вертелась весёлая песенка: «Дорогу так перехожу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Логопед</cp:lastModifiedBy>
  <dcterms:modified xsi:type="dcterms:W3CDTF">2016-12-02T05:42:36Z</dcterms:modified>
  <cp:revision>47</cp:revision>
  <dc:subject/>
  <dc:title>Слайд 1</dc:title>
</cp:coreProperties>
</file>