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8F2-69C0-4F64-BCC2-71CB6778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0AA-9950-4A8C-A7C1-FD0CA4ED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6B6-8C7D-4766-B076-C8EDE24A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D32-38BE-44BB-AAC3-7F4D8762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DC3-5BAB-4045-A179-423F3B8A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CB4-5344-46EB-A740-0DBC029C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61E-4888-4576-92BD-60C9B462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E37-7153-4021-ABCE-DA9E5204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5D7-FD3E-4B92-AA28-E25CAFF6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0F2-B6DB-41E6-B18C-7AD15101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6DE-B3DF-46DC-A9FD-C4760C63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FD7-FB51-4A47-B0FE-12B7EB5E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7E62-E609-4D6E-98C1-E099C549F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rcRect l="3729" t="11917" r="0" b="3099"/>
          <a:stretch/>
        </p:blipFill>
        <p:spPr>
          <a:xfrm>
            <a:off x="0" y="549360"/>
            <a:ext cx="91440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«Сказка –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лож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да в н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намё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Добрым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молодцам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ур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4648320" y="404640"/>
            <a:ext cx="403848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0"/>
          <p:cNvGrpSpPr/>
          <p:nvPr/>
        </p:nvGrpSpPr>
        <p:grpSpPr>
          <a:xfrm>
            <a:off x="1079640" y="720720"/>
            <a:ext cx="3782880" cy="5516640"/>
            <a:chOff x="1079640" y="720720"/>
            <a:chExt cx="3782880" cy="5516640"/>
          </a:xfrm>
        </p:grpSpPr>
        <p:sp>
          <p:nvSpPr>
            <p:cNvPr id="69" name="AutoShape 11"/>
            <p:cNvSpPr/>
            <p:nvPr/>
          </p:nvSpPr>
          <p:spPr>
            <a:xfrm>
              <a:off x="1079640" y="720720"/>
              <a:ext cx="3782880" cy="551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2"/>
            <p:cNvSpPr/>
            <p:nvPr/>
          </p:nvSpPr>
          <p:spPr>
            <a:xfrm>
              <a:off x="1236960" y="877680"/>
              <a:ext cx="2364840" cy="945360"/>
            </a:xfrm>
            <a:custGeom>
              <a:avLst/>
              <a:gdLst>
                <a:gd name="textAreaLeft" fmla="*/ 0 w 2364840"/>
                <a:gd name="textAreaRight" fmla="*/ 2364840 w 23648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3"/>
            <p:cNvSpPr/>
            <p:nvPr/>
          </p:nvSpPr>
          <p:spPr>
            <a:xfrm>
              <a:off x="1236960" y="1823400"/>
              <a:ext cx="1346400" cy="946800"/>
            </a:xfrm>
            <a:custGeom>
              <a:avLst/>
              <a:gdLst>
                <a:gd name="textAreaLeft" fmla="*/ 0 w 1346400"/>
                <a:gd name="textAreaRight" fmla="*/ 1346760 w 1346400"/>
                <a:gd name="textAreaTop" fmla="*/ 0 h 946800"/>
                <a:gd name="textAreaBottom" fmla="*/ 947160 h 94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4"/>
            <p:cNvSpPr/>
            <p:nvPr/>
          </p:nvSpPr>
          <p:spPr>
            <a:xfrm>
              <a:off x="1236960" y="2770200"/>
              <a:ext cx="3467880" cy="945720"/>
            </a:xfrm>
            <a:custGeom>
              <a:avLst/>
              <a:gdLst>
                <a:gd name="textAreaLeft" fmla="*/ 0 w 3467880"/>
                <a:gd name="textAreaRight" fmla="*/ 3468240 w 3467880"/>
                <a:gd name="textAreaTop" fmla="*/ 0 h 945720"/>
                <a:gd name="textAreaBottom" fmla="*/ 946080 h 94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5"/>
            <p:cNvSpPr/>
            <p:nvPr/>
          </p:nvSpPr>
          <p:spPr>
            <a:xfrm>
              <a:off x="1236960" y="3715920"/>
              <a:ext cx="945720" cy="668160"/>
            </a:xfrm>
            <a:custGeom>
              <a:avLst/>
              <a:gdLst>
                <a:gd name="textAreaLeft" fmla="*/ 0 w 945720"/>
                <a:gd name="textAreaRight" fmla="*/ 946080 w 94572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16"/>
            <p:cNvSpPr/>
            <p:nvPr/>
          </p:nvSpPr>
          <p:spPr>
            <a:xfrm>
              <a:off x="1236960" y="4345920"/>
              <a:ext cx="2048760" cy="945720"/>
            </a:xfrm>
            <a:custGeom>
              <a:avLst/>
              <a:gdLst>
                <a:gd name="textAreaLeft" fmla="*/ 0 w 2048760"/>
                <a:gd name="textAreaRight" fmla="*/ 2049120 w 2048760"/>
                <a:gd name="textAreaTop" fmla="*/ 0 h 945720"/>
                <a:gd name="textAreaBottom" fmla="*/ 946080 h 94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7"/>
            <p:cNvSpPr/>
            <p:nvPr/>
          </p:nvSpPr>
          <p:spPr>
            <a:xfrm>
              <a:off x="1236960" y="5291640"/>
              <a:ext cx="2994480" cy="788040"/>
            </a:xfrm>
            <a:custGeom>
              <a:avLst/>
              <a:gdLst>
                <a:gd name="textAreaLeft" fmla="*/ 0 w 2994480"/>
                <a:gd name="textAreaRight" fmla="*/ 2994840 w 2994480"/>
                <a:gd name="textAreaTop" fmla="*/ 0 h 788040"/>
                <a:gd name="textAreaBottom" fmla="*/ 788400 h 78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5726880" y="5373000"/>
            <a:ext cx="17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т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ТРОН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УКОЛ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rcRect l="0" t="0" r="0" b="3799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4"/>
          <p:cNvSpPr txBox="1"/>
          <p:nvPr/>
        </p:nvSpPr>
        <p:spPr>
          <a:xfrm>
            <a:off x="395280" y="508464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2543040" y="1623960"/>
            <a:ext cx="40579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55520" y="46080"/>
            <a:ext cx="405756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2543040" y="1623960"/>
            <a:ext cx="40579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155520" y="46080"/>
            <a:ext cx="405756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ЗАКОНЧИ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КО…                 ОКУН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КОТИ…            СТУ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              </a:t>
            </a: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              </a:t>
            </a: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С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ПРОВЕР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1" lang="ru-RU" sz="5400" spc="-1" strike="noStrike">
                <a:solidFill>
                  <a:srgbClr val="cc66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                 ОКУН</a:t>
            </a:r>
            <a:r>
              <a:rPr b="1" lang="ru-RU" sz="5400" spc="-1" strike="noStrike">
                <a:solidFill>
                  <a:srgbClr val="cc66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КОТИ</a:t>
            </a:r>
            <a:r>
              <a:rPr b="1" lang="ru-RU" sz="5400" spc="-1" strike="noStrike">
                <a:solidFill>
                  <a:srgbClr val="cc6600"/>
                </a:solidFill>
                <a:latin typeface="Arial"/>
              </a:rPr>
              <a:t>К </a:t>
            </a: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           СТУ</a:t>
            </a:r>
            <a:r>
              <a:rPr b="1" lang="ru-RU" sz="5400" spc="-1" strike="noStrike">
                <a:solidFill>
                  <a:srgbClr val="cc66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              </a:t>
            </a: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НО</a:t>
            </a:r>
            <a:r>
              <a:rPr b="1" lang="ru-RU" sz="5400" spc="-1" strike="noStrike">
                <a:solidFill>
                  <a:srgbClr val="cc6600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              </a:t>
            </a: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СО</a:t>
            </a:r>
            <a:r>
              <a:rPr b="1" lang="ru-RU" sz="5400" spc="-1" strike="noStrike">
                <a:solidFill>
                  <a:srgbClr val="cc66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174456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758960" cy="2425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5867280" y="8694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ста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332000" y="8996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стар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11280" y="4247280"/>
            <a:ext cx="331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л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жад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орчл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4427640" y="4163400"/>
            <a:ext cx="432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добр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скорыс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наив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1:50:18Z</dcterms:created>
  <dc:creator>Admin</dc:creator>
  <dc:description/>
  <dc:language>en-US</dc:language>
  <cp:lastModifiedBy>школа3</cp:lastModifiedBy>
  <dcterms:modified xsi:type="dcterms:W3CDTF">2012-10-29T07:02:48Z</dcterms:modified>
  <cp:revision>3</cp:revision>
  <dc:subject/>
  <dc:title>Слайд 1</dc:title>
</cp:coreProperties>
</file>