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31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34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1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265-4EAB-408E-8507-B0C2125F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2D4-5079-48BD-92F1-B9A69A7B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855-E29B-4B14-A7E5-23EC012A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C07-549E-4319-8E84-1C12D9CD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575B-4CD9-49C5-8F23-AA5BBAC8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BB34-F760-4C76-8C0B-1EA60EF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226C-E990-45A7-9381-9307EAF5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AC4-9172-48DF-9450-1059D9A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65D-9F74-4621-9457-8077E61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1BD-E4CD-47EB-8D7E-880D8D41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EA87-56B5-4364-ACF8-079FF497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3E2-FE60-4DBB-B455-E8A356D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3486-1297-4661-A493-B0C9DA58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4EA-7D6E-470A-816C-C0F4AC4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7E3-AE9E-40E2-8A87-4E2F653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CF5-9252-466C-997D-F3BD2FC4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3CE1-A994-4ACD-A3C9-AE9B75AA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0C2-D5F4-4549-8B5F-DE90A1A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AFD-A776-43F0-9C5B-F85C23A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2F2-B8BF-411F-8FC6-1441EE2E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94B-7279-4EA9-A6BF-F4E76CD3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AEB-CB86-42B2-A4DA-F199A91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B52-4104-4198-8F53-56FF7484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B4A-1448-4E1F-BE4F-D2D607B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50000">
              <a:srgbClr val="eb8803"/>
            </a:gs>
            <a:gs pos="100000">
              <a:srgbClr val="4e5b6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BE0E-104F-431D-BE27-94C7AC9B6B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Oval 9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Oval 12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Group 14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Oval 15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Group 20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Oval 21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Oval 24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Oval 27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Oval 28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Group 29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Oval 30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Oval 31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Group 32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Oval 33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Oval 34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Group 35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Oval 36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Oval 37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Group 38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Oval 39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Oval 40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" name="Group 41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Oval 42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Oval 43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50000">
              <a:srgbClr val="eb8803"/>
            </a:gs>
            <a:gs pos="100000">
              <a:srgbClr val="4e5b6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Group 3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Oval 4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5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6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Oval 7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Oval 8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9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Oval 10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Oval 11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12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Oval 13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Oval 14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Group 15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Oval 16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Oval 17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18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Oval 19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Oval 20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21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Oval 22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Oval 23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4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Oval 25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26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7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Oval 28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Oval 29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0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Oval 31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32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33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Oval 34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35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36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Oval 37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Oval 38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6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CC2-05D1-4660-90A2-B7B95FD548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1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Горизонтальный свиток 4"/>
          <p:cNvSpPr/>
          <p:nvPr/>
        </p:nvSpPr>
        <p:spPr>
          <a:xfrm>
            <a:off x="500040" y="1643040"/>
            <a:ext cx="8143920" cy="2786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714240" y="642960"/>
            <a:ext cx="7500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ворческий проек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Освоение игр по обучению детей чувствительности к противоречиям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34" descr=""/>
          <p:cNvPicPr/>
          <p:nvPr/>
        </p:nvPicPr>
        <p:blipFill>
          <a:blip r:embed="rId1"/>
          <a:stretch/>
        </p:blipFill>
        <p:spPr>
          <a:xfrm>
            <a:off x="5715000" y="3929040"/>
            <a:ext cx="2971800" cy="253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j0232133"/>
          <p:cNvPicPr/>
          <p:nvPr/>
        </p:nvPicPr>
        <p:blipFill>
          <a:blip r:embed="rId2"/>
          <a:stretch/>
        </p:blipFill>
        <p:spPr>
          <a:xfrm>
            <a:off x="1000080" y="4214880"/>
            <a:ext cx="221472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5"/>
          <p:cNvSpPr/>
          <p:nvPr/>
        </p:nvSpPr>
        <p:spPr>
          <a:xfrm>
            <a:off x="2071800" y="571680"/>
            <a:ext cx="5214960" cy="9284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мик призна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E:\рабочий стол 153.JPG"/>
          <p:cNvPicPr/>
          <p:nvPr/>
        </p:nvPicPr>
        <p:blipFill>
          <a:blip r:embed="rId1"/>
          <a:stretch/>
        </p:blipFill>
        <p:spPr>
          <a:xfrm>
            <a:off x="642960" y="1857240"/>
            <a:ext cx="657216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C:\Users\Администратор\Desktop\09fd9ddb4c0eafb5bbb20b593721c438_ee2b711a946019aeb0777eba8ca7d72e.jpg"/>
          <p:cNvPicPr/>
          <p:nvPr/>
        </p:nvPicPr>
        <p:blipFill>
          <a:blip r:embed="rId1"/>
          <a:stretch/>
        </p:blipFill>
        <p:spPr>
          <a:xfrm>
            <a:off x="571680" y="500040"/>
            <a:ext cx="7835760" cy="5931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C:\Users\Администратор\Desktop\d2161bc869f96fd0156bd4cb40529705_ca402e7c1b80b04250ae6f08808cb68f.jpg"/>
          <p:cNvPicPr/>
          <p:nvPr/>
        </p:nvPicPr>
        <p:blipFill>
          <a:blip r:embed="rId1"/>
          <a:stretch/>
        </p:blipFill>
        <p:spPr>
          <a:xfrm>
            <a:off x="785880" y="428760"/>
            <a:ext cx="7835760" cy="5930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C:\Users\Администратор\Desktop\33b1ccbf844f2a3272c590f64aa98d95_a5e8c2dfaf6a65c3b941eac8545a64ba.jpg"/>
          <p:cNvPicPr/>
          <p:nvPr/>
        </p:nvPicPr>
        <p:blipFill>
          <a:blip r:embed="rId1"/>
          <a:stretch/>
        </p:blipFill>
        <p:spPr>
          <a:xfrm>
            <a:off x="642960" y="428760"/>
            <a:ext cx="7835760" cy="5930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Администратор\Desktop\DSC01539.JPG"/>
          <p:cNvPicPr/>
          <p:nvPr/>
        </p:nvPicPr>
        <p:blipFill>
          <a:blip r:embed="rId1"/>
          <a:stretch/>
        </p:blipFill>
        <p:spPr>
          <a:xfrm>
            <a:off x="571680" y="1357200"/>
            <a:ext cx="3143160" cy="4191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82" name="Picture 3" descr="C:\Users\Администратор\Desktop\DSC01537.JPG"/>
          <p:cNvPicPr/>
          <p:nvPr/>
        </p:nvPicPr>
        <p:blipFill>
          <a:blip r:embed="rId2"/>
          <a:stretch/>
        </p:blipFill>
        <p:spPr>
          <a:xfrm>
            <a:off x="4071960" y="1571760"/>
            <a:ext cx="4929120" cy="3697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дедок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476280"/>
            <a:ext cx="4270320" cy="48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молодой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557360"/>
            <a:ext cx="3946680" cy="4869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395280" y="6093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276720" y="47628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то на картинке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олодой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492360" y="1989000"/>
            <a:ext cx="2133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5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5"/>
          <a:stretch/>
        </p:blipFill>
        <p:spPr>
          <a:xfrm>
            <a:off x="883908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клоун1а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76720" y="1052640"/>
            <a:ext cx="3595680" cy="5805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4716360" y="260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клоун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есёл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-252360" y="0"/>
            <a:ext cx="471636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1" descr="клоун2а"/>
          <p:cNvPicPr/>
          <p:nvPr/>
        </p:nvPicPr>
        <p:blipFill>
          <a:blip r:embed="rId2"/>
          <a:stretch/>
        </p:blipFill>
        <p:spPr>
          <a:xfrm>
            <a:off x="250920" y="1341360"/>
            <a:ext cx="3254400" cy="5299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2"/>
          <p:cNvSpPr/>
          <p:nvPr/>
        </p:nvSpPr>
        <p:spPr>
          <a:xfrm>
            <a:off x="0" y="26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клоун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руст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16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кресло"/>
          <p:cNvPicPr/>
          <p:nvPr/>
        </p:nvPicPr>
        <p:blipFill>
          <a:blip r:embed="rId1"/>
          <a:stretch/>
        </p:blipFill>
        <p:spPr>
          <a:xfrm>
            <a:off x="5076720" y="1413000"/>
            <a:ext cx="3772080" cy="4662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7" descr="стул2"/>
          <p:cNvPicPr/>
          <p:nvPr/>
        </p:nvPicPr>
        <p:blipFill>
          <a:blip r:embed="rId2"/>
          <a:stretch/>
        </p:blipFill>
        <p:spPr>
          <a:xfrm>
            <a:off x="611280" y="1413000"/>
            <a:ext cx="3255840" cy="4767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395280" y="26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л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вёрд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932360" y="260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есло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ягко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diamond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785880" y="-791280"/>
            <a:ext cx="76438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«Хорошо – плохо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рассматривать объек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хорошо – плох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Овал 6"/>
          <p:cNvSpPr/>
          <p:nvPr/>
        </p:nvSpPr>
        <p:spPr>
          <a:xfrm>
            <a:off x="571680" y="3143160"/>
            <a:ext cx="1357200" cy="11430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Прямая со стрелкой 8"/>
          <p:cNvCxnSpPr/>
          <p:nvPr/>
        </p:nvCxnSpPr>
        <p:spPr>
          <a:xfrm flipV="1">
            <a:off x="1928880" y="3143160"/>
            <a:ext cx="1286640" cy="64332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204" name="Прямая со стрелкой 10"/>
          <p:cNvCxnSpPr/>
          <p:nvPr/>
        </p:nvCxnSpPr>
        <p:spPr>
          <a:xfrm>
            <a:off x="1785600" y="4000680"/>
            <a:ext cx="1429560" cy="357840"/>
          </a:xfrm>
          <a:prstGeom prst="straightConnector1">
            <a:avLst/>
          </a:prstGeom>
          <a:ln w="9360">
            <a:solidFill>
              <a:srgbClr val="7cd036"/>
            </a:solidFill>
            <a:miter/>
            <a:tailEnd len="med" type="arrow" w="med"/>
          </a:ln>
        </p:spPr>
      </p:cxnSp>
      <p:sp>
        <p:nvSpPr>
          <p:cNvPr id="205" name="Овал 11"/>
          <p:cNvSpPr/>
          <p:nvPr/>
        </p:nvSpPr>
        <p:spPr>
          <a:xfrm>
            <a:off x="3286080" y="2786040"/>
            <a:ext cx="785880" cy="1000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3357720" y="3929040"/>
            <a:ext cx="785520" cy="1000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11" descr="C:\Users\Администратор\Desktop\DSC01541.JPG"/>
          <p:cNvPicPr/>
          <p:nvPr/>
        </p:nvPicPr>
        <p:blipFill>
          <a:blip r:embed="rId1"/>
          <a:stretch/>
        </p:blipFill>
        <p:spPr>
          <a:xfrm>
            <a:off x="5786280" y="571680"/>
            <a:ext cx="2928960" cy="3071520"/>
          </a:xfrm>
          <a:prstGeom prst="rect">
            <a:avLst/>
          </a:prstGeom>
          <a:ln w="76320">
            <a:solidFill>
              <a:srgbClr val="b0105c"/>
            </a:solidFill>
            <a:miter/>
          </a:ln>
        </p:spPr>
      </p:pic>
      <p:pic>
        <p:nvPicPr>
          <p:cNvPr id="208" name="Picture 12" descr="C:\Users\Администратор\Desktop\DSC01540.JPG"/>
          <p:cNvPicPr/>
          <p:nvPr/>
        </p:nvPicPr>
        <p:blipFill>
          <a:blip r:embed="rId2"/>
          <a:stretch/>
        </p:blipFill>
        <p:spPr>
          <a:xfrm>
            <a:off x="5786280" y="3860640"/>
            <a:ext cx="2928960" cy="2803680"/>
          </a:xfrm>
          <a:prstGeom prst="rect">
            <a:avLst/>
          </a:prstGeom>
          <a:ln w="76320">
            <a:solidFill>
              <a:srgbClr val="b0105c"/>
            </a:solidFill>
            <a:miter/>
          </a:ln>
        </p:spPr>
      </p:pic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киса"/>
          <p:cNvPicPr/>
          <p:nvPr/>
        </p:nvPicPr>
        <p:blipFill>
          <a:blip r:embed="rId1"/>
          <a:stretch/>
        </p:blipFill>
        <p:spPr>
          <a:xfrm>
            <a:off x="4822920" y="2781360"/>
            <a:ext cx="4321080" cy="33382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7" descr="зая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2060640"/>
            <a:ext cx="3887640" cy="41036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28760" y="0"/>
            <a:ext cx="42512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зайца ушк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лин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хвостик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214960" y="0"/>
            <a:ext cx="3786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кота ушк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ротк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 хвости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лин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Овальная выноска 2"/>
          <p:cNvSpPr/>
          <p:nvPr/>
        </p:nvSpPr>
        <p:spPr>
          <a:xfrm>
            <a:off x="357120" y="500040"/>
            <a:ext cx="7786800" cy="14288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500040" y="785880"/>
            <a:ext cx="83581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 выбора темы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– первых, данный возраст является сенситивным периодом для развития основ диалектического мышлен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– вторых, дети обладают чувствительностью к проблемным ситуациям и устойчивым желанием с ними работа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j0232726"/>
          <p:cNvPicPr/>
          <p:nvPr/>
        </p:nvPicPr>
        <p:blipFill>
          <a:blip r:embed="rId1"/>
          <a:stretch/>
        </p:blipFill>
        <p:spPr>
          <a:xfrm>
            <a:off x="7286760" y="57168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042920" y="1890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агад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8459640" y="6093000"/>
            <a:ext cx="395280" cy="539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39640"/>
              <a:gd name="textAreaBottom" fmla="*/ 514080 h 539640"/>
            </a:gdLst>
            <a:ahLst/>
            <a:rect l="textAreaLeft" t="textAreaTop" r="textAreaRight" b="textAreaBottom"/>
            <a:pathLst>
              <a:path w="21600" h="29481">
                <a:moveTo>
                  <a:pt x="0" y="0"/>
                </a:moveTo>
                <a:lnTo>
                  <a:pt x="21600" y="0"/>
                </a:lnTo>
                <a:lnTo>
                  <a:pt x="21600" y="29481"/>
                </a:lnTo>
                <a:lnTo>
                  <a:pt x="0" y="29481"/>
                </a:lnTo>
                <a:close/>
              </a:path>
              <a:path fill="lightenLess" w="21600" h="294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81">
                <a:moveTo>
                  <a:pt x="21600" y="0"/>
                </a:moveTo>
                <a:lnTo>
                  <a:pt x="21600" y="29481"/>
                </a:lnTo>
                <a:lnTo>
                  <a:pt x="20200" y="28081"/>
                </a:lnTo>
                <a:lnTo>
                  <a:pt x="20200" y="1400"/>
                </a:lnTo>
                <a:close/>
              </a:path>
              <a:path fill="darkenLess" w="21600" h="29481">
                <a:moveTo>
                  <a:pt x="21600" y="29481"/>
                </a:moveTo>
                <a:lnTo>
                  <a:pt x="0" y="29481"/>
                </a:lnTo>
                <a:lnTo>
                  <a:pt x="1400" y="28081"/>
                </a:lnTo>
                <a:lnTo>
                  <a:pt x="20200" y="28081"/>
                </a:lnTo>
                <a:close/>
              </a:path>
              <a:path fill="lighten" w="21600" h="29481">
                <a:moveTo>
                  <a:pt x="0" y="294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81"/>
                </a:lnTo>
                <a:close/>
              </a:path>
              <a:path fill="darkenLess" w="21600" h="29481">
                <a:moveTo>
                  <a:pt x="5273" y="7926"/>
                </a:moveTo>
                <a:lnTo>
                  <a:pt x="12271" y="7926"/>
                </a:lnTo>
                <a:lnTo>
                  <a:pt x="16327" y="11425"/>
                </a:lnTo>
                <a:lnTo>
                  <a:pt x="16327" y="21556"/>
                </a:lnTo>
                <a:lnTo>
                  <a:pt x="5273" y="21556"/>
                </a:lnTo>
                <a:close/>
              </a:path>
              <a:path fill="darken" w="21600" h="29481">
                <a:moveTo>
                  <a:pt x="12271" y="7926"/>
                </a:moveTo>
                <a:lnTo>
                  <a:pt x="16327" y="11425"/>
                </a:lnTo>
                <a:lnTo>
                  <a:pt x="12271" y="11425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68360" y="1557360"/>
            <a:ext cx="385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антоним к слову лет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шубу снежную од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ь люблю мороз са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ому что я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859280" y="3429000"/>
            <a:ext cx="403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антоним к слову сме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т радости, утех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бываю по невол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печали и от бол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иды, неуда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гадались? Это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7" descr="_________________________"/>
          <p:cNvPicPr/>
          <p:nvPr/>
        </p:nvPicPr>
        <p:blipFill>
          <a:blip r:embed="rId3"/>
          <a:stretch/>
        </p:blipFill>
        <p:spPr>
          <a:xfrm>
            <a:off x="611280" y="3859200"/>
            <a:ext cx="3600360" cy="2382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19" name="Picture 9" descr="Картинка 52 из 9099"/>
          <p:cNvPicPr/>
          <p:nvPr/>
        </p:nvPicPr>
        <p:blipFill>
          <a:blip r:embed="rId4"/>
          <a:stretch/>
        </p:blipFill>
        <p:spPr>
          <a:xfrm>
            <a:off x="5219640" y="1484280"/>
            <a:ext cx="2340000" cy="1751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med"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042920" y="1890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Пословиц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8459640" y="6093000"/>
            <a:ext cx="395280" cy="539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39640"/>
              <a:gd name="textAreaBottom" fmla="*/ 514080 h 539640"/>
            </a:gdLst>
            <a:ahLst/>
            <a:rect l="textAreaLeft" t="textAreaTop" r="textAreaRight" b="textAreaBottom"/>
            <a:pathLst>
              <a:path w="21600" h="29481">
                <a:moveTo>
                  <a:pt x="0" y="0"/>
                </a:moveTo>
                <a:lnTo>
                  <a:pt x="21600" y="0"/>
                </a:lnTo>
                <a:lnTo>
                  <a:pt x="21600" y="29481"/>
                </a:lnTo>
                <a:lnTo>
                  <a:pt x="0" y="29481"/>
                </a:lnTo>
                <a:close/>
              </a:path>
              <a:path fill="lightenLess" w="21600" h="294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81">
                <a:moveTo>
                  <a:pt x="21600" y="0"/>
                </a:moveTo>
                <a:lnTo>
                  <a:pt x="21600" y="29481"/>
                </a:lnTo>
                <a:lnTo>
                  <a:pt x="20200" y="28081"/>
                </a:lnTo>
                <a:lnTo>
                  <a:pt x="20200" y="1400"/>
                </a:lnTo>
                <a:close/>
              </a:path>
              <a:path fill="darkenLess" w="21600" h="29481">
                <a:moveTo>
                  <a:pt x="21600" y="29481"/>
                </a:moveTo>
                <a:lnTo>
                  <a:pt x="0" y="29481"/>
                </a:lnTo>
                <a:lnTo>
                  <a:pt x="1400" y="28081"/>
                </a:lnTo>
                <a:lnTo>
                  <a:pt x="20200" y="28081"/>
                </a:lnTo>
                <a:close/>
              </a:path>
              <a:path fill="lighten" w="21600" h="29481">
                <a:moveTo>
                  <a:pt x="0" y="294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81"/>
                </a:lnTo>
                <a:close/>
              </a:path>
              <a:path fill="darkenLess" w="21600" h="29481">
                <a:moveTo>
                  <a:pt x="5273" y="7926"/>
                </a:moveTo>
                <a:lnTo>
                  <a:pt x="12271" y="7926"/>
                </a:lnTo>
                <a:lnTo>
                  <a:pt x="16327" y="11425"/>
                </a:lnTo>
                <a:lnTo>
                  <a:pt x="16327" y="21556"/>
                </a:lnTo>
                <a:lnTo>
                  <a:pt x="5273" y="21556"/>
                </a:lnTo>
                <a:close/>
              </a:path>
              <a:path fill="darken" w="21600" h="29481">
                <a:moveTo>
                  <a:pt x="12271" y="7926"/>
                </a:moveTo>
                <a:lnTo>
                  <a:pt x="16327" y="11425"/>
                </a:lnTo>
                <a:lnTo>
                  <a:pt x="12271" y="11425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84360" y="1557360"/>
            <a:ext cx="4105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Дума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длен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ыстр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6" descr="stadium_big"/>
          <p:cNvPicPr/>
          <p:nvPr/>
        </p:nvPicPr>
        <p:blipFill>
          <a:blip r:embed="rId3"/>
          <a:stretch/>
        </p:blipFill>
        <p:spPr>
          <a:xfrm>
            <a:off x="4788000" y="1700280"/>
            <a:ext cx="3313080" cy="2484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24" name="Picture 8" descr="Картинка 37 из 810"/>
          <p:cNvPicPr/>
          <p:nvPr/>
        </p:nvPicPr>
        <p:blipFill>
          <a:blip r:embed="rId4"/>
          <a:stretch/>
        </p:blipFill>
        <p:spPr>
          <a:xfrm>
            <a:off x="826920" y="3470400"/>
            <a:ext cx="3457800" cy="25444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225" name="Rectangle 9"/>
          <p:cNvSpPr/>
          <p:nvPr/>
        </p:nvSpPr>
        <p:spPr>
          <a:xfrm>
            <a:off x="4575600" y="4581360"/>
            <a:ext cx="43426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аленьк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л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раст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D:\Desktop\P1010196.JPG"/>
          <p:cNvPicPr/>
          <p:nvPr/>
        </p:nvPicPr>
        <p:blipFill>
          <a:blip r:embed="rId1"/>
          <a:stretch/>
        </p:blipFill>
        <p:spPr>
          <a:xfrm>
            <a:off x="-23760" y="-17640"/>
            <a:ext cx="9167760" cy="687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1352520" y="268200"/>
            <a:ext cx="6870600" cy="811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D:\Desktop\P1010200.JPG"/>
          <p:cNvPicPr/>
          <p:nvPr/>
        </p:nvPicPr>
        <p:blipFill>
          <a:blip r:embed="rId3"/>
          <a:stretch/>
        </p:blipFill>
        <p:spPr>
          <a:xfrm>
            <a:off x="-21216960" y="8215200"/>
            <a:ext cx="19507320" cy="10644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Блок-схема: перфолента 3"/>
          <p:cNvSpPr/>
          <p:nvPr/>
        </p:nvSpPr>
        <p:spPr>
          <a:xfrm>
            <a:off x="500040" y="0"/>
            <a:ext cx="5357880" cy="2500200"/>
          </a:xfrm>
          <a:prstGeom prst="flowChartPunchedTap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714240" y="571680"/>
            <a:ext cx="3929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157a"/>
                </a:solidFill>
                <a:latin typeface="Times New Roman"/>
              </a:rPr>
              <a:t>Цель исследова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своение игр по обучению детей чувствительности к противоречи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C:\Users\Администратор\Desktop\DSC01530.JPG"/>
          <p:cNvPicPr/>
          <p:nvPr/>
        </p:nvPicPr>
        <p:blipFill>
          <a:blip r:embed="rId1"/>
          <a:stretch/>
        </p:blipFill>
        <p:spPr>
          <a:xfrm>
            <a:off x="4714920" y="3357720"/>
            <a:ext cx="3608280" cy="2706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14200" y="-37080"/>
            <a:ext cx="850104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 возможности  обучения детей работе с признака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высить уровень выразительности речи у дет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условия для мотивации детей на использование в речи образных  характеристик объект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14200" y="261000"/>
            <a:ext cx="8501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 возможности  обучения детей работе с противоречиям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 условия для развития у детей основ диалектического мышления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4071960" y="1304280"/>
            <a:ext cx="507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ых задач  является становление личности – творческой, самобытной, уникальн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й самостоятельно пополнять знания, извлекать полезно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ывать собственные цели и ценности в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4" descr="C:\Users\Администратор\Desktop\DSC01542.JPG"/>
          <p:cNvPicPr/>
          <p:nvPr/>
        </p:nvPicPr>
        <p:blipFill>
          <a:blip r:embed="rId1"/>
          <a:stretch/>
        </p:blipFill>
        <p:spPr>
          <a:xfrm>
            <a:off x="357120" y="2000160"/>
            <a:ext cx="3500640" cy="262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714240" y="-310320"/>
            <a:ext cx="77868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0"/>
                </a:solidFill>
                <a:latin typeface="Times New Roman"/>
                <a:ea typeface="Times New Roman"/>
              </a:rPr>
              <a:t>1 Этап формирования коммуникативной компетентности</a:t>
            </a:r>
            <a:r>
              <a:rPr b="0" lang="ru-RU" sz="3600" spc="-1" strike="noStrike">
                <a:solidFill>
                  <a:srgbClr val="00006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ладший возраст -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активный этап коммуникаций организован по инициативе педагога и регулируется в рамках общения «ребенок – взрослый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44[1]"/>
          <p:cNvPicPr/>
          <p:nvPr/>
        </p:nvPicPr>
        <p:blipFill>
          <a:blip r:embed="rId1"/>
          <a:srcRect l="7565" t="13912" r="8303" b="31620"/>
          <a:stretch/>
        </p:blipFill>
        <p:spPr>
          <a:xfrm>
            <a:off x="330120" y="2271600"/>
            <a:ext cx="8629560" cy="3302280"/>
          </a:xfrm>
          <a:prstGeom prst="rect">
            <a:avLst/>
          </a:prstGeom>
          <a:ln w="57240">
            <a:solidFill>
              <a:srgbClr val="ff6600"/>
            </a:solidFill>
            <a:prstDash val="lgDash"/>
            <a:miter/>
          </a:ln>
        </p:spPr>
      </p:pic>
      <p:sp>
        <p:nvSpPr>
          <p:cNvPr id="172" name="WordArt 4"/>
          <p:cNvSpPr txBox="1"/>
          <p:nvPr/>
        </p:nvSpPr>
        <p:spPr>
          <a:xfrm>
            <a:off x="1042920" y="18900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"Пинг - понг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8459640" y="6093000"/>
            <a:ext cx="395280" cy="539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39640"/>
              <a:gd name="textAreaBottom" fmla="*/ 514080 h 539640"/>
            </a:gdLst>
            <a:ahLst/>
            <a:rect l="textAreaLeft" t="textAreaTop" r="textAreaRight" b="textAreaBottom"/>
            <a:pathLst>
              <a:path w="21600" h="29481">
                <a:moveTo>
                  <a:pt x="0" y="0"/>
                </a:moveTo>
                <a:lnTo>
                  <a:pt x="21600" y="0"/>
                </a:lnTo>
                <a:lnTo>
                  <a:pt x="21600" y="29481"/>
                </a:lnTo>
                <a:lnTo>
                  <a:pt x="0" y="29481"/>
                </a:lnTo>
                <a:close/>
              </a:path>
              <a:path fill="lightenLess" w="21600" h="294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481">
                <a:moveTo>
                  <a:pt x="21600" y="0"/>
                </a:moveTo>
                <a:lnTo>
                  <a:pt x="21600" y="29481"/>
                </a:lnTo>
                <a:lnTo>
                  <a:pt x="20200" y="28081"/>
                </a:lnTo>
                <a:lnTo>
                  <a:pt x="20200" y="1400"/>
                </a:lnTo>
                <a:close/>
              </a:path>
              <a:path fill="darkenLess" w="21600" h="29481">
                <a:moveTo>
                  <a:pt x="21600" y="29481"/>
                </a:moveTo>
                <a:lnTo>
                  <a:pt x="0" y="29481"/>
                </a:lnTo>
                <a:lnTo>
                  <a:pt x="1400" y="28081"/>
                </a:lnTo>
                <a:lnTo>
                  <a:pt x="20200" y="28081"/>
                </a:lnTo>
                <a:close/>
              </a:path>
              <a:path fill="lighten" w="21600" h="29481">
                <a:moveTo>
                  <a:pt x="0" y="294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081"/>
                </a:lnTo>
                <a:close/>
              </a:path>
              <a:path fill="darkenLess" w="21600" h="29481">
                <a:moveTo>
                  <a:pt x="5273" y="7926"/>
                </a:moveTo>
                <a:lnTo>
                  <a:pt x="12271" y="7926"/>
                </a:lnTo>
                <a:lnTo>
                  <a:pt x="16327" y="11425"/>
                </a:lnTo>
                <a:lnTo>
                  <a:pt x="16327" y="21556"/>
                </a:lnTo>
                <a:lnTo>
                  <a:pt x="5273" y="21556"/>
                </a:lnTo>
                <a:close/>
              </a:path>
              <a:path fill="darken" w="21600" h="29481">
                <a:moveTo>
                  <a:pt x="12271" y="7926"/>
                </a:moveTo>
                <a:lnTo>
                  <a:pt x="16327" y="11425"/>
                </a:lnTo>
                <a:lnTo>
                  <a:pt x="12271" y="11425"/>
                </a:ln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Администратор\Desktop\DSC01534.JPG"/>
          <p:cNvPicPr/>
          <p:nvPr/>
        </p:nvPicPr>
        <p:blipFill>
          <a:blip r:embed="rId1"/>
          <a:stretch/>
        </p:blipFill>
        <p:spPr>
          <a:xfrm>
            <a:off x="214200" y="1643040"/>
            <a:ext cx="4286520" cy="3214800"/>
          </a:xfrm>
          <a:prstGeom prst="rect">
            <a:avLst/>
          </a:prstGeom>
          <a:ln w="76320">
            <a:solidFill>
              <a:srgbClr val="b0105c"/>
            </a:solidFill>
            <a:miter/>
          </a:ln>
        </p:spPr>
      </p:pic>
      <p:pic>
        <p:nvPicPr>
          <p:cNvPr id="175" name="Picture 3" descr="C:\Users\Администратор\Desktop\DSC01532.JPG"/>
          <p:cNvPicPr/>
          <p:nvPr/>
        </p:nvPicPr>
        <p:blipFill>
          <a:blip r:embed="rId2"/>
          <a:stretch/>
        </p:blipFill>
        <p:spPr>
          <a:xfrm>
            <a:off x="4714920" y="1643040"/>
            <a:ext cx="4286160" cy="3214800"/>
          </a:xfrm>
          <a:prstGeom prst="rect">
            <a:avLst/>
          </a:prstGeom>
          <a:ln w="76320">
            <a:solidFill>
              <a:srgbClr val="b0105c"/>
            </a:solidFill>
            <a:miter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28:44Z</dcterms:created>
  <dc:creator>klass9</dc:creator>
  <dc:description/>
  <dc:language>en-US</dc:language>
  <cp:lastModifiedBy>Наталья</cp:lastModifiedBy>
  <dcterms:modified xsi:type="dcterms:W3CDTF">2016-12-01T15:33:38Z</dcterms:modified>
  <cp:revision>226</cp:revision>
  <dc:subject/>
  <dc:title>Тема проекта:«Освоение игр   по обучению детей чувствительности к противоречиям»</dc:title>
</cp:coreProperties>
</file>