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gif" ContentType="image/gif"/>
  <Override PartName="/ppt/media/image15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772-09BC-4340-B61D-3422730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8CF-EC47-4191-8DFF-61D9EA10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7DD-6F64-4E28-8D49-5730D964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086-72CB-4541-A5B0-239E96B0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D407-728A-4F2F-83FB-8D334BE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F8D8-D84A-4087-A53F-177EBF2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6B6-18A5-450F-9757-67FBD92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93A-CE5F-4418-88B3-69903F80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7BBB-A77B-486B-BA8D-EAD4AA9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E35C-A544-48C7-B5D5-A917EA2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5F5-8ED8-4C4F-90E4-9848046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6B-1E99-4AB9-8841-55983B7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505B-E603-423E-87C7-6DF6BC9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D6E-CA70-43D5-9294-AB21B13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323E-DF11-473F-AD3D-372F25ED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F22B-F73D-46AC-B4EC-BDD5337C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A6E4-9907-4E86-88AC-8C0CB5F5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F78E-CB71-4476-9BE9-E3E51F0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AAAC-C1FD-411B-A56C-29C30CE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30BC-6E24-4EB5-ABD2-0EB2534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7A3B-01CD-45B1-AE0B-5D48A10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62D3-1AAE-4CCA-86E1-92F87EE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B8D-8426-491D-9904-F13A7C7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E69E-566E-40BB-854F-815307B5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4642-65A3-4686-BEBE-6FD7C37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8B06-B6D1-4D91-B547-06DF879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CF5D-3C7C-4A6F-8D40-E6EF69C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B53F-8E1F-41AE-92DE-C03B16CC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C6D4-595D-4873-B2E1-3907CC8C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19DE-8F88-4B1D-8E01-FD772C15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4B18-6197-47EC-89F2-1B328AA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ED30-5820-421B-B546-B651FCF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529F-1D68-48CC-8F03-ECD5612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B5D-8A63-41DE-A193-ECCE5AD8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A295-7F92-41F7-94CF-87E60823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4312-5D4B-47E3-9C80-EB1B4B3A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63FD-C2EF-4691-8BBE-DFF0D9CB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60AA-51CE-41F9-A8AD-2D2B6FF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1F56-9427-49AF-8B2B-D909263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81B79-899A-4241-910F-56428B4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CAB2-A647-4235-AF47-E3230920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AA67-48D3-4946-8788-10DE1D00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3C9A-99CD-4514-BE83-CAE83883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36B1-5DCA-4EFE-9D63-6DDD4B79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0F3-9B89-4082-9F31-6ED088D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6D08-1314-4844-BD27-9EC8E3F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B731-D9D1-4533-847E-AE79DD2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FD32-F38C-4A7F-886A-2F20652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AE23-5759-44D0-9D88-0D9A707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5950-C61E-497A-8A02-BD02BC9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890A-EC6F-4267-A96E-B9E8585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DAA3-BA55-4549-A9A4-ED3EE92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2AC5-A49D-44A8-B694-97F6081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28C9-9E8B-42B8-B3E0-BAF3991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30E4-FD4E-45C6-9475-39ABA50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CE0-C385-4999-9452-A125CCE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99D8-8C6E-483A-8756-10EFBD7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279D-78CF-4A8B-BEF9-F4948F2D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15B5-1CCD-464B-83C9-77D379D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87BC8-2A26-4289-BE9D-7892810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58A9-2BE6-41CC-ADD2-316B0B97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ACB2-8613-4F6B-8062-C337561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F552-A8B3-4FE4-852B-6693C47D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2EAA9-9FAA-4BC1-B2AF-D79CA2F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F22E9-AE8A-43DF-840F-8756539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6E16-CEFA-4735-95E5-C04B4C7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7A1-8689-443E-BA7F-4AE3942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A975-4F14-432D-A85D-66261C4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B39B-7D9F-4CB0-94B0-4C1A5D0B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73615-B5DC-4047-AA05-1787A3C0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3FD-A42F-42F9-B860-0C0A775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0A4-9327-45A8-8386-1035B25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C97-4FFF-4306-954A-075F2232CD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095520" y="6244920"/>
            <a:ext cx="162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5D1D-9A9A-4005-96D1-5672FF1587A3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6DE-C724-43C8-9231-BC65AEC5CBF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9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0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4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6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7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0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1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2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3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4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5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6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7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8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3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4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5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6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7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8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19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0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1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2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3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4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5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6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7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8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29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0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231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232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A707-D7DE-4BA2-9723-D34E3859553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920" y="1752120"/>
            <a:ext cx="6248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1447560" y="62449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095880" y="6244920"/>
            <a:ext cx="163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B333-EA02-4B96-85B8-1663D7FF6011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E38D-FB40-4119-9E65-AEF84CA1B7E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00080" y="107136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Да, путь познания не гладок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Но знаем мы со школьных лет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Загадок больше, чем разгадок,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Monotype Corsiva"/>
              </a:rPr>
              <a:t>И поискам предела нет!»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355896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500040" y="4287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2. В прямоугольном треугольнике известен катет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9 см и гипотенуз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c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41 см, найдите второй катет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Прямоугольный треугольник 2"/>
          <p:cNvSpPr/>
          <p:nvPr/>
        </p:nvSpPr>
        <p:spPr>
          <a:xfrm>
            <a:off x="3286080" y="2071800"/>
            <a:ext cx="2857680" cy="400032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442908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471492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2214720" y="357192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-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0" y="126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571680" y="13906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Выяснить, что нужно найти, и что нам для этого дано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571680" y="303372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рименить нужную формулу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571680" y="4676760"/>
            <a:ext cx="700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ссмотреть прямоугольный треугольник;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2071800" y="45576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АЛГОРИТМ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66327E-006 L 2.77778E-006 0.26225 E">
                                      <p:cBhvr>
                                        <p:cTn id="201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5356E-006 L 0.00347 0.24236 E">
                                      <p:cBhvr>
                                        <p:cTn id="20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01 L -0.00052 -0.4586 E">
                                      <p:cBhvr>
                                        <p:cTn id="205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ый треугольник 1"/>
          <p:cNvSpPr/>
          <p:nvPr/>
        </p:nvSpPr>
        <p:spPr>
          <a:xfrm>
            <a:off x="1071720" y="2071800"/>
            <a:ext cx="142848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4" name="Прямоугольный треугольник 2"/>
          <p:cNvSpPr/>
          <p:nvPr/>
        </p:nvSpPr>
        <p:spPr>
          <a:xfrm rot="10800000">
            <a:off x="2999880" y="207144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Прямоугольный треугольник 3"/>
          <p:cNvSpPr/>
          <p:nvPr/>
        </p:nvSpPr>
        <p:spPr>
          <a:xfrm rot="16200000">
            <a:off x="5393520" y="2250000"/>
            <a:ext cx="1428840" cy="2500200"/>
          </a:xfrm>
          <a:prstGeom prst="rtTriangle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285840" y="4287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оотнесите треугольник, и верную запись теоремы Пифагор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714240" y="3214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3503520" y="1571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9" name="Прямоугольник 7"/>
          <p:cNvSpPr/>
          <p:nvPr/>
        </p:nvSpPr>
        <p:spPr>
          <a:xfrm>
            <a:off x="5715000" y="30002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571760" y="44290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5857920" y="4071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TextBox 10"/>
          <p:cNvSpPr/>
          <p:nvPr/>
        </p:nvSpPr>
        <p:spPr>
          <a:xfrm>
            <a:off x="3357720" y="3000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1857240" y="3071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4357800" y="2643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310520" y="3214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6" name="TextBox 14"/>
          <p:cNvSpPr/>
          <p:nvPr/>
        </p:nvSpPr>
        <p:spPr>
          <a:xfrm>
            <a:off x="57168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314316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8" name="TextBox 16"/>
          <p:cNvSpPr/>
          <p:nvPr/>
        </p:nvSpPr>
        <p:spPr>
          <a:xfrm>
            <a:off x="5500800" y="564372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=a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+b</a:t>
            </a:r>
            <a:r>
              <a:rPr b="1" i="1" lang="en-US" sz="4000" spc="-1" strike="noStrike" baseline="30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Полилиния 18"/>
          <p:cNvSpPr/>
          <p:nvPr/>
        </p:nvSpPr>
        <p:spPr>
          <a:xfrm>
            <a:off x="1890720" y="4290840"/>
            <a:ext cx="3924360" cy="1500480"/>
          </a:xfrm>
          <a:prstGeom prst="pie">
            <a:avLst/>
          </a:prstGeom>
          <a:noFill/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0" name="Полилиния 19"/>
          <p:cNvSpPr/>
          <p:nvPr/>
        </p:nvSpPr>
        <p:spPr>
          <a:xfrm>
            <a:off x="2206800" y="3970440"/>
            <a:ext cx="4254480" cy="1893960"/>
          </a:xfrm>
          <a:prstGeom prst="pie">
            <a:avLst/>
          </a:prstGeom>
          <a:noFill/>
          <a:ln cap="sq" w="7632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Полилиния 21"/>
          <p:cNvSpPr/>
          <p:nvPr/>
        </p:nvSpPr>
        <p:spPr>
          <a:xfrm>
            <a:off x="3376440" y="3666960"/>
            <a:ext cx="568440" cy="2040120"/>
          </a:xfrm>
          <a:prstGeom prst="pie">
            <a:avLst/>
          </a:prstGeom>
          <a:noFill/>
          <a:ln cap="sq" w="604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357120"/>
          <a:ext cx="8143920" cy="235764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2357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r>
                        <a:rPr b="1" i="1" lang="ru-RU" sz="3200" spc="-1" strike="noStrike">
                          <a:solidFill>
                            <a:srgbClr val="663300"/>
                          </a:solidFill>
                          <a:latin typeface="Calibri"/>
                          <a:ea typeface="Times New Roman"/>
                        </a:rPr>
                        <a:t>3.  В прямоугольной трапеции большая диагональ равна 25 см, большее основание 24 см, меньшее основание 16 см. Найти площадь трапеции.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3" name="Group 1"/>
          <p:cNvGrpSpPr/>
          <p:nvPr/>
        </p:nvGrpSpPr>
        <p:grpSpPr>
          <a:xfrm>
            <a:off x="1499760" y="3071520"/>
            <a:ext cx="4858200" cy="2857680"/>
            <a:chOff x="1499760" y="3071520"/>
            <a:chExt cx="4858200" cy="2857680"/>
          </a:xfrm>
        </p:grpSpPr>
        <p:cxnSp>
          <p:nvCxnSpPr>
            <p:cNvPr id="464" name="AutoShape 2"/>
            <p:cNvCxnSpPr/>
            <p:nvPr/>
          </p:nvCxnSpPr>
          <p:spPr>
            <a:xfrm>
              <a:off x="1499760" y="3071880"/>
              <a:ext cx="108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5" name="AutoShape 3"/>
            <p:cNvCxnSpPr/>
            <p:nvPr/>
          </p:nvCxnSpPr>
          <p:spPr>
            <a:xfrm>
              <a:off x="1499760" y="3071520"/>
              <a:ext cx="253188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6" name="AutoShape 4"/>
            <p:cNvCxnSpPr/>
            <p:nvPr/>
          </p:nvCxnSpPr>
          <p:spPr>
            <a:xfrm>
              <a:off x="1499760" y="5928480"/>
              <a:ext cx="485784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7" name="AutoShape 5"/>
            <p:cNvCxnSpPr/>
            <p:nvPr/>
          </p:nvCxnSpPr>
          <p:spPr>
            <a:xfrm>
              <a:off x="4031280" y="3071880"/>
              <a:ext cx="23270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68" name="AutoShape 6"/>
            <p:cNvCxnSpPr/>
            <p:nvPr/>
          </p:nvCxnSpPr>
          <p:spPr>
            <a:xfrm>
              <a:off x="1499760" y="3071880"/>
              <a:ext cx="4857840" cy="28576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69" name="TextBox 8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4143240" y="28544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35796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928800" y="5643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463400" y="3122280"/>
            <a:ext cx="5394240" cy="2878200"/>
            <a:chOff x="1463400" y="3122280"/>
            <a:chExt cx="5394240" cy="2878200"/>
          </a:xfrm>
        </p:grpSpPr>
        <p:sp>
          <p:nvSpPr>
            <p:cNvPr id="474" name="Rectangle 2"/>
            <p:cNvSpPr/>
            <p:nvPr/>
          </p:nvSpPr>
          <p:spPr>
            <a:xfrm>
              <a:off x="1463760" y="3122640"/>
              <a:ext cx="5393880" cy="28778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75" name="AutoShape 3"/>
            <p:cNvCxnSpPr/>
            <p:nvPr/>
          </p:nvCxnSpPr>
          <p:spPr>
            <a:xfrm flipV="1">
              <a:off x="1463400" y="3122280"/>
              <a:ext cx="5394600" cy="287856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76" name="TextBox 4"/>
          <p:cNvSpPr/>
          <p:nvPr/>
        </p:nvSpPr>
        <p:spPr>
          <a:xfrm>
            <a:off x="857160" y="-85680"/>
            <a:ext cx="66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4. Диагональ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D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прямоугольника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BCD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 равна 61 см, а сторон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</a:rPr>
              <a:t>a BC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равна 11 см. Найти периметр прямоугольника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1071720" y="2857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6929280" y="28576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6929280" y="5572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1000080" y="5643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2642760" y="1642680"/>
            <a:ext cx="2643120" cy="4057920"/>
            <a:chOff x="2642760" y="1642680"/>
            <a:chExt cx="2643120" cy="4057920"/>
          </a:xfrm>
        </p:grpSpPr>
        <p:sp>
          <p:nvSpPr>
            <p:cNvPr id="482" name="AutoShape 2"/>
            <p:cNvSpPr/>
            <p:nvPr/>
          </p:nvSpPr>
          <p:spPr>
            <a:xfrm>
              <a:off x="2643120" y="1643040"/>
              <a:ext cx="2642760" cy="4057560"/>
            </a:xfrm>
            <a:prstGeom prst="diamond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cxnSp>
          <p:nvCxnSpPr>
            <p:cNvPr id="483" name="AutoShape 3"/>
            <p:cNvCxnSpPr/>
            <p:nvPr/>
          </p:nvCxnSpPr>
          <p:spPr>
            <a:xfrm>
              <a:off x="2642760" y="3659400"/>
              <a:ext cx="2643120" cy="10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484" name="AutoShape 4"/>
            <p:cNvCxnSpPr/>
            <p:nvPr/>
          </p:nvCxnSpPr>
          <p:spPr>
            <a:xfrm>
              <a:off x="3949920" y="1642680"/>
              <a:ext cx="1080" cy="405828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</p:grpSp>
      <p:sp>
        <p:nvSpPr>
          <p:cNvPr id="48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Rectangle 18"/>
          <p:cNvSpPr/>
          <p:nvPr/>
        </p:nvSpPr>
        <p:spPr>
          <a:xfrm flipV="1" rot="10800000">
            <a:off x="1214280" y="-136080"/>
            <a:ext cx="6143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</a:rPr>
              <a:t>5. Диагонали ромба равны 6 см и 8 см. Найти длину стороны ромба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2143080" y="3357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8" name="TextBox 21"/>
          <p:cNvSpPr/>
          <p:nvPr/>
        </p:nvSpPr>
        <p:spPr>
          <a:xfrm>
            <a:off x="4000680" y="1214280"/>
            <a:ext cx="6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9" name="TextBox 22"/>
          <p:cNvSpPr/>
          <p:nvPr/>
        </p:nvSpPr>
        <p:spPr>
          <a:xfrm>
            <a:off x="5286240" y="3357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3714840" y="57862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Горизонтальный свиток 5"/>
          <p:cNvSpPr/>
          <p:nvPr/>
        </p:nvSpPr>
        <p:spPr>
          <a:xfrm>
            <a:off x="1071720" y="0"/>
            <a:ext cx="5929200" cy="114300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rbel"/>
              </a:rPr>
              <a:t>«Правило верёвки»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492" name="Рисунок 1" descr="треугольник ег..jpg"/>
          <p:cNvPicPr/>
          <p:nvPr/>
        </p:nvPicPr>
        <p:blipFill>
          <a:blip r:embed="rId1"/>
          <a:stretch/>
        </p:blipFill>
        <p:spPr>
          <a:xfrm>
            <a:off x="4357800" y="4000680"/>
            <a:ext cx="2666880" cy="21999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2" descr="3.jpg"/>
          <p:cNvPicPr/>
          <p:nvPr/>
        </p:nvPicPr>
        <p:blipFill>
          <a:blip r:embed="rId2"/>
          <a:stretch/>
        </p:blipFill>
        <p:spPr>
          <a:xfrm>
            <a:off x="4214880" y="1357200"/>
            <a:ext cx="2681280" cy="207180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4" descr="img255.tif"/>
          <p:cNvPicPr/>
          <p:nvPr/>
        </p:nvPicPr>
        <p:blipFill>
          <a:blip r:embed="rId3"/>
          <a:stretch/>
        </p:blipFill>
        <p:spPr>
          <a:xfrm>
            <a:off x="928800" y="1285920"/>
            <a:ext cx="25002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Горизонтальный свиток 49"/>
          <p:cNvSpPr/>
          <p:nvPr/>
        </p:nvSpPr>
        <p:spPr>
          <a:xfrm>
            <a:off x="4857840" y="142920"/>
            <a:ext cx="2928960" cy="2357280"/>
          </a:xfrm>
          <a:prstGeom prst="horizont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6" name="Прямоугольник 1"/>
          <p:cNvSpPr/>
          <p:nvPr/>
        </p:nvSpPr>
        <p:spPr>
          <a:xfrm>
            <a:off x="571680" y="3857760"/>
            <a:ext cx="4000320" cy="20714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497" name="Группа 38"/>
          <p:cNvGrpSpPr/>
          <p:nvPr/>
        </p:nvGrpSpPr>
        <p:grpSpPr>
          <a:xfrm>
            <a:off x="1643040" y="2928960"/>
            <a:ext cx="852480" cy="3002040"/>
            <a:chOff x="1643040" y="2928960"/>
            <a:chExt cx="852480" cy="3002040"/>
          </a:xfrm>
        </p:grpSpPr>
        <p:grpSp>
          <p:nvGrpSpPr>
            <p:cNvPr id="498" name="Группа 36"/>
            <p:cNvGrpSpPr/>
            <p:nvPr/>
          </p:nvGrpSpPr>
          <p:grpSpPr>
            <a:xfrm>
              <a:off x="2071080" y="3286800"/>
              <a:ext cx="1440" cy="2644200"/>
              <a:chOff x="2071080" y="3286800"/>
              <a:chExt cx="1440" cy="2644200"/>
            </a:xfrm>
          </p:grpSpPr>
          <p:sp>
            <p:nvSpPr>
              <p:cNvPr id="499" name="Прямая соединительная линия 33"/>
              <p:cNvSpPr/>
              <p:nvPr/>
            </p:nvSpPr>
            <p:spPr>
              <a:xfrm flipH="1">
                <a:off x="2071080" y="3286800"/>
                <a:ext cx="1440" cy="26442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0" name="Прямая соединительная линия 35"/>
              <p:cNvSpPr/>
              <p:nvPr/>
            </p:nvSpPr>
            <p:spPr>
              <a:xfrm flipH="1">
                <a:off x="2071080" y="3858480"/>
                <a:ext cx="1440" cy="207252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1" name="Рисунок 37" descr="1F1.gif"/>
            <p:cNvPicPr/>
            <p:nvPr/>
          </p:nvPicPr>
          <p:blipFill>
            <a:blip r:embed="rId1"/>
            <a:stretch/>
          </p:blipFill>
          <p:spPr>
            <a:xfrm>
              <a:off x="1643040" y="292896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9"/>
          <p:cNvGrpSpPr/>
          <p:nvPr/>
        </p:nvGrpSpPr>
        <p:grpSpPr>
          <a:xfrm>
            <a:off x="2113920" y="3285360"/>
            <a:ext cx="2254320" cy="2575080"/>
            <a:chOff x="2113920" y="3285360"/>
            <a:chExt cx="2254320" cy="2575080"/>
          </a:xfrm>
        </p:grpSpPr>
        <p:grpSp>
          <p:nvGrpSpPr>
            <p:cNvPr id="503" name="Группа 36"/>
            <p:cNvGrpSpPr/>
            <p:nvPr/>
          </p:nvGrpSpPr>
          <p:grpSpPr>
            <a:xfrm>
              <a:off x="2113920" y="3835440"/>
              <a:ext cx="1700280" cy="2025000"/>
              <a:chOff x="2113920" y="3835440"/>
              <a:chExt cx="1700280" cy="2025000"/>
            </a:xfrm>
          </p:grpSpPr>
          <p:sp>
            <p:nvSpPr>
              <p:cNvPr id="504" name="Прямая соединительная линия 42"/>
              <p:cNvSpPr/>
              <p:nvPr/>
            </p:nvSpPr>
            <p:spPr>
              <a:xfrm flipH="1">
                <a:off x="2113920" y="3835440"/>
                <a:ext cx="1700280" cy="2025000"/>
              </a:xfrm>
              <a:prstGeom prst="line">
                <a:avLst/>
              </a:prstGeom>
              <a:ln cap="sq"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505" name="Прямая соединительная линия 43"/>
              <p:cNvSpPr/>
              <p:nvPr/>
            </p:nvSpPr>
            <p:spPr>
              <a:xfrm flipH="1">
                <a:off x="2113920" y="4273560"/>
                <a:ext cx="1333080" cy="1586880"/>
              </a:xfrm>
              <a:prstGeom prst="line">
                <a:avLst/>
              </a:prstGeom>
              <a:ln cap="sq"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pic>
          <p:nvPicPr>
            <p:cNvPr id="506" name="Рисунок 41" descr="1F1.gif"/>
            <p:cNvPicPr/>
            <p:nvPr/>
          </p:nvPicPr>
          <p:blipFill>
            <a:blip r:embed="rId2"/>
            <a:stretch/>
          </p:blipFill>
          <p:spPr>
            <a:xfrm rot="2399400">
              <a:off x="3355200" y="3464280"/>
              <a:ext cx="8524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TextBox 44"/>
          <p:cNvSpPr/>
          <p:nvPr/>
        </p:nvSpPr>
        <p:spPr>
          <a:xfrm>
            <a:off x="428760" y="142920"/>
            <a:ext cx="457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Над озером тихим, 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С полфута размером, высился лотоса цвет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Он рос одиноко. И ветер порывом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Отнес его в сторону. Нет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Боле цветка над водой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8" name="TextBox 47"/>
          <p:cNvSpPr/>
          <p:nvPr/>
        </p:nvSpPr>
        <p:spPr>
          <a:xfrm>
            <a:off x="4786200" y="2571840"/>
            <a:ext cx="307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Нашел же рыбак его ранней весной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В двух футах от места, где рос.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Итак, предложу я вопрос: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63300"/>
                </a:solidFill>
                <a:latin typeface="Times New Roman"/>
              </a:rPr>
              <a:t>Как озера вода здесь глубока?</a:t>
            </a:r>
            <a:endParaRPr b="0" lang="en-US" sz="25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9" name="TextBox 48"/>
          <p:cNvSpPr/>
          <p:nvPr/>
        </p:nvSpPr>
        <p:spPr>
          <a:xfrm>
            <a:off x="5500800" y="285840"/>
            <a:ext cx="27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Задача древних индусов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510" name="Группа 57"/>
          <p:cNvGrpSpPr/>
          <p:nvPr/>
        </p:nvGrpSpPr>
        <p:grpSpPr>
          <a:xfrm>
            <a:off x="2071080" y="3214800"/>
            <a:ext cx="1786680" cy="2716200"/>
            <a:chOff x="2071080" y="3214800"/>
            <a:chExt cx="1786680" cy="2716200"/>
          </a:xfrm>
        </p:grpSpPr>
        <p:sp>
          <p:nvSpPr>
            <p:cNvPr id="511" name="Прямая соединительная линия 51"/>
            <p:cNvSpPr/>
            <p:nvPr/>
          </p:nvSpPr>
          <p:spPr>
            <a:xfrm>
              <a:off x="2071800" y="3214800"/>
              <a:ext cx="0" cy="2716200"/>
            </a:xfrm>
            <a:prstGeom prst="line">
              <a:avLst/>
            </a:prstGeom>
            <a:ln cap="sq" w="5076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2" name="Прямая соединительная линия 53"/>
            <p:cNvSpPr/>
            <p:nvPr/>
          </p:nvSpPr>
          <p:spPr>
            <a:xfrm>
              <a:off x="2071800" y="3857760"/>
              <a:ext cx="1785960" cy="144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56"/>
            <p:cNvSpPr/>
            <p:nvPr/>
          </p:nvSpPr>
          <p:spPr>
            <a:xfrm flipV="1">
              <a:off x="2071080" y="3857400"/>
              <a:ext cx="1785960" cy="2071800"/>
            </a:xfrm>
            <a:prstGeom prst="line">
              <a:avLst/>
            </a:prstGeom>
            <a:ln cap="sq" w="44280">
              <a:solidFill>
                <a:srgbClr val="302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Группа 1"/>
          <p:cNvGrpSpPr/>
          <p:nvPr/>
        </p:nvGrpSpPr>
        <p:grpSpPr>
          <a:xfrm>
            <a:off x="2822400" y="1463760"/>
            <a:ext cx="2716560" cy="4286160"/>
            <a:chOff x="2822400" y="1463760"/>
            <a:chExt cx="2716560" cy="4286160"/>
          </a:xfrm>
        </p:grpSpPr>
        <p:sp>
          <p:nvSpPr>
            <p:cNvPr id="515" name="Прямая соединительная линия 2"/>
            <p:cNvSpPr/>
            <p:nvPr/>
          </p:nvSpPr>
          <p:spPr>
            <a:xfrm flipH="1">
              <a:off x="2822400" y="1463760"/>
              <a:ext cx="1440" cy="428616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3"/>
            <p:cNvSpPr/>
            <p:nvPr/>
          </p:nvSpPr>
          <p:spPr>
            <a:xfrm flipH="1">
              <a:off x="2823120" y="2391480"/>
              <a:ext cx="2715840" cy="335772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4"/>
            <p:cNvSpPr/>
            <p:nvPr/>
          </p:nvSpPr>
          <p:spPr>
            <a:xfrm>
              <a:off x="2823120" y="2391480"/>
              <a:ext cx="2715840" cy="1440"/>
            </a:xfrm>
            <a:prstGeom prst="line">
              <a:avLst/>
            </a:prstGeom>
            <a:ln cap="sq"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518" name="Прямая соединительная линия 6"/>
          <p:cNvSpPr/>
          <p:nvPr/>
        </p:nvSpPr>
        <p:spPr>
          <a:xfrm flipH="1">
            <a:off x="2822040" y="1441440"/>
            <a:ext cx="1800" cy="928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3000240" y="1571760"/>
                <a:ext cx="21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Box 9"/>
          <p:cNvSpPr/>
          <p:nvPr/>
        </p:nvSpPr>
        <p:spPr>
          <a:xfrm>
            <a:off x="3143160" y="16430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3500280" y="2428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2 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Прямая соединительная линия 16"/>
          <p:cNvSpPr/>
          <p:nvPr/>
        </p:nvSpPr>
        <p:spPr>
          <a:xfrm flipH="1">
            <a:off x="2809440" y="2357280"/>
            <a:ext cx="1800" cy="33577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3" name="TextBox 17"/>
          <p:cNvSpPr/>
          <p:nvPr/>
        </p:nvSpPr>
        <p:spPr>
          <a:xfrm>
            <a:off x="1785960" y="3286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х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ов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4" name="Прямая соединительная линия 18"/>
          <p:cNvSpPr/>
          <p:nvPr/>
        </p:nvSpPr>
        <p:spPr>
          <a:xfrm flipH="1">
            <a:off x="2857320" y="3071880"/>
            <a:ext cx="2143080" cy="2643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5" name="Прямая соединительная линия 21"/>
          <p:cNvSpPr/>
          <p:nvPr/>
        </p:nvSpPr>
        <p:spPr>
          <a:xfrm flipH="1">
            <a:off x="4976640" y="2381400"/>
            <a:ext cx="571680" cy="7142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6" name="Правая фигурная скобка 28"/>
          <p:cNvSpPr/>
          <p:nvPr/>
        </p:nvSpPr>
        <p:spPr>
          <a:xfrm rot="2370000">
            <a:off x="4336560" y="2387520"/>
            <a:ext cx="1143000" cy="4165560"/>
          </a:xfrm>
          <a:custGeom>
            <a:avLst/>
            <a:gdLst>
              <a:gd name="textAreaLeft" fmla="*/ 0 w 1143000"/>
              <a:gd name="textAreaRight" fmla="*/ 412560 w 1143000"/>
              <a:gd name="textAreaTop" fmla="*/ 29520 h 4165560"/>
              <a:gd name="textAreaBottom" fmla="*/ 4136040 h 416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16200" y="10800"/>
                  <a:pt x="21600" y="10800"/>
                </a:cubicBezTo>
                <a:cubicBezTo>
                  <a:pt x="162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564372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02400"/>
                </a:solidFill>
                <a:latin typeface="Times New Roman"/>
              </a:rPr>
              <a:t>х +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6215040" y="4643280"/>
                <a:ext cx="285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TextBox 20"/>
          <p:cNvSpPr/>
          <p:nvPr/>
        </p:nvSpPr>
        <p:spPr>
          <a:xfrm>
            <a:off x="6429240" y="4857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фута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286000" y="5500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2357280" y="2214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5500800" y="2071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3" name="TextBox 25"/>
          <p:cNvSpPr/>
          <p:nvPr/>
        </p:nvSpPr>
        <p:spPr>
          <a:xfrm>
            <a:off x="2357280" y="10717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857160" y="500040"/>
            <a:ext cx="67867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5e00"/>
                </a:solidFill>
                <a:uFillTx/>
                <a:latin typeface="Corbel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Выучить формулировку и доказательство теоремы Пифагора (Глава 6 параграф 3) (можно предложить другое, отличное от разобранного нами)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Решить задачу, которую мы сформулировали в начале урока, хватит ли нам верёвки для закрепления мачты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Довести до ответа задачу древних индусов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Corbel"/>
              </a:rPr>
              <a:t>Необязательное задание: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Задача из китайской «Математики в девяти книгах»;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Задача из учебника «Арифметика» Леонтия Магницкого.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авильный пятиугольник 1"/>
          <p:cNvSpPr/>
          <p:nvPr/>
        </p:nvSpPr>
        <p:spPr>
          <a:xfrm>
            <a:off x="1571760" y="1500120"/>
            <a:ext cx="4714920" cy="4143600"/>
          </a:xfrm>
          <a:prstGeom prst="pentagon">
            <a:avLst/>
          </a:prstGeom>
          <a:solidFill>
            <a:srgbClr val="92d0a4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9" name="Полилиния 2"/>
          <p:cNvSpPr/>
          <p:nvPr/>
        </p:nvSpPr>
        <p:spPr>
          <a:xfrm>
            <a:off x="1573200" y="1500120"/>
            <a:ext cx="4730760" cy="1621080"/>
          </a:xfrm>
          <a:prstGeom prst="pie">
            <a:avLst/>
          </a:prstGeom>
          <a:solidFill>
            <a:srgbClr val="f6bd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0" name="Полилиния 3"/>
          <p:cNvSpPr/>
          <p:nvPr/>
        </p:nvSpPr>
        <p:spPr>
          <a:xfrm>
            <a:off x="1584360" y="3071880"/>
            <a:ext cx="4707000" cy="2571840"/>
          </a:xfrm>
          <a:prstGeom prst="pie">
            <a:avLst/>
          </a:prstGeom>
          <a:solidFill>
            <a:srgbClr val="ff66cc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3643200" y="2077920"/>
            <a:ext cx="9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2643120" y="357840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4357800" y="4435560"/>
            <a:ext cx="100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0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4" name="TextBox 9"/>
          <p:cNvSpPr/>
          <p:nvPr/>
        </p:nvSpPr>
        <p:spPr>
          <a:xfrm>
            <a:off x="1928880" y="5786280"/>
            <a:ext cx="3929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=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+S</a:t>
            </a:r>
            <a:r>
              <a:rPr b="1" lang="en-US" sz="4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5" name="TextBox 10"/>
          <p:cNvSpPr/>
          <p:nvPr/>
        </p:nvSpPr>
        <p:spPr>
          <a:xfrm>
            <a:off x="0" y="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7820280" cy="1639800"/>
          </a:xfrm>
          <a:prstGeom prst="rect">
            <a:avLst/>
          </a:prstGeom>
          <a:ln w="0">
            <a:noFill/>
          </a:ln>
        </p:spPr>
      </p:pic>
      <p:pic>
        <p:nvPicPr>
          <p:cNvPr id="536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2133720"/>
            <a:ext cx="6918480" cy="1639800"/>
          </a:xfrm>
          <a:prstGeom prst="rect">
            <a:avLst/>
          </a:prstGeom>
          <a:ln w="0">
            <a:noFill/>
          </a:ln>
        </p:spPr>
      </p:pic>
      <p:pic>
        <p:nvPicPr>
          <p:cNvPr id="537" name="Прямоугольник 3" descr=""/>
          <p:cNvPicPr/>
          <p:nvPr/>
        </p:nvPicPr>
        <p:blipFill>
          <a:blip r:embed="rId3"/>
          <a:stretch/>
        </p:blipFill>
        <p:spPr>
          <a:xfrm>
            <a:off x="469800" y="4138560"/>
            <a:ext cx="6255000" cy="16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Вертикальный свиток 1"/>
          <p:cNvSpPr/>
          <p:nvPr/>
        </p:nvSpPr>
        <p:spPr>
          <a:xfrm>
            <a:off x="1143000" y="142920"/>
            <a:ext cx="6143760" cy="4714920"/>
          </a:xfrm>
          <a:prstGeom prst="verticalScroll">
            <a:avLst>
              <a:gd name="adj" fmla="val 12500"/>
            </a:avLst>
          </a:prstGeom>
          <a:solidFill>
            <a:srgbClr val="ffefbd"/>
          </a:solidFill>
          <a:ln cap="sq"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85960" y="1143000"/>
          <a:ext cx="4714920" cy="332568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3325680"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Пребудет вечной истина, как скоро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Ее познает слабый человек!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И ныне теорема Пифагора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5e00"/>
                          </a:solidFill>
                          <a:latin typeface="Calibri"/>
                          <a:ea typeface="Times New Roman"/>
                        </a:rPr>
                        <a:t>Верна, как и в его далекий век.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0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353880"/>
            <a:ext cx="1431720" cy="607068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4" descr=""/>
          <p:cNvPicPr/>
          <p:nvPr/>
        </p:nvPicPr>
        <p:blipFill>
          <a:blip r:embed="rId2"/>
          <a:stretch/>
        </p:blipFill>
        <p:spPr>
          <a:xfrm>
            <a:off x="6546960" y="420840"/>
            <a:ext cx="1523880" cy="6559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AG00319_"/>
          <p:cNvPicPr/>
          <p:nvPr/>
        </p:nvPicPr>
        <p:blipFill>
          <a:blip r:embed="rId3"/>
          <a:stretch/>
        </p:blipFill>
        <p:spPr>
          <a:xfrm>
            <a:off x="3286080" y="4929120"/>
            <a:ext cx="28418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Равнобедренный треугольник 1"/>
          <p:cNvSpPr/>
          <p:nvPr/>
        </p:nvSpPr>
        <p:spPr>
          <a:xfrm>
            <a:off x="57168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857240" y="507204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ABC=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∆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NK</a:t>
            </a: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28760"/>
            <a:ext cx="66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Равные многоугольники имеют равные площади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28840" y="5857920"/>
            <a:ext cx="4929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значит 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ABC</a:t>
            </a: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=S</a:t>
            </a:r>
            <a:r>
              <a:rPr b="1" lang="en-US" sz="4400" spc="-1" strike="noStrike" baseline="-25000">
                <a:solidFill>
                  <a:srgbClr val="663300"/>
                </a:solidFill>
                <a:latin typeface="Times New Roman"/>
              </a:rPr>
              <a:t>MN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71280" y="435780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928880" y="16430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321480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3" name="Равнобедренный треугольник 10"/>
          <p:cNvSpPr/>
          <p:nvPr/>
        </p:nvSpPr>
        <p:spPr>
          <a:xfrm>
            <a:off x="4786200" y="1928880"/>
            <a:ext cx="2786040" cy="3000240"/>
          </a:xfrm>
          <a:prstGeom prst="triangle">
            <a:avLst>
              <a:gd name="adj" fmla="val 50000"/>
            </a:avLst>
          </a:prstGeom>
          <a:solidFill>
            <a:srgbClr val="bee3c8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4214880" y="428616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6143760" y="165888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42968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K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мачта.jpg"/>
          <p:cNvPicPr/>
          <p:nvPr/>
        </p:nvPicPr>
        <p:blipFill>
          <a:blip r:embed="rId1"/>
          <a:stretch/>
        </p:blipFill>
        <p:spPr>
          <a:xfrm>
            <a:off x="500040" y="785880"/>
            <a:ext cx="3554280" cy="50529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429080" y="785880"/>
            <a:ext cx="3357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Для крепления мачты нужно установить 4 троса. Один конец каждого троса должен крепиться на высоте 12 м, другой на земле на расстоянии 5 м от мачты.  Хватит ли 50 м троса для крепления мачты?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379" name="Группа 12"/>
          <p:cNvGrpSpPr/>
          <p:nvPr/>
        </p:nvGrpSpPr>
        <p:grpSpPr>
          <a:xfrm>
            <a:off x="1855800" y="1643040"/>
            <a:ext cx="2001960" cy="2816280"/>
            <a:chOff x="1855800" y="1643040"/>
            <a:chExt cx="2001960" cy="2816280"/>
          </a:xfrm>
        </p:grpSpPr>
        <p:grpSp>
          <p:nvGrpSpPr>
            <p:cNvPr id="380" name="Группа 7"/>
            <p:cNvGrpSpPr/>
            <p:nvPr/>
          </p:nvGrpSpPr>
          <p:grpSpPr>
            <a:xfrm>
              <a:off x="1855800" y="1643040"/>
              <a:ext cx="2001240" cy="2786760"/>
              <a:chOff x="1855800" y="1643040"/>
              <a:chExt cx="2001240" cy="2786760"/>
            </a:xfrm>
          </p:grpSpPr>
          <p:sp>
            <p:nvSpPr>
              <p:cNvPr id="381" name="Прямая соединительная линия 4"/>
              <p:cNvSpPr/>
              <p:nvPr/>
            </p:nvSpPr>
            <p:spPr>
              <a:xfrm flipH="1">
                <a:off x="1855800" y="1643760"/>
                <a:ext cx="1440" cy="2786040"/>
              </a:xfrm>
              <a:prstGeom prst="line">
                <a:avLst/>
              </a:prstGeom>
              <a:ln cap="sq"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382" name="Прямая соединительная линия 6"/>
              <p:cNvSpPr/>
              <p:nvPr/>
            </p:nvSpPr>
            <p:spPr>
              <a:xfrm>
                <a:off x="1855800" y="1643040"/>
                <a:ext cx="2001240" cy="2786040"/>
              </a:xfrm>
              <a:prstGeom prst="line">
                <a:avLst/>
              </a:prstGeom>
              <a:ln cap="sq" w="540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sp>
          <p:nvSpPr>
            <p:cNvPr id="383" name="Прямая соединительная линия 9"/>
            <p:cNvSpPr/>
            <p:nvPr/>
          </p:nvSpPr>
          <p:spPr>
            <a:xfrm flipV="1">
              <a:off x="1856520" y="4429080"/>
              <a:ext cx="2001240" cy="30240"/>
            </a:xfrm>
            <a:prstGeom prst="line">
              <a:avLst/>
            </a:prstGeom>
            <a:ln cap="sq"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3f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8600" y="1905120"/>
          <a:ext cx="7772400" cy="33829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36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3300"/>
                      </a:solidFill>
                    </a:lnL>
                    <a:lnR w="18720">
                      <a:solidFill>
                        <a:srgbClr val="663300"/>
                      </a:solidFill>
                    </a:lnR>
                    <a:lnT w="18720">
                      <a:solidFill>
                        <a:srgbClr val="663300"/>
                      </a:solidFill>
                    </a:lnT>
                    <a:lnB w="1872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4"/>
          <p:cNvSpPr/>
          <p:nvPr/>
        </p:nvSpPr>
        <p:spPr>
          <a:xfrm>
            <a:off x="357120" y="27147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15            8              17          225          64         28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36432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6             8             10          36          64           100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428760" y="45720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5              12            13          25         144         169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WordArt 5" descr=""/>
          <p:cNvPicPr/>
          <p:nvPr/>
        </p:nvPicPr>
        <p:blipFill>
          <a:blip r:embed="rId1"/>
          <a:stretch/>
        </p:blipFill>
        <p:spPr>
          <a:xfrm>
            <a:off x="225360" y="476280"/>
            <a:ext cx="4565880" cy="338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383280" cy="4221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3000240" y="5214960"/>
            <a:ext cx="494352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ый треугольник 3"/>
          <p:cNvSpPr/>
          <p:nvPr/>
        </p:nvSpPr>
        <p:spPr>
          <a:xfrm>
            <a:off x="500040" y="421488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3" name="Прямоугольный треугольник 4"/>
          <p:cNvSpPr/>
          <p:nvPr/>
        </p:nvSpPr>
        <p:spPr>
          <a:xfrm rot="5400000">
            <a:off x="642240" y="2857320"/>
            <a:ext cx="1214640" cy="150012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4" name="Прямоугольный треугольник 5"/>
          <p:cNvSpPr/>
          <p:nvPr/>
        </p:nvSpPr>
        <p:spPr>
          <a:xfrm rot="16200000">
            <a:off x="1849320" y="4357080"/>
            <a:ext cx="121428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5" name="Прямоугольный треугольник 6"/>
          <p:cNvSpPr/>
          <p:nvPr/>
        </p:nvSpPr>
        <p:spPr>
          <a:xfrm rot="10800000">
            <a:off x="2000160" y="3000240"/>
            <a:ext cx="1214640" cy="1500480"/>
          </a:xfrm>
          <a:prstGeom prst="rtTriangle">
            <a:avLst/>
          </a:prstGeom>
          <a:solidFill>
            <a:srgbClr val="996600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Полилиния 7"/>
          <p:cNvSpPr/>
          <p:nvPr/>
        </p:nvSpPr>
        <p:spPr>
          <a:xfrm>
            <a:off x="511200" y="2998800"/>
            <a:ext cx="2703600" cy="2712960"/>
          </a:xfrm>
          <a:prstGeom prst="pie">
            <a:avLst/>
          </a:prstGeom>
          <a:solidFill>
            <a:srgbClr val="bdab71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7" name="Полилиния 8"/>
          <p:cNvSpPr/>
          <p:nvPr/>
        </p:nvSpPr>
        <p:spPr>
          <a:xfrm>
            <a:off x="500040" y="3000240"/>
            <a:ext cx="2712960" cy="2713320"/>
          </a:xfrm>
          <a:prstGeom prst="pie">
            <a:avLst/>
          </a:prstGeom>
          <a:solidFill>
            <a:srgbClr val="bdab71">
              <a:alpha val="83000"/>
            </a:srgbClr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8" name="Прямая соединительная линия 10"/>
          <p:cNvSpPr/>
          <p:nvPr/>
        </p:nvSpPr>
        <p:spPr>
          <a:xfrm>
            <a:off x="500040" y="3000240"/>
            <a:ext cx="1508040" cy="180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Прямая соединительная линия 11"/>
          <p:cNvSpPr/>
          <p:nvPr/>
        </p:nvSpPr>
        <p:spPr>
          <a:xfrm flipH="1">
            <a:off x="500040" y="4286160"/>
            <a:ext cx="1440" cy="142092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0" name="Прямая соединительная линия 13"/>
          <p:cNvSpPr/>
          <p:nvPr/>
        </p:nvSpPr>
        <p:spPr>
          <a:xfrm flipH="1">
            <a:off x="3214800" y="3000240"/>
            <a:ext cx="1440" cy="149256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1" name="Прямая соединительная линия 15"/>
          <p:cNvSpPr/>
          <p:nvPr/>
        </p:nvSpPr>
        <p:spPr>
          <a:xfrm>
            <a:off x="1714680" y="5715000"/>
            <a:ext cx="1488960" cy="1440"/>
          </a:xfrm>
          <a:prstGeom prst="line">
            <a:avLst/>
          </a:prstGeom>
          <a:ln cap="sq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2" name="Прямая соединительная линия 18"/>
          <p:cNvSpPr/>
          <p:nvPr/>
        </p:nvSpPr>
        <p:spPr>
          <a:xfrm>
            <a:off x="500040" y="3000240"/>
            <a:ext cx="7920" cy="121608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3" name="Прямая соединительная линия 19"/>
          <p:cNvSpPr/>
          <p:nvPr/>
        </p:nvSpPr>
        <p:spPr>
          <a:xfrm>
            <a:off x="3214800" y="4500720"/>
            <a:ext cx="7920" cy="121572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Прямая соединительная линия 20"/>
          <p:cNvSpPr/>
          <p:nvPr/>
        </p:nvSpPr>
        <p:spPr>
          <a:xfrm flipH="1">
            <a:off x="1999800" y="3000240"/>
            <a:ext cx="1204920" cy="180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H="1">
            <a:off x="500040" y="5715000"/>
            <a:ext cx="1214640" cy="9360"/>
          </a:xfrm>
          <a:prstGeom prst="line">
            <a:avLst/>
          </a:prstGeom>
          <a:ln cap="sq"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0" y="0"/>
            <a:ext cx="792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3f00"/>
                </a:solidFill>
                <a:latin typeface="Times New Roman"/>
              </a:rPr>
              <a:t>Теорема: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34d00"/>
                </a:solidFill>
                <a:latin typeface="Times New Roman"/>
              </a:rPr>
              <a:t>В прямоугольном треугольнике квадрат гипотенузы равен сумме квадратов  катето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3786120" y="1928880"/>
                <a:ext cx="2536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4179960" y="3429000"/>
                <a:ext cx="3035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т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"/>
              <p:cNvSpPr txBox="1"/>
              <p:nvPr/>
            </p:nvSpPr>
            <p:spPr>
              <a:xfrm>
                <a:off x="4092480" y="2571840"/>
                <a:ext cx="1886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6429240" y="2714760"/>
                <a:ext cx="1357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6"/>
              <p:cNvSpPr txBox="1"/>
              <p:nvPr/>
            </p:nvSpPr>
            <p:spPr>
              <a:xfrm>
                <a:off x="3929040" y="5143680"/>
                <a:ext cx="37400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857760" y="4286160"/>
                <a:ext cx="38098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3" name="Прямая соединительная линия 36"/>
          <p:cNvSpPr/>
          <p:nvPr/>
        </p:nvSpPr>
        <p:spPr>
          <a:xfrm flipH="1">
            <a:off x="4643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4" name="Прямая соединительная линия 37"/>
          <p:cNvSpPr/>
          <p:nvPr/>
        </p:nvSpPr>
        <p:spPr>
          <a:xfrm flipH="1">
            <a:off x="6929280" y="5214960"/>
            <a:ext cx="642960" cy="642960"/>
          </a:xfrm>
          <a:prstGeom prst="line">
            <a:avLst/>
          </a:prstGeom>
          <a:ln cap="sq"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2928960" y="5929200"/>
                <a:ext cx="24242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TextBox 39"/>
          <p:cNvSpPr/>
          <p:nvPr/>
        </p:nvSpPr>
        <p:spPr>
          <a:xfrm>
            <a:off x="12060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714240" y="564192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857160" y="471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4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Times New Roman"/>
              </a:rPr>
              <a:t>«Умение решать задачи – такое же практическое искусство. Ему  можно научиться только путем подражания или упражнения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4714920" y="49291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(Д</a:t>
            </a: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1" i="1" lang="ru-RU" sz="4400" spc="-1" strike="noStrike">
                <a:solidFill>
                  <a:srgbClr val="663300"/>
                </a:solidFill>
                <a:latin typeface="Times New Roman"/>
              </a:rPr>
              <a:t> Пойа)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ый треугольник 1"/>
          <p:cNvSpPr/>
          <p:nvPr/>
        </p:nvSpPr>
        <p:spPr>
          <a:xfrm>
            <a:off x="2571840" y="2000160"/>
            <a:ext cx="2857320" cy="4000680"/>
          </a:xfrm>
          <a:prstGeom prst="rtTriangle">
            <a:avLst/>
          </a:prstGeom>
          <a:solidFill>
            <a:srgbClr val="ffc995"/>
          </a:solidFill>
          <a:ln cap="sq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571760" y="363960"/>
            <a:ext cx="650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№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1. Найдите гипотенузу с прямоугольного треугольника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по данным катетам: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a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 6 см, </a:t>
            </a:r>
            <a:r>
              <a:rPr b="1" i="1" lang="en-US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=8 см.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928880" y="3571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3571920" y="592920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000680" y="350028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 - ?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9:14:59Z</dcterms:created>
  <dc:creator>Татьяна</dc:creator>
  <dc:description/>
  <dc:language>en-US</dc:language>
  <cp:lastModifiedBy>Windows User</cp:lastModifiedBy>
  <dcterms:modified xsi:type="dcterms:W3CDTF">2016-12-02T17:58:05Z</dcterms:modified>
  <cp:revision>121</cp:revision>
  <dc:subject/>
  <dc:title>Слайд 1</dc:title>
</cp:coreProperties>
</file>