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475-9B3E-4ABA-B7E1-19573B16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BE5-102C-43EE-A4BA-9698D126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331-CF3C-47D4-8C22-C0E43EF0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7ED-F87F-4F7C-9F90-4A32DF4E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715-EFCF-4DB0-98A8-A54329C0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0D6-3503-412F-9373-77EB451B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774-8465-4942-AB76-D23D7593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D4A-0484-4DE4-A5D7-3B1DA61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F36-E400-465D-9CC1-FA22E9CA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A96-B688-4F50-98DB-52ABE23C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BA3-212A-476A-B39D-04027BE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191-432D-40F2-BFBA-D15B2C19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99BA-95AC-409E-BFFA-2D972C3E0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ped-kopilka.ru/upload/blogs/23546_2e65a1922600cb406b39c5790c435701.jpg.jpg"/>
          <p:cNvPicPr/>
          <p:nvPr/>
        </p:nvPicPr>
        <p:blipFill>
          <a:blip r:embed="rId1"/>
          <a:srcRect l="13310" t="0" r="12183" b="0"/>
          <a:stretch/>
        </p:blipFill>
        <p:spPr>
          <a:xfrm>
            <a:off x="1476360" y="5084640"/>
            <a:ext cx="1511280" cy="1513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http://ped-kopilka.ru/images/t2.jpg"/>
          <p:cNvPicPr/>
          <p:nvPr/>
        </p:nvPicPr>
        <p:blipFill>
          <a:blip r:embed="rId2"/>
          <a:stretch/>
        </p:blipFill>
        <p:spPr>
          <a:xfrm>
            <a:off x="4788000" y="2924280"/>
            <a:ext cx="2963880" cy="1977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ped-kopilka.ru/upload/blogs/23546_bea3fc73ae6fda17ca33572764158f71.jpg.jpg"/>
          <p:cNvPicPr/>
          <p:nvPr/>
        </p:nvPicPr>
        <p:blipFill>
          <a:blip r:embed="rId3"/>
          <a:stretch/>
        </p:blipFill>
        <p:spPr>
          <a:xfrm>
            <a:off x="1476360" y="2924280"/>
            <a:ext cx="2689200" cy="2017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7" descr=""/>
          <p:cNvPicPr/>
          <p:nvPr/>
        </p:nvPicPr>
        <p:blipFill>
          <a:blip r:embed="rId4"/>
          <a:stretch/>
        </p:blipFill>
        <p:spPr>
          <a:xfrm>
            <a:off x="1189080" y="871560"/>
            <a:ext cx="6699240" cy="19209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8" descr=""/>
          <p:cNvPicPr/>
          <p:nvPr/>
        </p:nvPicPr>
        <p:blipFill>
          <a:blip r:embed="rId5"/>
          <a:stretch/>
        </p:blipFill>
        <p:spPr>
          <a:xfrm>
            <a:off x="1322280" y="5334120"/>
            <a:ext cx="6755040" cy="10000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9" descr=""/>
          <p:cNvPicPr/>
          <p:nvPr/>
        </p:nvPicPr>
        <p:blipFill>
          <a:blip r:embed="rId6"/>
          <a:stretch/>
        </p:blipFill>
        <p:spPr>
          <a:xfrm>
            <a:off x="244440" y="139680"/>
            <a:ext cx="8655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1547640" y="907920"/>
            <a:ext cx="60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Calibri"/>
              </a:rPr>
              <a:t>Цель информационного проек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Calibri"/>
              </a:rPr>
              <a:t>ознакомление с правильной организацией уголка природы как часть развивающей предметно – пространственной среды в подготовительной группе, в соответствии с требованиями ФГОС Д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476360" y="2852640"/>
            <a:ext cx="619128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Calibri"/>
              </a:rPr>
              <a:t>Задачи информационного проек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Calibri"/>
              </a:rPr>
              <a:t>Познакомить с правильной организацией уголка природы в соответствии с требованиями ФГОС Д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ъединить усилия участников проекта для совместной деятельности по организации уголка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ывать экологическую и эстетическую культуру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1476360" y="1052640"/>
            <a:ext cx="5904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I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(подготовительный, вхождение в те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1476360" y="2060640"/>
            <a:ext cx="619128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15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Определение темы, целей, задач, содержание проекта, прогнозирование результ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115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Обсуждение с участниками темы проекта и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авильной организацией уголка природы в соответствии с требованиями ФГОС ДО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115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Определение содержания деятельности всех участников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1530360" y="255600"/>
            <a:ext cx="60706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3276720" y="333360"/>
            <a:ext cx="22860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II этап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основн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1403280" y="1268280"/>
            <a:ext cx="633744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Совместная деятельность педагога с деть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Наблюдения и экологические экскур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Бес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Н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Знакомство с литературными произведениями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знавательное чт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дбор стихов , загадок о растениях и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смотр мультфильмов, видеофильмов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езентаций, слайд 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Изготовление дидактических 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зучивание песен, стихов  о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Оформление альбома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пуск экологический газеты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ссматривание фотографий, карти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онкурсы и викторины,  КВ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дуктив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Лаборатория  (опыты и эксперимен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нсценировки и театрализации (экологические, подвижные, имитационные игры, игры-путешеств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рудовая деятельность, пор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1332000" y="333360"/>
            <a:ext cx="6480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Совместная деятельность взросл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участников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476360" y="1557360"/>
            <a:ext cx="619128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блюдения и экологические экскур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Беседы, 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дбор стихов  и загадок о растениях и живо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смотр мультфильмов, видеофиль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Изготовление дидактических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зучивание песен, стихов  о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Оформление альбома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ыпуск экологический газеты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ссматривание фотографий, карти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онкурсы, викторины,  КВ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дуктивная деятельность, защита плакатов, 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нсценировки и театрализации (экологические, подвижные, имитационные игры, игры-путешеств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рудовой десан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1619280" y="3526560"/>
            <a:ext cx="590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Georgia"/>
                <a:ea typeface="Times New Roman"/>
              </a:rPr>
              <a:t>Таким образом, уголок природы в детском саду нужен не только как оформление детского сада, но и является необходимой составляющей педагогического процесса в дошкольном учрежден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2700360" y="404640"/>
            <a:ext cx="32655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III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(заключитель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1835280" y="1700280"/>
            <a:ext cx="37717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Участие в конкурс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езентация  уголк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Обмен опытом на сайта ДОУ, 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403280" y="1141920"/>
            <a:ext cx="6264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сё хорошее в детях из детства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Как истоки добра пробудить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коснуться к природе всем сердцем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Удивиться, узнать, полюбить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Мы хотим, чтоб земля расцвета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Росли как цветы, мал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Чтоб для них экология с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 наукой, а частью душ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В. А. 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403280" y="273240"/>
            <a:ext cx="633744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  <a:ea typeface="Times New Roman"/>
              </a:rPr>
              <a:t>Какие объекты и материалы должны содержаться в уголке природы, и какие приняты общие принципы его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Итак, чтобы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уголок природы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действительно способствовал всестороннему развитию личности дошкольника, необходимо учитывать все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общепринятые принципы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его постро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яркость, красочность, эмоциональна привлекательность материалов и объек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доступность (содержательная и физическая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меняемость объектов и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материалы, объекты и оборудование должны стимулировать, разные виды деятельности детей (наблюдения, игровую, трудовую, речевую, деятельность экспериментирования, художественную деятельность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материалы и объекты должны быть абсолютно безопасны для здоровья де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аучности, энциклопедичности содерж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обходимо проверить наличие в уголках природы искусственных растений. Это является ошибкой, т. к. дети должны видеть живые красивые растения, наблюдать за их ростом и развитием, ухаживать за н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Только учитывая все общие принципы построения уголка природы, соблюдая наличие в нем всех выше перечисленных объектов и материалов (соответствии с возрастом детей), можно способствовать развитию экологически культурной личности дошк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03280" y="17280"/>
            <a:ext cx="6408720" cy="65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Уголок природы – это одна из игровых и учебных зон групповой комн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Уголок природы, который органично вписывается в интерьер, будет украшением групповой комнаты и позволит детям проводить наблюдения и экспериментальную деятельность. Кроме этого, дошкольникам прививаются такие чувства, как ответственность и заб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У каждой группы детского сада есть свой уголок природы. Подбор и размещение объектов в уголок природы проводят в соответствии с возрастом, руководствуясь Программой воспитания в детском саду и Санитарными Правилами и Нормами. В связи с тем, что Санитарно-эпидемиологические правила и нормативы СанПиН 2.4.1.3049-13 п.6.11. не допускают размещение аквариумов, животных, птиц в групповых помещениях, здесь помещают только рас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стения, которые помещаются в природный уголок, должны быть безопасны. Не допускается иметь в уголке природы ядовитые и колючие растения. И, конечно, обязательно осуществление ежедневного ухода за растениями. На цветах желательно иметь таблички с наз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eorgia"/>
                <a:ea typeface="Times New Roman"/>
              </a:rPr>
              <a:t>Все обитатели уголка природы в детском саду можно разделить на постоянных и време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1476360" y="260280"/>
            <a:ext cx="61912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  <a:ea typeface="Times New Roman"/>
              </a:rPr>
              <a:t>Постоянными обитателями уголка природы будут комнатные раст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подготовительной группе в уголок природы размещают 6-7 видов растений, которые размножаются различными способами: луковицами, живородящ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А также цветы с разными условиями произрастания. Например, бриофиллюм, камнеломка, циперу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03280" y="2421000"/>
            <a:ext cx="633744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  <a:ea typeface="Times New Roman"/>
              </a:rPr>
              <a:t>Временные обитатели уголка природы – это объекты, которые вносятся для наблюдений на непродолжительный отрезок време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Осенью это будут осенние букеты и цветы из цветника, пересаженные в кашпо, поделки из природн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Зимой это могут быть ящики с посадками зелёного лука и веточки деревь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Весной – ящики с рассадой для огорода детского сада, букеты весенних первоцв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Для кратковременного наблюдения можно принести в группу рыбку в банке, хомячка, птичку в клетке. Конечно, если позволяют площади детского сада, то можно организовать 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экологическую комнату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. В ней разместятся растения и животные, птицы и пресмыкающиеся, наблюдения за которыми предполагает Программа вос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Можно сделать 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«сухой» аквариум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403280" y="221040"/>
            <a:ext cx="6337440" cy="61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eorgia"/>
                <a:ea typeface="Times New Roman"/>
              </a:rPr>
              <a:t>В уголке природы необходимо име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eorgia"/>
                <a:ea typeface="Times New Roman"/>
              </a:rPr>
              <a:t>«Календарь погоды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В старшей и подготовительной группах дети знакомятся с условными знаками для обозначения погоды. Ребята ежедневно отмечают погоду условными знаками. В конце месяца состояние погоды сравнивают, считают, сколько было ясных, пасмурных, дождливых и ветреных дней, и делают выводы о пог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eorgia"/>
                <a:ea typeface="Times New Roman"/>
              </a:rPr>
              <a:t>Кроме этого, в уголке природы в каждой группе необходимо име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атуральные овощи и фрукты, либо их муляж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аборы картинок с изображением животных, птиц, насекомых и проч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Альбомы «Времена года»; книжки с иллюстрациями, на которых изображены животные; картины известных худож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Рисунки детей о природе и поделки из природного матери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Материал для труда (фартуки, леечки, лопатки, палочки для рыхления, тряпочки). Метёлочки и совочки – для поддержания чистоты в уголке природы и групп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Оборудование для экспериментов (формочки, воронки, лопатки, сита будут нужны для игр с песком). Для игр с водой можно использовать пипетки, одноразовые шприцы, ёмкости разной формы. Для изготовления поделок необходим природный и бросовый материал (ракушки, камешки, шишки, жёлуди, каштаны, веточки). Для детей подготовительной группы будет интересна работа с лупой, микроскопом, ве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Дидактические игры природного содерж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1504800"/>
            <a:ext cx="67053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258920" y="219960"/>
            <a:ext cx="6553080" cy="624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Акт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дошкольном возрасте у ребенка закладывается не только основа личности, но и многие ценности, в том числе и отношение к природе. Каким оно будет – зависит от взрослых, поэтому необходимо привлекать к оформлению уголка природы детей и их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обходимо создать все условия для развития добрых и любознательных детей, открытых миру прир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Уголок природы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необходимая составляющая воспитательного процесса в детском саду. Он помогает научить детей воспринимать красоту природы, привить милосердие и сострадание к растениям и животным, понимание необходимости беречь природу, другими словами – сформировать экологическую культуру личности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Главной целью экологического образования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является формирование экологической культуры, под которой понимается совокупность экологического сознания, экологических чувств и экологической деятель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Какая же роль отводится дошкольному учреждению в воспитании у детей бережного отношения к природ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дошкольном образовательном учреждении должны быть созданы все условия для ознакомления детей с природо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в групповой комнате - уголок прир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а территории детского сада - небольшой огород, цветник, уголок леса, по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258920" y="381600"/>
            <a:ext cx="6481800" cy="59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Описание  информационного проекта: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Уголок природы в современном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Основа проекта: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Федеральный государственный образовате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стандарт для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Ожидаемый результ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Уголок природы, соответствующий требованиям ФГОС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Вопросы, направляющие проект: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Основополагающий вопрос  -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Каково значение уголка приро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Проблемные вопрос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Влияет ли уголок природы на всестороннее развитие дет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Какие объекты и материалы должны содержаться в уголке приро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Участники проекта: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воспитатели, дети подготовительной группы, родители, сотрудники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08:05:09Z</dcterms:created>
  <dc:creator>user</dc:creator>
  <dc:description/>
  <dc:language>en-US</dc:language>
  <cp:lastModifiedBy>user</cp:lastModifiedBy>
  <dcterms:modified xsi:type="dcterms:W3CDTF">2016-12-02T18:07:39Z</dcterms:modified>
  <cp:revision>36</cp:revision>
  <dc:subject/>
  <dc:title>Слайд 1</dc:title>
</cp:coreProperties>
</file>