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0B20-FD1A-405D-8712-B487F3A97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5449-16E7-4AB4-AF32-6F3C3F2E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BB5A-54C1-4005-98B9-DBF106348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1E5E-3422-49B3-8F9C-74E37B37D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7169-7AA7-40DA-A266-28CB32568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CF43-4B32-412F-A75F-D5869C3F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AA68-38D5-4833-97D2-020D4ABC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A3B3-DC0F-4355-A8D3-B7A72D89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88B8-0071-4F8A-AB81-FEBAB4FC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8C3A-2E88-4968-B000-2A19B0EF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DE7C-C0B3-44E8-BCA8-E7887FF3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E48E-DB44-41A0-90D6-4268E5B3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AE2A-2C89-443F-B8AB-D6409DBA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D2A6-7641-441E-9DE4-AC2F1A08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AC6B-C2BD-4F51-BD65-6CAD8EF6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4E519-C465-46E8-BFE5-0430213F4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B6E7-1D5A-4BF1-A2B3-5F647300D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8E9E6-3B3C-429E-A79D-9251A5283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1ADCA-2F87-4B23-AE92-23D629AB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F85C5-8FFB-42F7-8BBD-1B09B762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B2F75-AC1B-4AB0-B585-570176CB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DC1CA-2996-4F34-A0F1-18F545D9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DED2-E98D-414B-A706-66E43B48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9CC84-EEEF-4D97-8635-96C37A40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67F85-6171-4D7C-8EC6-9C39D93A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20B83-501E-41C7-8909-1A3E17CF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9BA2F-EC43-4EA2-AB7B-C7898D3D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768F8-AA6C-46F4-A36B-917A3165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32054-ABE1-4CFE-8EF3-5BF973F68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3723C-5FD0-4B89-8403-0F5B900B0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D9BA-A665-40D8-AA3D-4531C02D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101F-2149-4B1A-80A5-5AB9F6BB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DF12-C6D1-40DE-BD83-DFBE4FFD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6801-187D-494D-AC21-3F9F588F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4FA8-AB36-4024-94D6-9B5183CA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2A2E-5715-4A2C-9E74-E7DE8213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AD77-79DE-4B16-8054-0CFB79B54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7D2C-AC5D-47A4-9027-8FA30278293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585B-9826-4263-B931-117E202644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рок знакомства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 буквами Б,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еревянный озорник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з сказки в нашу жиз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оник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Любимец взрослых и детей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мельчак и выдумщик затей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оказник, весельчак и плут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кажите, как его зовут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844720" y="1600200"/>
            <a:ext cx="3454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на была подружко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номов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 вам, конечно же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накома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700360" y="692280"/>
            <a:ext cx="3728880" cy="52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4459320" y="476280"/>
            <a:ext cx="3728880" cy="5226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611280" y="692280"/>
            <a:ext cx="393228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76000" y="333000"/>
            <a:ext cx="721044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нби          ба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бин          нбу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бон          бун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нбо          бын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нба          нбы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76000" y="333000"/>
            <a:ext cx="721044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бан          нб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бин          нбу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бон          нбо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бын          нба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бун           нбы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-23760" y="0"/>
            <a:ext cx="565452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4356000" y="4437000"/>
            <a:ext cx="4608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лександр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ргеевич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ушкин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6T18:19:48Z</dcterms:created>
  <dc:creator>Admin</dc:creator>
  <dc:description/>
  <dc:language>en-US</dc:language>
  <cp:lastModifiedBy>Admin</cp:lastModifiedBy>
  <dcterms:modified xsi:type="dcterms:W3CDTF">2012-11-26T18:39:39Z</dcterms:modified>
  <cp:revision>2</cp:revision>
  <dc:subject/>
  <dc:title>Урок знакомства  с буквами Б,б</dc:title>
</cp:coreProperties>
</file>