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FAAE-4791-45A3-A1AA-DD0920EA6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9248-16F3-4B08-AC93-9B8B4883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6E9A-26D4-4513-915E-F9A6A5EFD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9388-C1D6-407B-9238-F9AFD18A5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6B4E-1B78-4689-9527-EB1EB1447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F64D-5C36-45EE-A30F-406B4AFB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A8D7-BCFB-4ED6-BD56-6A34218B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79DD-9553-49E5-9E35-5EB0AEC2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81C3-9F2F-4FF3-A561-CAE38C8B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BC2F-4CE1-4EAF-93A1-AE8E2629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3D6C-D5B1-42D4-BC37-42A591A3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7C16-A4D2-4E71-AA8A-7EA2BC67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84EC-EB27-4B30-941F-7CD8327A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6BAF-5ECC-4215-9C38-8D0CCDDF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63A5-8855-4622-945D-DEFAE9DB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8E77-E4E6-4CE5-8EE8-56879013B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F963-F017-4F52-8C35-DAFA22276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26699-CE12-4FB1-981A-063CCC9C7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4CBCB-EB59-4A06-B364-11252F35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4D305-5F1C-4F74-A1EE-0D3779CB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905B0-E532-4EA6-9B8C-08B60E54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254E4-8094-4F0C-A998-6C873050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B9C3-F7B7-4D99-849F-20CF5775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69E3E-CE63-4100-B976-8DECBEBD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D6416-ACA8-4D7D-8FFD-7DCCF6A7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D9D84-70FE-47AC-BA25-FD74A785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92DD4-B948-4612-B96F-9FEF5265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B41E0-33F6-4216-8831-1F61C0D6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9F95E-0BAE-4403-B445-33AE93D92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EC92C-76A5-4CFA-832A-F61318248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2A94-A1BE-43E3-BE28-85EBE411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AA16-4700-4FF5-BBA2-01538151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E1B4-6A1C-4315-9867-88DF0EFF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3A7F-8701-49DD-9375-032C6450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F5AE-58C9-4168-8402-FE4EA376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C674-19B6-48E0-B111-3EBC0C95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EF9F-3191-478D-B4E3-B73B86D0B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6EB6-D0B2-4650-8B5F-2AE141E279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B378-F479-407E-9553-2F882D0141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рок знакомства с буквами П,п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4392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rcRect l="0" t="0" r="0" b="59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6300720" y="2421000"/>
            <a:ext cx="895320" cy="158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5148360" y="2492280"/>
            <a:ext cx="216036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6516720" y="2492280"/>
            <a:ext cx="2160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360" y="2565360"/>
            <a:ext cx="13683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332000" y="260280"/>
            <a:ext cx="6156360" cy="595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ушкин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олстой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аснецов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нгвин</a:t>
            </a:r>
            <a:endParaRPr b="1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рожок</a:t>
            </a:r>
            <a:endParaRPr b="1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8T17:08:45Z</dcterms:created>
  <dc:creator>Admin</dc:creator>
  <dc:description/>
  <dc:language>en-US</dc:language>
  <cp:lastModifiedBy>Admin</cp:lastModifiedBy>
  <dcterms:modified xsi:type="dcterms:W3CDTF">2012-11-08T17:24:44Z</dcterms:modified>
  <cp:revision>2</cp:revision>
  <dc:subject/>
  <dc:title>Урок знакомства с буквами П,п.</dc:title>
</cp:coreProperties>
</file>