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323E-396D-4D65-A47B-680CA84CB0D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F34B-9FFC-45AA-A662-91524C9312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D176-C301-4F5E-A25F-A0FC832135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2F4C-1B3A-41CB-B737-8F8D9AAF44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A909-C6B6-48CA-8985-EF293649B52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2212-AF09-4B24-9296-B602A8C3AC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5FE4-5B99-4A04-88B0-55B7D44936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E1A6-B80F-4D3C-AF43-BF8A0FDACA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8489-B2C6-42B6-BF92-50B922DE45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8C57-8942-4F9A-B78A-ED5ACA023F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70FF-A72C-412C-8049-10773DEDEA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2A4B-9AAC-4CBD-B4FB-CD4509238D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BDD6-A35E-4F86-88FB-63F6FCEEC1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F6E8-FE97-4CEF-8F25-3C1810DACC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E845-F506-479A-919F-931C0FA2B9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1453-02CF-4702-9007-35EFAFC0F3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FF76-4E1A-4D73-B7D8-4EE4D233D1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F4F5-76D8-4A43-9FA6-6DF770F3B4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ABCF-B0A5-4983-B969-432128E0BF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5058-D42E-4459-BA80-27A2848E70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0280-BBB9-449C-AE46-7C03EF493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A8F7-6E71-4405-B0FE-5FBD016B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D2B00-F3AE-4AAB-87E3-2697F50EBC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E90D5-0B43-475E-AA3A-246CC93EAD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695C1-FA71-48C5-8AD9-839F94A0B0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482F4-7DC3-4ECF-B7F1-3496F9C58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E9EFD-6B72-46F8-82C8-341955379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A17410-C76E-4A43-ADAB-8E0DAB2F6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36C3A4-075B-42B7-8A65-834F7A7D9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8121A2-35FE-46C5-9112-8FBB57D920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CCF833-6C19-41D5-A26F-65E4616FB9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CB902C-5B3C-4248-9B0C-13F2B6486D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B39F-4A55-48AB-866F-CFEE7E897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657214-0963-488C-845F-FC1444E12E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B0784F-19D0-4C35-80DA-0F322E4386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48A016-EF52-4C19-9724-31C7A7CB55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D01741-4702-4DE5-AF42-5B90142F9B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B10130-99BB-4DEA-AFC7-E220EBADDC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AE6309-202E-4B23-8CC9-D3BF5B41E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D07A81-31F3-4F5E-9511-7B710AB980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662652-E37F-4CD3-AF6F-62035DA886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45DF9F-39DF-4DA8-A1DC-66E72EB31E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FD52D6-C942-4B07-96FA-4C7332504B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6C886-CAB2-4A3C-8C99-B70E6A034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5CE2B5-6BB1-4A1C-B412-23DA4AEC65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FEAE4B-0A4D-419D-A5AF-7E771BBCFE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070532-2D63-4404-BC44-B5799F31B2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7B68AF-AE16-41FA-9768-1E5428479C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BF2729-B570-41D5-9313-C3797D6C1B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D443AA-5B69-4E45-80C7-9E4EDB0495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8CC111-6746-4F9B-97C6-AA0C9D7EAA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DE4B14-770E-4544-BFDD-136A191D6D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7AF9A1-9AF1-4A0C-83AA-5DF6A04230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A5EA48-F3DE-4291-BABD-6BDD3033F3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25204-EACA-43E8-A5FF-2A9448390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8FC06-DF68-48C6-8927-2CC4DD011B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4425A0-1054-40C1-A5A8-E1426BB00F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575CA3-D400-4B39-AE15-FC4480510C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796D27-995F-4807-85F3-28179237CB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0804BF-37B5-4706-9E63-CA7DD60698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50428B-15F4-4AF2-92F2-0348B8C54F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9AB274-4B62-404D-AB35-CC1547A0AC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E0EF6B-7018-4566-8A1D-14B8E65E9D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235411-17C2-4403-B320-A52736AE6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B5A579-906C-4F05-8518-D88C681F8D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88D7A-A877-4CAC-8BED-894A85AD9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477AFF-70D3-419C-88C6-BCB839B876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82F282-174D-473D-99E2-93463F2603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61519D-CF34-40C8-9902-95F5087860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D5F29A-C408-4B7A-8B46-6DCB4958BD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FC8C75-8FDB-4C4F-8DEF-463BFF7890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5FD2B-9B40-4E9B-874B-65317C3A3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937DE-1F0A-4D87-843E-D62D1D4EB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426A8-DDCF-4B02-81DE-4045CAEC7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71952-E631-4C34-8FA7-73611BA3F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1C2B1-6D1F-4A4B-A6D7-18DAD9C43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950D-A4E8-404B-8A1E-151FD32C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4F231-8EF2-4ADC-B267-99EF4EDF3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B612-505D-4E40-BC52-4E110B0CF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5BEB5-E32C-4859-B9E3-0F22FFE74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2BC6F-7305-4D6B-B643-163013578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C4B5E-6CFA-4C04-A717-EAD847D8F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6AD6DE-D2F5-44A5-BE64-32939A2417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E52C2-6D34-425E-8F43-9C0C4FC3A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89578-D483-482A-8344-AD2489257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F3233-4B19-4593-BEF6-EE3FA9439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D36B1-ED6E-45F9-9EAD-548A94EC1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46E2-C93D-4CEA-83F9-3EB9CF083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DAC47-7C75-44E1-90EC-3C61009D4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71DC7-6058-4E1E-9F09-04DCE4412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D4E0C-D983-417C-B099-1BC9F1491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B2EAB-923B-4960-93A5-1ED297CAF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81213-72AE-4AD1-991A-7D98ADAE9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DE194E-90F9-45F8-AE49-B0A8A4192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E82B6-C7E1-4977-94B5-786BD52A5E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9175C-2FA0-452D-832D-A9B3B903C2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637F6-E527-493A-8A70-E4D163F76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C71E4D-7A85-48C3-B667-46FB06910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49A3-878C-45D9-B204-28FB1EF5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287CC-B9BF-4185-A42C-E1DCE1684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4BAC4-5ABE-44E8-B1F3-D3FDD79F1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E171E-E70B-4C84-97EE-D96615624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0A97D-8892-40FA-8DB3-D98944C0C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D3DC7-9214-4EFE-BCEA-74D8D9F82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F213B-DF3B-4936-8B61-1E2D2FCC8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F7429-1E4D-42B3-B5B2-1659EB81F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96CBF1-32BF-4C2D-AC64-41BB2D90D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16F310-ECA2-442C-B810-AF4B0AD895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E8D56-7123-48F7-A55D-6FBD475D13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AEF79-F06F-46DE-97E4-6F42E4299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CEA7C-F9EB-4D49-936B-48965DD2D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0707A-DF4B-4ADC-A6A1-6068AA236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8CE76-6F58-4973-94F1-5D7638818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01453-4DB0-4035-8026-C054B2488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8A39A-0B2C-43E9-B30B-10CD6D819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D5D2A-BF4E-404B-B527-390FBD95C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6439B-66D4-4E6F-861A-64D4BF616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312D01-588A-4C40-9641-A003AF2F0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FC716-0BDE-4560-B1FD-C98548DB8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D35B8-3945-490B-84B9-2C569F728F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4EC4E-4395-45F6-9F93-AD6BECE3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03109-EB2E-49CF-ACFC-F94C23883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27B74A-D099-4916-A74D-A342ECCAD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7AA40-C59A-4AD4-A947-B6E2933F4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781264-FF9B-4C75-B748-847CB8C61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3263C-300C-4132-9859-83E34AA9A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B5702-E925-429E-B285-7FEF1CF01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9AD9FD-063D-4B61-AAF7-5FEB707D8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896F34-0C54-4D5E-BFA6-B673B77F3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3595B-C6B1-4CC1-A266-AFEF08D0D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E2D6E-7166-401D-984D-1F784B94E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194E-7DF4-4A1D-ABD1-B8870BAF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7B5A2-4BF1-424E-B655-1970D3275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58911-1A01-41C1-BC77-BDCA2CD128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2B1CD-D588-41AE-BE51-51B7F18F5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867738-238F-4696-B91A-7972BB5483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B20F2-9F34-4570-AAC1-D0BB8E37D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61799-74ED-483A-80F7-56165A3ED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80949-5D55-44ED-943A-FB30931B5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79F57-65A1-4827-86F9-DC85878C7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C4EFE-5A21-4004-8053-99C6AF191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384C0-899D-419E-AD78-291354846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3C2E-D7C1-41B3-8989-8555035E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3D7C5-D7C3-4539-A77E-ADF5EF4F0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97DE4-BCB7-49B4-9967-7177E3477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56915-B073-49D4-8901-C8E3879B8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FDAF17-8CD8-43B0-9214-414C86E12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78E723-C1D0-4580-A1EB-A40407CC2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7AF8A0-AD80-4F8D-832E-55E8FB731D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BC21C-0594-4376-9F96-BC71A10DEA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E47AE-2E6E-4256-9968-D9C2629D2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507A0-968E-46CF-9C10-C87FB3ED8F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6DD2F-0A09-43FA-82A5-5E4AAC62D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4967-BDF9-4082-ACB4-026E79C3D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DEA5A9-B1DB-423E-B78B-FD37E3A628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D551C-4D7A-4FB0-ABF5-4B0CB817C2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B1E91-59E6-48FD-8111-C5BF0162D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7BD80-3C1F-461C-A3F7-30666539F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9A230-3970-413E-850A-95DBEA6075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3B558E-E66F-43A6-87EB-4C864DA0E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C74A7-3FBC-4ADF-A676-B9D7A74E56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883B7-E50D-431F-88CF-65160464C0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20AF7-3D06-4D83-801C-4FBE2AD56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B43D1-7256-4DED-9149-002CD405E9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474-F870-4963-B95B-3D9FFB827D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8CEE-B07E-4CE6-8F9A-7C1512E7D05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A68E-27B4-46C9-A9EA-E9401DD366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230D-35F6-4757-ADA2-360429931CD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F9F7-F667-4C4B-944B-2EB77EC807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AACB-9035-4077-AF09-E9EB743D119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98E4-AEC5-4EF1-BF4D-5E66C5968D5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8021-4A43-4A98-98F3-2B5C2C7F667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87AE-A65E-4819-AE92-CF75ACBF7C4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DA83-AE9E-409E-9812-509684C0F15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EB5C-BE4E-4235-AC92-D981504EF74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FE34-D278-4DC1-9B6F-79AA2DAE005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4web.ru/go.html?href=http%3A%2F%2Fbaza-referat.ru%2F%25D0%25A1%25D0%25BE%25D0%25B2%25D1%2580%25D0%25B5%25D0%25BC%25D0%25B5%25D0%25BD%25D0%25BD%25D0%25B8%25D0%25BA" TargetMode="External"/><Relationship Id="rId3" Type="http://schemas.openxmlformats.org/officeDocument/2006/relationships/hyperlink" Target="http://doc4web.ru/go.html?href=http%3A%2F%2Fbaza-referat.ru%2F%25D0%259E%25D0%25B1%25D1%2589%25D0%25B5%25D1%2581%25D1%2582%25D0%25B2%25D0%25BE" TargetMode="External"/><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00" name="Picture 5" descr="7eedcfbb99969dc6004dc001e9ee6a4b"/>
          <p:cNvPicPr/>
          <p:nvPr/>
        </p:nvPicPr>
        <p:blipFill>
          <a:blip r:embed="rId1"/>
          <a:stretch/>
        </p:blipFill>
        <p:spPr>
          <a:xfrm>
            <a:off x="0" y="0"/>
            <a:ext cx="9144000" cy="6858000"/>
          </a:xfrm>
          <a:prstGeom prst="rect">
            <a:avLst/>
          </a:prstGeom>
          <a:ln w="0">
            <a:noFill/>
          </a:ln>
        </p:spPr>
      </p:pic>
      <p:sp>
        <p:nvSpPr>
          <p:cNvPr id="501"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Прямоугольник 7"/>
          <p:cNvSpPr/>
          <p:nvPr/>
        </p:nvSpPr>
        <p:spPr>
          <a:xfrm>
            <a:off x="468360" y="476280"/>
            <a:ext cx="8351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петентностно – ориентированные задания в структуре современного урока математики как средство реализации системно-деятельностного подхода»</a:t>
            </a:r>
            <a:endParaRPr b="0" lang="en-US" sz="3600" spc="-1" strike="noStrike">
              <a:solidFill>
                <a:srgbClr val="000000"/>
              </a:solidFill>
              <a:latin typeface="Arial"/>
            </a:endParaRPr>
          </a:p>
        </p:txBody>
      </p:sp>
      <p:sp>
        <p:nvSpPr>
          <p:cNvPr id="503" name="Прямоугольник 5"/>
          <p:cNvSpPr/>
          <p:nvPr/>
        </p:nvSpPr>
        <p:spPr>
          <a:xfrm>
            <a:off x="3780000" y="6093000"/>
            <a:ext cx="22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2 июня 2016 г</a:t>
            </a:r>
            <a:endParaRPr b="0" lang="en-US" sz="2400" spc="-1" strike="noStrike">
              <a:solidFill>
                <a:srgbClr val="000000"/>
              </a:solidFill>
              <a:latin typeface="Arial"/>
            </a:endParaRPr>
          </a:p>
        </p:txBody>
      </p:sp>
      <p:sp>
        <p:nvSpPr>
          <p:cNvPr id="504" name="Rectangle 8"/>
          <p:cNvSpPr/>
          <p:nvPr/>
        </p:nvSpPr>
        <p:spPr>
          <a:xfrm>
            <a:off x="5435640" y="4437000"/>
            <a:ext cx="3313080" cy="37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Picture 9" descr="tiger-1300883669"/>
          <p:cNvPicPr/>
          <p:nvPr/>
        </p:nvPicPr>
        <p:blipFill>
          <a:blip r:embed="rId2"/>
          <a:stretch/>
        </p:blipFill>
        <p:spPr>
          <a:xfrm>
            <a:off x="250920" y="2708280"/>
            <a:ext cx="4105080" cy="2928960"/>
          </a:xfrm>
          <a:prstGeom prst="rect">
            <a:avLst/>
          </a:prstGeom>
          <a:ln w="0">
            <a:noFill/>
          </a:ln>
        </p:spPr>
      </p:pic>
      <p:sp>
        <p:nvSpPr>
          <p:cNvPr id="506" name="Прямоугольник 1"/>
          <p:cNvSpPr/>
          <p:nvPr/>
        </p:nvSpPr>
        <p:spPr>
          <a:xfrm>
            <a:off x="4356000" y="4621320"/>
            <a:ext cx="4572000" cy="109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иннурова Лилия Даниров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математики первой квалификационной категор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БОУ «Средняя общеобразовательная школа №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глубленным изучением отдельных предме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 Казань, Приволжский район</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44" name="Picture 5" descr="7eedcfbb99969dc6004dc001e9ee6a4b"/>
          <p:cNvPicPr/>
          <p:nvPr/>
        </p:nvPicPr>
        <p:blipFill>
          <a:blip r:embed="rId1"/>
          <a:stretch/>
        </p:blipFill>
        <p:spPr>
          <a:xfrm>
            <a:off x="0" y="0"/>
            <a:ext cx="9144000" cy="6858000"/>
          </a:xfrm>
          <a:prstGeom prst="rect">
            <a:avLst/>
          </a:prstGeom>
          <a:ln w="0">
            <a:noFill/>
          </a:ln>
        </p:spPr>
      </p:pic>
      <p:sp>
        <p:nvSpPr>
          <p:cNvPr id="545"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Прямоугольник 1"/>
          <p:cNvSpPr/>
          <p:nvPr/>
        </p:nvSpPr>
        <p:spPr>
          <a:xfrm>
            <a:off x="250920" y="189000"/>
            <a:ext cx="8424720" cy="1075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672"/>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Развитие </a:t>
            </a:r>
            <a:r>
              <a:rPr b="1" lang="ru-RU" sz="1800" spc="-1" strike="noStrike" u="sng">
                <a:solidFill>
                  <a:srgbClr val="000000"/>
                </a:solidFill>
                <a:uFillTx/>
                <a:latin typeface="Times New Roman"/>
                <a:ea typeface="Times New Roman"/>
              </a:rPr>
              <a:t>ценностно-смысловой компетенции.</a:t>
            </a: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Arial"/>
                <a:ea typeface="Times New Roman"/>
              </a:rPr>
              <a:t>В семенах сои содержится 20% масла. Сколько масла содержится в 700 кг сои? Что вы слышали о полезности сои организму человека? Найдите ответ в дополнительной литературе.</a:t>
            </a: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Самое соленое из всех морей земного шара Мертвое море содержит до 300г соли на 1кг воды. Выясни, сколько граммов соли содержится в 200г морской воды. Узнай о пользе морской воды для здоровья человека.</a:t>
            </a: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У помидор «Розовый гигант» первые плоды созревают на 110 после посева. Когда надо посеять помидоры, чтобы первые зрелые плоды были 10 июля?</a:t>
            </a: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В астрономии используется единица измерения расстояния, называемая «световой год» и численно равная 9,46*10 (в 12 степени) км. Выразите в километрах расстояние от Солнца до центра нашей Галактики </a:t>
            </a:r>
            <a:r>
              <a:rPr b="0" lang="ru-RU" sz="1800" spc="-1" strike="noStrike">
                <a:solidFill>
                  <a:srgbClr val="000000"/>
                </a:solidFill>
                <a:latin typeface="Arial"/>
                <a:ea typeface="Times New Roman"/>
              </a:rPr>
              <a:t>Млечный Путь, если известно, что оно равно 28 тыс. световых лет.</a:t>
            </a: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К празднику купили 19 пирожных — корзиночек и эклеров. В 2 одинаковых коробках по 5 корзиночек. Остальные пирожные — эклеры — в 3 коробках. Сколько эклеров в 1 коробке?</a:t>
            </a: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Сколько граммов спирта надо добавить к 600г 16%-ного раствора йода в спирте, чтобы получить 10%-ный раствор йод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48" name="Picture 5" descr="7eedcfbb99969dc6004dc001e9ee6a4b"/>
          <p:cNvPicPr/>
          <p:nvPr/>
        </p:nvPicPr>
        <p:blipFill>
          <a:blip r:embed="rId1"/>
          <a:stretch/>
        </p:blipFill>
        <p:spPr>
          <a:xfrm>
            <a:off x="0" y="0"/>
            <a:ext cx="9144000" cy="6858000"/>
          </a:xfrm>
          <a:prstGeom prst="rect">
            <a:avLst/>
          </a:prstGeom>
          <a:ln w="0">
            <a:noFill/>
          </a:ln>
        </p:spPr>
      </p:pic>
      <p:sp>
        <p:nvSpPr>
          <p:cNvPr id="549"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Прямоугольник 2"/>
          <p:cNvSpPr/>
          <p:nvPr/>
        </p:nvSpPr>
        <p:spPr>
          <a:xfrm>
            <a:off x="395280" y="404640"/>
            <a:ext cx="6405480" cy="51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672"/>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Общекультурная компетенция</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Каким бы чистым ни казался воздух, в нем всегда имеется пыль. Когда мы дышим через нос, пыли задерживается на 60 % больше, чем тогда, когда мы дышим через рот. Во сколько раз при дыхании через нос пыли задерживается больше, чем при дыхании ртом. Что вы знаете о политике нашего государства относительно проблемы чистого воздуха?</a:t>
            </a:r>
            <a:endParaRPr b="0" lang="en-US" sz="16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Из жителей города одни говорят только на украинском, другие – только на русском, третьи – на обоих языках. По-украински говорят 85% всех жителей, а по-русски – 75%. Сколько процентов всех жителей этого города говорят на обоих языках?</a:t>
            </a:r>
            <a:endParaRPr b="0" lang="en-US" sz="16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аселение города ежегодно увеличивается на 1/50 наличного числа жителей. Через сколько лет население утроится? Какие социальные программы надо будет решать?</a:t>
            </a:r>
            <a:endParaRPr b="0" lang="en-US" sz="1600" spc="-1" strike="noStrike">
              <a:solidFill>
                <a:srgbClr val="000000"/>
              </a:solidFill>
              <a:latin typeface="Arial"/>
            </a:endParaRPr>
          </a:p>
          <a:p>
            <a:pPr marL="343080" indent="-343080">
              <a:lnSpc>
                <a:spcPts val="1672"/>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мпература воздуха изменялась в течение дня от 7° до 26° Цельсия (дается график изменения температуры). Изобразите график функции, на котором будет изображена температура воздуха в градусах по фаренгейту, соответствующая температуре на графике.</a:t>
            </a:r>
            <a:endParaRPr b="0" lang="en-US" sz="1600" spc="-1" strike="noStrike">
              <a:solidFill>
                <a:srgbClr val="000000"/>
              </a:solidFill>
              <a:latin typeface="Arial"/>
            </a:endParaRPr>
          </a:p>
          <a:p>
            <a:pPr marL="343080" indent="-343080">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2" name="Picture 5" descr="7eedcfbb99969dc6004dc001e9ee6a4b"/>
          <p:cNvPicPr/>
          <p:nvPr/>
        </p:nvPicPr>
        <p:blipFill>
          <a:blip r:embed="rId1"/>
          <a:stretch/>
        </p:blipFill>
        <p:spPr>
          <a:xfrm>
            <a:off x="0" y="0"/>
            <a:ext cx="9144000" cy="6858000"/>
          </a:xfrm>
          <a:prstGeom prst="rect">
            <a:avLst/>
          </a:prstGeom>
          <a:ln w="0">
            <a:noFill/>
          </a:ln>
        </p:spPr>
      </p:pic>
      <p:sp>
        <p:nvSpPr>
          <p:cNvPr id="553"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Прямоугольник 1"/>
          <p:cNvSpPr/>
          <p:nvPr/>
        </p:nvSpPr>
        <p:spPr>
          <a:xfrm>
            <a:off x="548280" y="404640"/>
            <a:ext cx="40197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сследовательская компетенция</a:t>
            </a:r>
            <a:r>
              <a:rPr b="1"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Picture 2" descr=""/>
          <p:cNvPicPr/>
          <p:nvPr/>
        </p:nvPicPr>
        <p:blipFill>
          <a:blip r:embed="rId2"/>
          <a:stretch/>
        </p:blipFill>
        <p:spPr>
          <a:xfrm>
            <a:off x="611280" y="1020600"/>
            <a:ext cx="7029360" cy="41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7" name="Picture 5" descr="7eedcfbb99969dc6004dc001e9ee6a4b"/>
          <p:cNvPicPr/>
          <p:nvPr/>
        </p:nvPicPr>
        <p:blipFill>
          <a:blip r:embed="rId1"/>
          <a:stretch/>
        </p:blipFill>
        <p:spPr>
          <a:xfrm>
            <a:off x="0" y="0"/>
            <a:ext cx="9144000" cy="6858000"/>
          </a:xfrm>
          <a:prstGeom prst="rect">
            <a:avLst/>
          </a:prstGeom>
          <a:ln w="0">
            <a:noFill/>
          </a:ln>
        </p:spPr>
      </p:pic>
      <p:sp>
        <p:nvSpPr>
          <p:cNvPr id="558"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3"/>
          <p:cNvSpPr/>
          <p:nvPr/>
        </p:nvSpPr>
        <p:spPr>
          <a:xfrm>
            <a:off x="1042920" y="549360"/>
            <a:ext cx="7416720" cy="51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1672"/>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нформационная компетенция</a:t>
            </a:r>
            <a:endParaRPr b="0" lang="en-US" sz="1800" spc="-1" strike="noStrike">
              <a:solidFill>
                <a:srgbClr val="000000"/>
              </a:solidFill>
              <a:latin typeface="Arial"/>
            </a:endParaRPr>
          </a:p>
          <a:p>
            <a:pPr marL="343080" indent="-343080">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
          <p:cNvPicPr/>
          <p:nvPr/>
        </p:nvPicPr>
        <p:blipFill>
          <a:blip r:embed="rId2"/>
          <a:stretch/>
        </p:blipFill>
        <p:spPr>
          <a:xfrm>
            <a:off x="684360" y="1076400"/>
            <a:ext cx="6927840" cy="516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2" name="Picture 5" descr="7eedcfbb99969dc6004dc001e9ee6a4b"/>
          <p:cNvPicPr/>
          <p:nvPr/>
        </p:nvPicPr>
        <p:blipFill>
          <a:blip r:embed="rId1"/>
          <a:stretch/>
        </p:blipFill>
        <p:spPr>
          <a:xfrm>
            <a:off x="0" y="0"/>
            <a:ext cx="9144000" cy="6858000"/>
          </a:xfrm>
          <a:prstGeom prst="rect">
            <a:avLst/>
          </a:prstGeom>
          <a:ln w="0">
            <a:noFill/>
          </a:ln>
        </p:spPr>
      </p:pic>
      <p:sp>
        <p:nvSpPr>
          <p:cNvPr id="563"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Прямоугольник 1"/>
          <p:cNvSpPr/>
          <p:nvPr/>
        </p:nvSpPr>
        <p:spPr>
          <a:xfrm>
            <a:off x="459360" y="404640"/>
            <a:ext cx="4106880" cy="518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ts val="1672"/>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Социально-трудовые компетенции</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1" descr=""/>
          <p:cNvPicPr/>
          <p:nvPr/>
        </p:nvPicPr>
        <p:blipFill>
          <a:blip r:embed="rId2"/>
          <a:stretch/>
        </p:blipFill>
        <p:spPr>
          <a:xfrm>
            <a:off x="453960" y="1125360"/>
            <a:ext cx="8221680" cy="359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67" name="Picture 5" descr="7eedcfbb99969dc6004dc001e9ee6a4b"/>
          <p:cNvPicPr/>
          <p:nvPr/>
        </p:nvPicPr>
        <p:blipFill>
          <a:blip r:embed="rId1"/>
          <a:stretch/>
        </p:blipFill>
        <p:spPr>
          <a:xfrm>
            <a:off x="0" y="0"/>
            <a:ext cx="9144000" cy="6858000"/>
          </a:xfrm>
          <a:prstGeom prst="rect">
            <a:avLst/>
          </a:prstGeom>
          <a:ln w="0">
            <a:noFill/>
          </a:ln>
        </p:spPr>
      </p:pic>
      <p:sp>
        <p:nvSpPr>
          <p:cNvPr id="568"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Прямоугольник 1"/>
          <p:cNvSpPr/>
          <p:nvPr/>
        </p:nvSpPr>
        <p:spPr>
          <a:xfrm>
            <a:off x="0" y="40464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1.</a:t>
            </a:r>
            <a:r>
              <a:rPr b="0" lang="ru-RU" sz="1800" spc="-1" strike="noStrike">
                <a:solidFill>
                  <a:srgbClr val="000000"/>
                </a:solidFill>
                <a:latin typeface="Arial"/>
              </a:rPr>
              <a:t> Тема «Действия с десятичными дроб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им из важных компонентов для поддержания нашего организма в тонусе является употребление необходимого количества витаминов и минералов. В весенний период чувствуется ослабленность иммунитета. Дефицит железа приводит к серьезным последствиям: замедлению развития моторики, нарушению координации, замедлению речевого развития, а также недостаток железа в организме приводит к развитию анем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онедельник в меню школьной столовой на обед было предложено : гречневая каша(200 гр) с котлетой (100 гр) и салат из цветной капусты (100гр), а во вторник в меню предложили печеночные оладьи (150 гр) с салатом из свеклы с черносливом (100гр). В какой день, съев обед, ты получил, суточную норму железа? В меню, какого дня необходимо добавить продуктов, содержащие железо?(необходимый справочный материал предлага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2</a:t>
            </a:r>
            <a:r>
              <a:rPr b="0" lang="ru-RU" sz="1800" spc="-1" strike="noStrike">
                <a:solidFill>
                  <a:srgbClr val="000000"/>
                </a:solidFill>
                <a:latin typeface="Arial"/>
              </a:rPr>
              <a:t> Тема « Наибольший общий делите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приготовить одинаковые подарки для детей купили 90 плиток шоколада, 150 яблок и 210 конфет. Какое наибольшее количество одинаковых подарков можно приготови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1" name="Picture 5" descr="7eedcfbb99969dc6004dc001e9ee6a4b"/>
          <p:cNvPicPr/>
          <p:nvPr/>
        </p:nvPicPr>
        <p:blipFill>
          <a:blip r:embed="rId1"/>
          <a:stretch/>
        </p:blipFill>
        <p:spPr>
          <a:xfrm>
            <a:off x="0" y="0"/>
            <a:ext cx="9144000" cy="6858000"/>
          </a:xfrm>
          <a:prstGeom prst="rect">
            <a:avLst/>
          </a:prstGeom>
          <a:ln w="0">
            <a:noFill/>
          </a:ln>
        </p:spPr>
      </p:pic>
      <p:sp>
        <p:nvSpPr>
          <p:cNvPr id="572"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Прямоугольник 1"/>
          <p:cNvSpPr/>
          <p:nvPr/>
        </p:nvSpPr>
        <p:spPr>
          <a:xfrm>
            <a:off x="755640" y="1444680"/>
            <a:ext cx="7632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3. </a:t>
            </a:r>
            <a:r>
              <a:rPr b="0" lang="ru-RU" sz="1800" spc="-1" strike="noStrike">
                <a:solidFill>
                  <a:srgbClr val="000000"/>
                </a:solidFill>
                <a:latin typeface="Arial"/>
              </a:rPr>
              <a:t>Тема « Нахождение процентов от чис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лена Ивановна регулярно приобретая обувь своему сыну сделала свой выбор в пользу торгового бренда «EC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распродаже весенней коллекции обуви бренда «ECCO» в торговом центре « МART» на ботинки для мальчика первоначальной стоимостью 19900 рублей предложена скидка 25%, а сайт lamoda.kz предлагает скидки на всю обувь бренда «ECCO» от 15%-55%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ясните, каким способом выгоднее приобрести ботин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5" name="Picture 5" descr="7eedcfbb99969dc6004dc001e9ee6a4b"/>
          <p:cNvPicPr/>
          <p:nvPr/>
        </p:nvPicPr>
        <p:blipFill>
          <a:blip r:embed="rId1"/>
          <a:stretch/>
        </p:blipFill>
        <p:spPr>
          <a:xfrm>
            <a:off x="0" y="0"/>
            <a:ext cx="9144000" cy="6858000"/>
          </a:xfrm>
          <a:prstGeom prst="rect">
            <a:avLst/>
          </a:prstGeom>
          <a:ln w="0">
            <a:noFill/>
          </a:ln>
        </p:spPr>
      </p:pic>
      <p:sp>
        <p:nvSpPr>
          <p:cNvPr id="576"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Прямоугольник 1"/>
          <p:cNvSpPr/>
          <p:nvPr/>
        </p:nvSpPr>
        <p:spPr>
          <a:xfrm>
            <a:off x="755640" y="404640"/>
            <a:ext cx="7345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йствия с натуральными числам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ма купила собрания сочинений Ч.Айтматова, состоящее из 12 томов. Какого размера нужно заказать книжную полку в мебельном салоне, чтобы разместить все книги на н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ча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переездом на новую квартиру необходимо упаковать книги с книжной полки в коробку. Какого размера нужно взять коробку , чтобы перести эти кни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79" name="Picture 5" descr="7eedcfbb99969dc6004dc001e9ee6a4b"/>
          <p:cNvPicPr/>
          <p:nvPr/>
        </p:nvPicPr>
        <p:blipFill>
          <a:blip r:embed="rId1"/>
          <a:stretch/>
        </p:blipFill>
        <p:spPr>
          <a:xfrm>
            <a:off x="0" y="0"/>
            <a:ext cx="9144000" cy="6858000"/>
          </a:xfrm>
          <a:prstGeom prst="rect">
            <a:avLst/>
          </a:prstGeom>
          <a:ln w="0">
            <a:noFill/>
          </a:ln>
        </p:spPr>
      </p:pic>
      <p:sp>
        <p:nvSpPr>
          <p:cNvPr id="580"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Прямоугольник 1"/>
          <p:cNvSpPr/>
          <p:nvPr/>
        </p:nvSpPr>
        <p:spPr>
          <a:xfrm>
            <a:off x="611280" y="474840"/>
            <a:ext cx="8064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во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использовании компетентностно-ориентированных заданий в корне меняются соотношения «педагог- обучающийся»: ученик определяет цель деятельности- педагог помогает ему в этом, ученик открывает новые знания- педагог рекомендует источник знаний, ученик выбирает - педагог содействует, обучающийся активен- педагог создает условия для проявления активности. Таким образом, компетентно- ориентированное задание способствует формированию активной, самостоятельной позиции учащихся, развивать исследовательские, рефлексивные ум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удности ставят перед нами задачи, выполнение которых позволит нам более активно применять компетентностно-ориентированные задания в своей практи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83" name="Picture 5" descr="7eedcfbb99969dc6004dc001e9ee6a4b"/>
          <p:cNvPicPr/>
          <p:nvPr/>
        </p:nvPicPr>
        <p:blipFill>
          <a:blip r:embed="rId1"/>
          <a:stretch/>
        </p:blipFill>
        <p:spPr>
          <a:xfrm>
            <a:off x="0" y="0"/>
            <a:ext cx="9144000" cy="6858000"/>
          </a:xfrm>
          <a:prstGeom prst="rect">
            <a:avLst/>
          </a:prstGeom>
          <a:ln w="0">
            <a:noFill/>
          </a:ln>
        </p:spPr>
      </p:pic>
      <p:sp>
        <p:nvSpPr>
          <p:cNvPr id="584"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Прямоугольник 7"/>
          <p:cNvSpPr/>
          <p:nvPr/>
        </p:nvSpPr>
        <p:spPr>
          <a:xfrm>
            <a:off x="1547640" y="692280"/>
            <a:ext cx="648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Times New Roman"/>
              </a:rPr>
              <a:t>Спасибо за внимание</a:t>
            </a:r>
            <a:endParaRPr b="0" lang="en-US" sz="3600" spc="-1" strike="noStrike">
              <a:solidFill>
                <a:srgbClr val="000000"/>
              </a:solidFill>
              <a:latin typeface="Arial"/>
            </a:endParaRPr>
          </a:p>
        </p:txBody>
      </p:sp>
      <p:pic>
        <p:nvPicPr>
          <p:cNvPr id="586" name="Picture 7" descr=""/>
          <p:cNvPicPr/>
          <p:nvPr/>
        </p:nvPicPr>
        <p:blipFill>
          <a:blip r:embed="rId2"/>
          <a:stretch/>
        </p:blipFill>
        <p:spPr>
          <a:xfrm>
            <a:off x="3160800" y="2228760"/>
            <a:ext cx="2822400" cy="26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08" name="Picture 5" descr="7eedcfbb99969dc6004dc001e9ee6a4b"/>
          <p:cNvPicPr/>
          <p:nvPr/>
        </p:nvPicPr>
        <p:blipFill>
          <a:blip r:embed="rId1"/>
          <a:stretch/>
        </p:blipFill>
        <p:spPr>
          <a:xfrm>
            <a:off x="0" y="0"/>
            <a:ext cx="9144000" cy="6858000"/>
          </a:xfrm>
          <a:prstGeom prst="rect">
            <a:avLst/>
          </a:prstGeom>
          <a:ln w="0">
            <a:noFill/>
          </a:ln>
        </p:spPr>
      </p:pic>
      <p:sp>
        <p:nvSpPr>
          <p:cNvPr id="509"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2"/>
          <p:cNvSpPr/>
          <p:nvPr/>
        </p:nvSpPr>
        <p:spPr>
          <a:xfrm>
            <a:off x="250920" y="18900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Современное</a:t>
            </a:r>
            <a:r>
              <a:rPr b="0" lang="ru-RU" sz="1800" spc="-1" strike="noStrike">
                <a:solidFill>
                  <a:srgbClr val="000000"/>
                </a:solidFill>
                <a:latin typeface="Arial"/>
              </a:rPr>
              <a:t> </a:t>
            </a:r>
            <a:r>
              <a:rPr b="0" lang="ru-RU" sz="1800" spc="-1" strike="noStrike" u="sng">
                <a:solidFill>
                  <a:srgbClr val="009999"/>
                </a:solidFill>
                <a:uFillTx/>
                <a:latin typeface="Arial"/>
                <a:hlinkClick r:id="rId3"/>
              </a:rPr>
              <a:t>общество</a:t>
            </a:r>
            <a:r>
              <a:rPr b="0" lang="ru-RU" sz="1800" spc="-1" strike="noStrike">
                <a:solidFill>
                  <a:srgbClr val="000000"/>
                </a:solidFill>
                <a:latin typeface="Arial"/>
              </a:rPr>
              <a:t> меняет взгляд на содержание математического образования. Особое внимание направлено, на развитие способности учащихся применять полученные в школе знания и умения в жизненных ситуациях.  Молодому человеку, вступающему в     самостоятельную жизнь в условиях современного рынка труда и быстро        изменяющегося информационного  пространства, необходимо быть эффективным, конкурентноспособным работником.</a:t>
            </a:r>
            <a:endParaRPr b="0" lang="en-US" sz="1800" spc="-1" strike="noStrike">
              <a:solidFill>
                <a:srgbClr val="000000"/>
              </a:solidFill>
              <a:latin typeface="Arial"/>
            </a:endParaRPr>
          </a:p>
        </p:txBody>
      </p:sp>
      <p:pic>
        <p:nvPicPr>
          <p:cNvPr id="511" name="Picture 5" descr="D:\учитель года\5918.jpg"/>
          <p:cNvPicPr/>
          <p:nvPr/>
        </p:nvPicPr>
        <p:blipFill>
          <a:blip r:embed="rId4"/>
          <a:stretch/>
        </p:blipFill>
        <p:spPr>
          <a:xfrm rot="558000">
            <a:off x="4708440" y="552240"/>
            <a:ext cx="4038840" cy="524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6" descr="http://konkurstalantof.ru/wp-content/uploads/2014/06/%D0%9A%D0%B0%D0%BD%D0%B8%D0%BA%D1%83%D0%BB%D1%8B-%D0%A3%D1%80%D0%B0.gif"/>
          <p:cNvPicPr/>
          <p:nvPr/>
        </p:nvPicPr>
        <p:blipFill>
          <a:blip r:embed="rId1"/>
          <a:stretch/>
        </p:blipFill>
        <p:spPr>
          <a:xfrm>
            <a:off x="7920" y="-387360"/>
            <a:ext cx="9028080" cy="752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3" name="Picture 5" descr="7eedcfbb99969dc6004dc001e9ee6a4b"/>
          <p:cNvPicPr/>
          <p:nvPr/>
        </p:nvPicPr>
        <p:blipFill>
          <a:blip r:embed="rId1"/>
          <a:stretch/>
        </p:blipFill>
        <p:spPr>
          <a:xfrm>
            <a:off x="0" y="0"/>
            <a:ext cx="9144000" cy="6858000"/>
          </a:xfrm>
          <a:prstGeom prst="rect">
            <a:avLst/>
          </a:prstGeom>
          <a:ln w="0">
            <a:noFill/>
          </a:ln>
        </p:spPr>
      </p:pic>
      <p:sp>
        <p:nvSpPr>
          <p:cNvPr id="514"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Прямоугольник 1"/>
          <p:cNvSpPr/>
          <p:nvPr/>
        </p:nvSpPr>
        <p:spPr>
          <a:xfrm>
            <a:off x="52560" y="476280"/>
            <a:ext cx="4303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 контрольно-измерительных материалов, используемых для итоговой аттестации в 9 и 11 классах, показывает, что в экзаменационных работах становится все больше заданий, требующих построения самой модели реальной ситуации. Именно составление модели требует высокого уровня математической подготовки и является результатом обучения, который целесообразно назвать общекультурным (общеобразовательным). Поэтому выпускник школы должен обладать определенными компетенциями. Как на уроке математики содействовать формированию ключевых образовательных компетенции? </a:t>
            </a:r>
            <a:endParaRPr b="0" lang="en-US" sz="1800" spc="-1" strike="noStrike">
              <a:solidFill>
                <a:srgbClr val="000000"/>
              </a:solidFill>
              <a:latin typeface="Arial"/>
            </a:endParaRPr>
          </a:p>
        </p:txBody>
      </p:sp>
      <p:pic>
        <p:nvPicPr>
          <p:cNvPr id="516" name="Picture 8" descr=""/>
          <p:cNvPicPr/>
          <p:nvPr/>
        </p:nvPicPr>
        <p:blipFill>
          <a:blip r:embed="rId2"/>
          <a:stretch/>
        </p:blipFill>
        <p:spPr>
          <a:xfrm>
            <a:off x="4343400" y="1197000"/>
            <a:ext cx="3936960" cy="345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18" name="Picture 5" descr="7eedcfbb99969dc6004dc001e9ee6a4b"/>
          <p:cNvPicPr/>
          <p:nvPr/>
        </p:nvPicPr>
        <p:blipFill>
          <a:blip r:embed="rId1"/>
          <a:stretch/>
        </p:blipFill>
        <p:spPr>
          <a:xfrm>
            <a:off x="0" y="0"/>
            <a:ext cx="9144000" cy="6858000"/>
          </a:xfrm>
          <a:prstGeom prst="rect">
            <a:avLst/>
          </a:prstGeom>
          <a:ln w="0">
            <a:noFill/>
          </a:ln>
        </p:spPr>
      </p:pic>
      <p:sp>
        <p:nvSpPr>
          <p:cNvPr id="519"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Прямоугольник 7"/>
          <p:cNvSpPr/>
          <p:nvPr/>
        </p:nvSpPr>
        <p:spPr>
          <a:xfrm>
            <a:off x="324000" y="476280"/>
            <a:ext cx="784836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Прямоугольник 8"/>
          <p:cNvSpPr/>
          <p:nvPr/>
        </p:nvSpPr>
        <p:spPr>
          <a:xfrm>
            <a:off x="324000" y="476280"/>
            <a:ext cx="4535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решении компетентностно-ориентированных заданий учащиеся осуществляют такие виды деятельности: учение (как основа для дальнейшего образования), взаимообучение, совместное изучение, совместное обсуждение, исследования (в том числе совместные), обмен опытом, проектирование, программирование индивидуальных образовательных программ. Поэтому целесообразно формировать ключевые компетентности через специальные компетентностно-ориентированные задачи. </a:t>
            </a:r>
            <a:endParaRPr b="0" lang="en-US" sz="1800" spc="-1" strike="noStrike">
              <a:solidFill>
                <a:srgbClr val="000000"/>
              </a:solidFill>
              <a:latin typeface="Arial"/>
            </a:endParaRPr>
          </a:p>
        </p:txBody>
      </p:sp>
      <p:pic>
        <p:nvPicPr>
          <p:cNvPr id="522" name="Picture 5" descr="D:\учитель года\312629_html_m4495f3b3.gif"/>
          <p:cNvPicPr/>
          <p:nvPr/>
        </p:nvPicPr>
        <p:blipFill>
          <a:blip r:embed="rId2"/>
          <a:stretch/>
        </p:blipFill>
        <p:spPr>
          <a:xfrm>
            <a:off x="5232240" y="1413000"/>
            <a:ext cx="3175200" cy="337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24" name="Picture 5" descr="7eedcfbb99969dc6004dc001e9ee6a4b"/>
          <p:cNvPicPr/>
          <p:nvPr/>
        </p:nvPicPr>
        <p:blipFill>
          <a:blip r:embed="rId1"/>
          <a:stretch/>
        </p:blipFill>
        <p:spPr>
          <a:xfrm>
            <a:off x="9360" y="0"/>
            <a:ext cx="9144000" cy="6858000"/>
          </a:xfrm>
          <a:prstGeom prst="rect">
            <a:avLst/>
          </a:prstGeom>
          <a:ln w="0">
            <a:noFill/>
          </a:ln>
        </p:spPr>
      </p:pic>
      <p:sp>
        <p:nvSpPr>
          <p:cNvPr id="525"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Прямоугольник 1"/>
          <p:cNvSpPr/>
          <p:nvPr/>
        </p:nvSpPr>
        <p:spPr>
          <a:xfrm>
            <a:off x="539640" y="404640"/>
            <a:ext cx="7488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етентностными</a:t>
            </a:r>
            <a:r>
              <a:rPr b="0" lang="ru-RU" sz="1800" spc="-1" strike="noStrike">
                <a:solidFill>
                  <a:srgbClr val="000000"/>
                </a:solidFill>
                <a:latin typeface="Arial"/>
              </a:rPr>
              <a:t>  называются те задачи, которые удовлетворяют следующим требования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екультурная и социальная значимость получаемого результата, это обеспечивает познавательную мотивацию учащего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решения компетентностной задачи заключается не столько в получении ответа, сколько в присвоении нового знания (метода, способа решения, приема), с возможным переносом на другие предме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структуре эти задачи нестандартные, т.е. в структуре задачи неопределены некоторые из ее компонент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можно наличие нескольких путей реш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28" name="Picture 5" descr="7eedcfbb99969dc6004dc001e9ee6a4b"/>
          <p:cNvPicPr/>
          <p:nvPr/>
        </p:nvPicPr>
        <p:blipFill>
          <a:blip r:embed="rId1"/>
          <a:stretch/>
        </p:blipFill>
        <p:spPr>
          <a:xfrm>
            <a:off x="0" y="0"/>
            <a:ext cx="9144000" cy="6858000"/>
          </a:xfrm>
          <a:prstGeom prst="rect">
            <a:avLst/>
          </a:prstGeom>
          <a:ln w="0">
            <a:noFill/>
          </a:ln>
        </p:spPr>
      </p:pic>
      <p:sp>
        <p:nvSpPr>
          <p:cNvPr id="529"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Прямоугольник 1"/>
          <p:cNvSpPr/>
          <p:nvPr/>
        </p:nvSpPr>
        <p:spPr>
          <a:xfrm>
            <a:off x="826920" y="549360"/>
            <a:ext cx="7993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 же отличается компетентностно-ориентированное задание от традиционного?</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первых, это деятельностное задание</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вторых, оно моделирует практическую, жизненную ситуацию.</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третьих, оно  строится на актуальном для ученика материале</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четвертых, его структура задается следующими элемент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Black"/>
                <a:ea typeface="Times New Roman"/>
              </a:rPr>
              <a:t>Стимул</a:t>
            </a:r>
            <a:r>
              <a:rPr b="1" lang="ru-RU" sz="1800" spc="-1" strike="noStrike">
                <a:solidFill>
                  <a:srgbClr val="000000"/>
                </a:solidFill>
                <a:latin typeface="Arial Black"/>
                <a:ea typeface="Times New Roman"/>
              </a:rPr>
              <a:t> - </a:t>
            </a:r>
            <a:r>
              <a:rPr b="1" i="1" lang="ru-RU" sz="1800" spc="-1" strike="noStrike">
                <a:solidFill>
                  <a:srgbClr val="000000"/>
                </a:solidFill>
                <a:latin typeface="Arial Black"/>
                <a:ea typeface="Times New Roman"/>
              </a:rPr>
              <a:t>погружает в контекст задания и мотивирует на его выполнение.</a:t>
            </a:r>
            <a:br>
              <a:rPr sz="1800"/>
            </a:br>
            <a:r>
              <a:rPr b="1" lang="ru-RU" sz="1800" spc="-1" strike="noStrike">
                <a:solidFill>
                  <a:srgbClr val="ff0000"/>
                </a:solidFill>
                <a:latin typeface="Arial Black"/>
                <a:ea typeface="Times New Roman"/>
              </a:rPr>
              <a:t>Задачная формулировка - </a:t>
            </a:r>
            <a:r>
              <a:rPr b="1" i="1" lang="ru-RU" sz="1800" spc="-1" strike="noStrike">
                <a:solidFill>
                  <a:srgbClr val="000000"/>
                </a:solidFill>
                <a:latin typeface="Arial Black"/>
                <a:ea typeface="Times New Roman"/>
              </a:rPr>
              <a:t>точно указывает на деятельность учащегося, необходимую для выполнения задания.</a:t>
            </a:r>
            <a:br>
              <a:rPr sz="1800"/>
            </a:br>
            <a:r>
              <a:rPr b="1" lang="ru-RU" sz="1800" spc="-1" strike="noStrike">
                <a:solidFill>
                  <a:srgbClr val="ff0000"/>
                </a:solidFill>
                <a:latin typeface="Arial Black"/>
                <a:ea typeface="Times New Roman"/>
              </a:rPr>
              <a:t>Источник информации - </a:t>
            </a:r>
            <a:r>
              <a:rPr b="1" i="1" lang="ru-RU" sz="1800" spc="-1" strike="noStrike">
                <a:solidFill>
                  <a:srgbClr val="000000"/>
                </a:solidFill>
                <a:latin typeface="Arial Black"/>
                <a:ea typeface="Times New Roman"/>
              </a:rPr>
              <a:t>содержит информацию, необходимую для успешной деятельности учащегося по выполнению задания.</a:t>
            </a:r>
            <a:br>
              <a:rPr sz="1800"/>
            </a:br>
            <a:r>
              <a:rPr b="1" lang="ru-RU" sz="1800" spc="-1" strike="noStrike">
                <a:solidFill>
                  <a:srgbClr val="ff0000"/>
                </a:solidFill>
                <a:latin typeface="Arial Black"/>
                <a:ea typeface="Times New Roman"/>
              </a:rPr>
              <a:t>Бланк для выполнения задания - </a:t>
            </a:r>
            <a:r>
              <a:rPr b="1" i="1" lang="ru-RU" sz="1800" spc="-1" strike="noStrike">
                <a:solidFill>
                  <a:srgbClr val="000000"/>
                </a:solidFill>
                <a:latin typeface="Arial Black"/>
                <a:ea typeface="Times New Roman"/>
              </a:rPr>
              <a:t>задает структуру предъявления учащимся результата своей деятельности по выполнению задания</a:t>
            </a:r>
            <a:r>
              <a:rPr b="1" i="1" lang="ru-RU" sz="1800" spc="-1" strike="noStrike">
                <a:solidFill>
                  <a:srgbClr val="000000"/>
                </a:solidFill>
                <a:latin typeface="Arial Black"/>
              </a:rPr>
              <a: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2" name="Picture 5" descr="7eedcfbb99969dc6004dc001e9ee6a4b"/>
          <p:cNvPicPr/>
          <p:nvPr/>
        </p:nvPicPr>
        <p:blipFill>
          <a:blip r:embed="rId1"/>
          <a:stretch/>
        </p:blipFill>
        <p:spPr>
          <a:xfrm>
            <a:off x="0" y="0"/>
            <a:ext cx="9144000" cy="6858000"/>
          </a:xfrm>
          <a:prstGeom prst="rect">
            <a:avLst/>
          </a:prstGeom>
          <a:ln w="0">
            <a:noFill/>
          </a:ln>
        </p:spPr>
      </p:pic>
      <p:sp>
        <p:nvSpPr>
          <p:cNvPr id="533"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Прямоугольник 1"/>
          <p:cNvSpPr/>
          <p:nvPr/>
        </p:nvSpPr>
        <p:spPr>
          <a:xfrm>
            <a:off x="755640" y="549360"/>
            <a:ext cx="66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етентностные задачи составлены так, что имеют проблемный характер и требуют применения знаний из разных разделов одной предметной области (математика) или из разных предметных областей, или же знаний из жиз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деляют три уровня компетентностно – ориентированных зада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Уровень воспроизведения.</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Уровень установления связей.</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Уровень рассуждения</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6" name="Picture 5" descr="7eedcfbb99969dc6004dc001e9ee6a4b"/>
          <p:cNvPicPr/>
          <p:nvPr/>
        </p:nvPicPr>
        <p:blipFill>
          <a:blip r:embed="rId1"/>
          <a:stretch/>
        </p:blipFill>
        <p:spPr>
          <a:xfrm>
            <a:off x="0" y="0"/>
            <a:ext cx="9144000" cy="6858000"/>
          </a:xfrm>
          <a:prstGeom prst="rect">
            <a:avLst/>
          </a:prstGeom>
          <a:ln w="0">
            <a:noFill/>
          </a:ln>
        </p:spPr>
      </p:pic>
      <p:sp>
        <p:nvSpPr>
          <p:cNvPr id="537"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Прямоугольник 1"/>
          <p:cNvSpPr/>
          <p:nvPr/>
        </p:nvSpPr>
        <p:spPr>
          <a:xfrm>
            <a:off x="828720" y="692280"/>
            <a:ext cx="7489800" cy="379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етентностно-ориентированные задания могут использоваться на уроках различных типов: изучения нового материала, закрепления знаний, комплексного применения знаний, обобщения и систематизации знаний, урок контроля, оценки и коррекции. Чаще всего эти задачи используют на уроках, реже могут использоваться на внеклассных мероприятиях, могут быть предложены в качестве домашнего задани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структуре эти задачи нестандартные, т.е. в структуре задачи неопределены некоторые из ее компонен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40" name="Picture 5" descr="7eedcfbb99969dc6004dc001e9ee6a4b"/>
          <p:cNvPicPr/>
          <p:nvPr/>
        </p:nvPicPr>
        <p:blipFill>
          <a:blip r:embed="rId1"/>
          <a:stretch/>
        </p:blipFill>
        <p:spPr>
          <a:xfrm>
            <a:off x="0" y="0"/>
            <a:ext cx="9144000" cy="6858000"/>
          </a:xfrm>
          <a:prstGeom prst="rect">
            <a:avLst/>
          </a:prstGeom>
          <a:ln w="0">
            <a:noFill/>
          </a:ln>
        </p:spPr>
      </p:pic>
      <p:sp>
        <p:nvSpPr>
          <p:cNvPr id="541" name="Text Box 10"/>
          <p:cNvSpPr/>
          <p:nvPr/>
        </p:nvSpPr>
        <p:spPr>
          <a:xfrm>
            <a:off x="1676520" y="5370480"/>
            <a:ext cx="5638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Прямоугольник 1"/>
          <p:cNvSpPr/>
          <p:nvPr/>
        </p:nvSpPr>
        <p:spPr>
          <a:xfrm>
            <a:off x="395280" y="0"/>
            <a:ext cx="7993080" cy="6081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одель – схема  компетентностно-ориентированного задания</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звание задания</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спекты формируемых ключевых компетенций</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имул (если …, то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о-значимый познавательный вопрос (задачная формулировка)</a:t>
            </a:r>
            <a:endParaRPr b="0" lang="en-US" sz="1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точник информации по данному вопросу (текст, таблица, график, статистические данные, т.п.)</a:t>
            </a:r>
            <a:endParaRPr b="0" lang="en-US" sz="1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дания (вопросы) по работе по данной информации</a:t>
            </a:r>
            <a:endParaRPr b="0" lang="en-US" sz="1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ланк для выполнения задания (если оно подразумевает структурированный ответ)</a:t>
            </a:r>
            <a:endParaRPr b="0" lang="en-US" sz="1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дельный ответ</a:t>
            </a:r>
            <a:endParaRPr b="0" lang="en-US" sz="1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струмент проверки (оценочный бланк, клю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4T14:36:50Z</dcterms:created>
  <dc:creator>1</dc:creator>
  <dc:description/>
  <dc:language>en-US</dc:language>
  <cp:lastModifiedBy>User</cp:lastModifiedBy>
  <dcterms:modified xsi:type="dcterms:W3CDTF">2016-06-21T18:49:48Z</dcterms:modified>
  <cp:revision>61</cp:revision>
  <dc:subject/>
  <dc:title>Презентация PowerPoint</dc:title>
</cp:coreProperties>
</file>