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640-916C-4D36-92C9-BC432BE1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A9F-89EA-4D74-A5DF-83C8CCA9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AD3-85F8-4B7C-9DD0-735EE33A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085-4E1D-4E7A-AE78-FE0C932C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24A5-9619-49E1-95EE-657FAD13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7B25-302A-40E5-8255-F248F02E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AF47-1353-43AA-9AB9-BACB822C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D075-6E4E-450A-97F8-96DCB085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A0AD-F2E8-42A0-AB93-F11814D8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C465-B41A-47C8-8B57-90C2994F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BCC8-6599-4E10-B2DF-A12A0DFA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70B-61DA-4862-A317-DB22424F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CC9B-0101-46D6-8906-FBD76DC4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9524-FAF7-461B-A6B7-86A47210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472D-0309-4997-8445-0876D90B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107D-1F1C-4969-9AB4-B472408B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5307-C08B-48EA-AC33-80BA12AC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AB3-145A-441C-B070-3837D224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B1A-2041-4F1E-A549-F65A950A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443-5527-4C31-A4A3-6873F4BD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33A-BB7A-4CE8-8A80-3D5D5EAF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274-B690-4089-A712-4949EE1B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8E4-34D9-44C2-9539-59B00540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B4F-A77C-4D8C-90A1-A3FB6FF9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8019-4EA3-4A32-90DE-1842E659A14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3900-E312-47D9-9FDE-DCF49BB051E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66"/>
                </a:solidFill>
                <a:latin typeface="Tahoma"/>
              </a:rPr>
              <a:t>Основания,  состав и классификация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4571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ласс: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ухватова Рамиля Ахкамовн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ель химии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258920" y="235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ОУ «Лицей №12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ого района г.Каз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Выводы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Познакомились с составом, названиями, классификацией и    представителями класса основа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Продолжили формирование знаний об ионах на примере сложных ио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Узнали различие между зарядами ионов и степенью окисл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Получили представление о качественных реакциях на примере щелоч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Закрепление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609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016720" y="3276000"/>
            <a:ext cx="5793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1. Что такое осно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828800" y="2941560"/>
            <a:ext cx="6400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2. Какими по растворимости бывают осн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828800" y="3124080"/>
            <a:ext cx="6553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3. Каким оксидам соответствуют осн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175760" y="2970720"/>
            <a:ext cx="795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4. Составить основания и наз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K</a:t>
            </a:r>
            <a:r>
              <a:rPr b="1" lang="ru-RU" sz="3200" spc="-1" strike="noStrike" baseline="-8000">
                <a:solidFill>
                  <a:srgbClr val="3399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BaO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,  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r</a:t>
            </a:r>
            <a:r>
              <a:rPr b="1" lang="ru-RU" sz="3200" spc="-1" strike="noStrike" baseline="-8000">
                <a:solidFill>
                  <a:srgbClr val="3399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O</a:t>
            </a:r>
            <a:r>
              <a:rPr b="1" lang="ru-RU" sz="3200" spc="-1" strike="noStrike" baseline="-8000">
                <a:solidFill>
                  <a:srgbClr val="3399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405080" y="3045600"/>
            <a:ext cx="74289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5. Составить оксиды и назвать:</a:t>
            </a:r>
            <a:r>
              <a:rPr b="0" lang="ru-RU" sz="3200" spc="-1" strike="noStrike">
                <a:solidFill>
                  <a:srgbClr val="01a18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a18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LiOH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Ca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OH)</a:t>
            </a:r>
            <a:r>
              <a:rPr b="1" lang="ru-RU" sz="3200" spc="-1" strike="noStrike" baseline="-8000">
                <a:solidFill>
                  <a:srgbClr val="3399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3284280"/>
            <a:ext cx="77724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  <a:ea typeface="Times New Roman"/>
              </a:rPr>
              <a:t>§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  <a:ea typeface="Times New Roman"/>
              </a:rPr>
              <a:t> 19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8972"/>
                </a:solidFill>
                <a:latin typeface="Tahoma"/>
                <a:ea typeface="Times New Roman"/>
              </a:rPr>
              <a:t>Упр. 2, 3, 5 (стр. 70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Tahoma"/>
              </a:rPr>
              <a:t>Список литературы: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58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a186"/>
                </a:solidFill>
                <a:latin typeface="Tahoma"/>
              </a:rPr>
              <a:t>1. Габриелян О.С. Программа курса химии для 8 – 11 классов общеобразовательных учреждений. – М.: ДРОФА 200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a186"/>
                </a:solidFill>
                <a:latin typeface="Tahoma"/>
              </a:rPr>
              <a:t>2. Габриелян О.С. Химия 8 класс: учебник для общеобразовательных учреждений. – М.: ДРОФА.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a186"/>
                </a:solidFill>
                <a:latin typeface="Tahoma"/>
              </a:rPr>
              <a:t>3. Горковенко М.Ю. Химия 8 класс: Поурочные разработки к учебникам О.С.Габриеляна, Л.С.Гузея, В.В.Сорокина, Р.П.Суровцевой; Г.Е.Рудзитиса, Ф.Г.Фельдмана. – М.: ВАКО, 200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66"/>
                </a:solidFill>
                <a:latin typeface="Tahoma"/>
              </a:rPr>
              <a:t>Цели урока: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58560" y="2492280"/>
            <a:ext cx="6977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Познакомить учащихся с составом, названиями, классификацией и представителями класса основ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. Продолжить формирование знаний об ионах на примере сложных ио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. Показать различие между зарядами ионов и степенью окисл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. Дать представление о качественных реакциях на примере щелоч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99840" y="28951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3399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8972"/>
                </a:solidFill>
                <a:latin typeface="Tahoma"/>
              </a:rPr>
              <a:t>4</a:t>
            </a:r>
            <a:r>
              <a:rPr b="1" lang="ru-RU" sz="2800" spc="-1" strike="noStrike">
                <a:solidFill>
                  <a:srgbClr val="018972"/>
                </a:solidFill>
                <a:latin typeface="Tahoma"/>
              </a:rPr>
              <a:t>. Приведите формулы:</a:t>
            </a:r>
            <a:r>
              <a:rPr b="1" lang="ru-RU" sz="3200" spc="-1" strike="noStrike">
                <a:solidFill>
                  <a:srgbClr val="01a186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9966"/>
                </a:solidFill>
                <a:latin typeface="Tahoma"/>
              </a:rPr>
              <a:t>воды, углекислого газа, негашеной извести, хлороводор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2743200" y="68580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752480" y="3352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901"/>
              </a:spcBef>
              <a:buClr>
                <a:srgbClr val="3399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8972"/>
                </a:solidFill>
                <a:latin typeface="Arial"/>
              </a:rPr>
              <a:t>2. Что такое окси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295280" y="30168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3. В каких агрегатных состояниях при н. у. встречаются окси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523880" y="2968200"/>
            <a:ext cx="71629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8972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. Составьте формул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оксида азота (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), оксида азота(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), оксида азота(</a:t>
            </a: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619280" y="364464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901"/>
              </a:spcBef>
              <a:buClr>
                <a:srgbClr val="3399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8972"/>
                </a:solidFill>
                <a:latin typeface="Arial"/>
              </a:rPr>
              <a:t>1.Что такое бинарные соедин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567560" cy="24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Выпишите отдельно оксиды металлов и оксиды неметаллов и дайте им названия</a:t>
            </a: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76720" y="2590920"/>
            <a:ext cx="3962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18972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Na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O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H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O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CaCl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NO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BaO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NaOH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SO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LiOH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76720" y="2666160"/>
            <a:ext cx="4038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HCl, 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S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, FeO,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HN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, C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CaS, CuO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 P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609480"/>
            <a:ext cx="786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1a186"/>
                </a:solidFill>
                <a:uFillTx/>
                <a:latin typeface="Tahoma"/>
              </a:rPr>
              <a:t>Основания</a:t>
            </a:r>
            <a:r>
              <a:rPr b="1" lang="ru-RU" sz="3600" spc="-1" strike="noStrike">
                <a:solidFill>
                  <a:srgbClr val="01a18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Tahoma"/>
              </a:rPr>
              <a:t>– </a:t>
            </a:r>
            <a:r>
              <a:rPr b="1" lang="ru-RU" sz="3200" spc="-1" strike="noStrike">
                <a:solidFill>
                  <a:srgbClr val="018972"/>
                </a:solidFill>
                <a:latin typeface="Tahoma"/>
              </a:rPr>
              <a:t>это сложные вещества, состоящие из ионов металлов и связанных с ними одного или нескольких  гидроксид-ио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Ме(ОН)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66"/>
                </a:solidFill>
                <a:latin typeface="Tahoma"/>
              </a:rPr>
              <a:t>Номенклатура оснований: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4419360"/>
            <a:ext cx="722772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гидроксид каль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гидроксид железа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гидроксид железа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257800" y="2514600"/>
          <a:ext cx="1676520" cy="106668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металла в родительном падеж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7391520" y="2514600"/>
          <a:ext cx="1573200" cy="1066680"/>
        </p:xfrm>
        <a:graphic>
          <a:graphicData uri="http://schemas.openxmlformats.org/drawingml/2006/table">
            <a:tbl>
              <a:tblPr/>
              <a:tblGrid>
                <a:gridCol w="1573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.О. римскими цифр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066680" y="2514600"/>
          <a:ext cx="1524240" cy="106668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124080" y="2514600"/>
          <a:ext cx="1584360" cy="10904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09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идр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WordArt 28"/>
          <p:cNvSpPr txBox="1"/>
          <p:nvPr/>
        </p:nvSpPr>
        <p:spPr>
          <a:xfrm>
            <a:off x="2743200" y="3048120"/>
            <a:ext cx="228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=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136" name="WordArt 29"/>
          <p:cNvSpPr txBox="1"/>
          <p:nvPr/>
        </p:nvSpPr>
        <p:spPr>
          <a:xfrm>
            <a:off x="4876920" y="29718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+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137" name="WordArt 30"/>
          <p:cNvSpPr txBox="1"/>
          <p:nvPr/>
        </p:nvSpPr>
        <p:spPr>
          <a:xfrm>
            <a:off x="7086600" y="2971800"/>
            <a:ext cx="219240" cy="2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+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138" name="AutoShape 31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32"/>
          <p:cNvSpPr txBox="1"/>
          <p:nvPr/>
        </p:nvSpPr>
        <p:spPr>
          <a:xfrm>
            <a:off x="1371600" y="388620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8a5c"/>
                </a:solidFill>
                <a:latin typeface="Arial"/>
              </a:rPr>
              <a:t>Назовите основан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8a5c"/>
              </a:solidFill>
              <a:latin typeface="Arial"/>
              <a:ea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4114800" y="487584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Zn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4"/>
          <p:cNvSpPr/>
          <p:nvPr/>
        </p:nvSpPr>
        <p:spPr>
          <a:xfrm>
            <a:off x="4053240" y="487584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Al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5"/>
          <p:cNvSpPr/>
          <p:nvPr/>
        </p:nvSpPr>
        <p:spPr>
          <a:xfrm>
            <a:off x="4053240" y="4875840"/>
            <a:ext cx="236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Cu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6"/>
          <p:cNvSpPr/>
          <p:nvPr/>
        </p:nvSpPr>
        <p:spPr>
          <a:xfrm>
            <a:off x="4192560" y="4875840"/>
            <a:ext cx="17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Cu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КЛАССИФИКАЦИЯ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240" y="5181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OH, KOH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124080" y="2133720"/>
          <a:ext cx="2971800" cy="57924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Основ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066680" y="4038480"/>
          <a:ext cx="3240360" cy="1008360"/>
        </p:xfrm>
        <a:graphic>
          <a:graphicData uri="http://schemas.openxmlformats.org/drawingml/2006/table">
            <a:tbl>
              <a:tblPr/>
              <a:tblGrid>
                <a:gridCol w="32403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Растворимые (</a:t>
                      </a:r>
                      <a:r>
                        <a:rPr b="0" i="1" lang="ru-RU" sz="28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щелочи</a:t>
                      </a:r>
                      <a:r>
                        <a:rPr b="1" lang="ru-RU" sz="28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181480" y="4038480"/>
          <a:ext cx="3380040" cy="685800"/>
        </p:xfrm>
        <a:graphic>
          <a:graphicData uri="http://schemas.openxmlformats.org/drawingml/2006/table">
            <a:tbl>
              <a:tblPr/>
              <a:tblGrid>
                <a:gridCol w="33800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Нераствор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Line 22"/>
          <p:cNvSpPr/>
          <p:nvPr/>
        </p:nvSpPr>
        <p:spPr>
          <a:xfrm flipH="1">
            <a:off x="2971440" y="3124080"/>
            <a:ext cx="863640" cy="792360"/>
          </a:xfrm>
          <a:prstGeom prst="line">
            <a:avLst/>
          </a:prstGeom>
          <a:ln w="57240">
            <a:solidFill>
              <a:srgbClr val="0189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5292720" y="3141720"/>
            <a:ext cx="803160" cy="744480"/>
          </a:xfrm>
          <a:prstGeom prst="line">
            <a:avLst/>
          </a:prstGeom>
          <a:ln w="57240">
            <a:solidFill>
              <a:srgbClr val="0189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3124080" y="2057400"/>
            <a:ext cx="3048120" cy="8380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d9fff5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57240">
            <a:solidFill>
              <a:srgbClr val="015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5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50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50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843280" y="98100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00"/>
                </a:solidFill>
                <a:latin typeface="Times New Roman"/>
              </a:rPr>
              <a:t>Щёло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219320" y="1981080"/>
            <a:ext cx="7315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Щёлочи изменяют окраску</a:t>
            </a:r>
            <a:br>
              <a:rPr sz="3600"/>
            </a:b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индикаторов:</a:t>
            </a:r>
            <a:br>
              <a:rPr sz="3600"/>
            </a:br>
            <a:r>
              <a:rPr b="1" lang="ru-RU" sz="4800" spc="-1" strike="noStrike">
                <a:solidFill>
                  <a:srgbClr val="336600"/>
                </a:solidFill>
                <a:latin typeface="Times New Roman"/>
              </a:rPr>
              <a:t>Лакмус-</a:t>
            </a: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синий</a:t>
            </a:r>
            <a:br>
              <a:rPr sz="4800"/>
            </a:br>
            <a:r>
              <a:rPr b="1" lang="ru-RU" sz="4800" spc="-1" strike="noStrike">
                <a:solidFill>
                  <a:srgbClr val="336600"/>
                </a:solidFill>
                <a:latin typeface="Times New Roman"/>
              </a:rPr>
              <a:t>Метилоранж-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жёлтый</a:t>
            </a:r>
            <a:br>
              <a:rPr sz="4800"/>
            </a:br>
            <a:r>
              <a:rPr b="1" lang="ru-RU" sz="4800" spc="-1" strike="noStrike">
                <a:solidFill>
                  <a:srgbClr val="336600"/>
                </a:solidFill>
                <a:latin typeface="Times New Roman"/>
              </a:rPr>
              <a:t>Фенолфталеин-</a:t>
            </a:r>
            <a:r>
              <a:rPr b="1" lang="ru-RU" sz="4800" spc="-1" strike="noStrike">
                <a:solidFill>
                  <a:srgbClr val="ff3399"/>
                </a:solidFill>
                <a:latin typeface="Times New Roman"/>
              </a:rPr>
              <a:t>малино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" presetSubtype="5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2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7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Tahoma"/>
              </a:rPr>
              <a:t>Оксидам металла соответствуют основания</a:t>
            </a:r>
            <a:r>
              <a:rPr b="1" lang="en-US" sz="2800" spc="-1" strike="noStrike">
                <a:solidFill>
                  <a:srgbClr val="339966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4648320"/>
            <a:ext cx="78372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ьте формулы оснований из оксид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ZnO</a:t>
            </a: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  Li</a:t>
            </a:r>
            <a:r>
              <a:rPr b="1" lang="en-US" sz="2400" spc="-1" strike="noStrike" baseline="-16000">
                <a:solidFill>
                  <a:srgbClr val="3399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O</a:t>
            </a: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   M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пробуйте самостоятельно составить формулы оксидов из оснований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CuOH,   Cu(OH)</a:t>
            </a:r>
            <a:r>
              <a:rPr b="1" lang="en-US" sz="2400" spc="-1" strike="noStrike" baseline="-16000">
                <a:solidFill>
                  <a:srgbClr val="3399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4284720" y="2349360"/>
            <a:ext cx="904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4284720" y="2349360"/>
            <a:ext cx="4762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6372360" y="2276640"/>
            <a:ext cx="1019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 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0" name="WordArt 7"/>
          <p:cNvSpPr txBox="1"/>
          <p:nvPr/>
        </p:nvSpPr>
        <p:spPr>
          <a:xfrm>
            <a:off x="6372360" y="2276640"/>
            <a:ext cx="476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1" name="WordArt 8"/>
          <p:cNvSpPr txBox="1"/>
          <p:nvPr/>
        </p:nvSpPr>
        <p:spPr>
          <a:xfrm>
            <a:off x="1547640" y="2276640"/>
            <a:ext cx="10670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Na 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1547640" y="2276640"/>
            <a:ext cx="524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N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3" name="WordArt 10"/>
          <p:cNvSpPr txBox="1"/>
          <p:nvPr/>
        </p:nvSpPr>
        <p:spPr>
          <a:xfrm>
            <a:off x="2124000" y="256536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4" name="WordArt 11"/>
          <p:cNvSpPr txBox="1"/>
          <p:nvPr/>
        </p:nvSpPr>
        <p:spPr>
          <a:xfrm>
            <a:off x="6877080" y="2565360"/>
            <a:ext cx="771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 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5" name="WordArt 12"/>
          <p:cNvSpPr txBox="1"/>
          <p:nvPr/>
        </p:nvSpPr>
        <p:spPr>
          <a:xfrm>
            <a:off x="1908000" y="1989000"/>
            <a:ext cx="360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1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6" name="WordArt 13"/>
          <p:cNvSpPr txBox="1"/>
          <p:nvPr/>
        </p:nvSpPr>
        <p:spPr>
          <a:xfrm>
            <a:off x="2195640" y="3860640"/>
            <a:ext cx="6094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OH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7" name="WordArt 14"/>
          <p:cNvSpPr txBox="1"/>
          <p:nvPr/>
        </p:nvSpPr>
        <p:spPr>
          <a:xfrm>
            <a:off x="1979640" y="3573360"/>
            <a:ext cx="152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2843280" y="3716280"/>
            <a:ext cx="216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16"/>
          <p:cNvSpPr txBox="1"/>
          <p:nvPr/>
        </p:nvSpPr>
        <p:spPr>
          <a:xfrm>
            <a:off x="4572000" y="206064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2   -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0" name="WordArt 17"/>
          <p:cNvSpPr txBox="1"/>
          <p:nvPr/>
        </p:nvSpPr>
        <p:spPr>
          <a:xfrm>
            <a:off x="4788000" y="3789360"/>
            <a:ext cx="77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(OH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1" name="WordArt 18"/>
          <p:cNvSpPr txBox="1"/>
          <p:nvPr/>
        </p:nvSpPr>
        <p:spPr>
          <a:xfrm>
            <a:off x="4572000" y="342900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2" name="WordArt 19"/>
          <p:cNvSpPr txBox="1"/>
          <p:nvPr/>
        </p:nvSpPr>
        <p:spPr>
          <a:xfrm>
            <a:off x="4572000" y="3429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5410080" y="3581280"/>
            <a:ext cx="216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21"/>
          <p:cNvSpPr txBox="1"/>
          <p:nvPr/>
        </p:nvSpPr>
        <p:spPr>
          <a:xfrm>
            <a:off x="6804000" y="206064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3   -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5" name="WordArt 22"/>
          <p:cNvSpPr txBox="1"/>
          <p:nvPr/>
        </p:nvSpPr>
        <p:spPr>
          <a:xfrm>
            <a:off x="6877080" y="3789360"/>
            <a:ext cx="8762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(OH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6" name="WordArt 23"/>
          <p:cNvSpPr txBox="1"/>
          <p:nvPr/>
        </p:nvSpPr>
        <p:spPr>
          <a:xfrm>
            <a:off x="6732720" y="342900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3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7667640" y="3645000"/>
            <a:ext cx="2174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5"/>
          <p:cNvSpPr txBox="1"/>
          <p:nvPr/>
        </p:nvSpPr>
        <p:spPr>
          <a:xfrm>
            <a:off x="6732720" y="3429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3.39579E-006 L 6.11111E-006 0.23086 E">
                                      <p:cBhvr>
                                        <p:cTn id="262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47074E-006 L 5.55556E-007 0.2098 E">
                                      <p:cBhvr>
                                        <p:cTn id="282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1.8043E-007 L 0.11719 0.09993 E">
                                      <p:cBhvr>
                                        <p:cTn id="306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47074E-006 L 5.55556E-007 0.21003 E">
                                      <p:cBhvr>
                                        <p:cTn id="310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798 -0.00116 L 0.11823 0.08281 E">
                                      <p:cBhvr>
                                        <p:cTn id="334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8:34:29Z</dcterms:created>
  <dc:creator>Customer</dc:creator>
  <dc:description/>
  <dc:language>en-US</dc:language>
  <cp:lastModifiedBy>Ришат</cp:lastModifiedBy>
  <dcterms:modified xsi:type="dcterms:W3CDTF">2016-12-03T16:51:57Z</dcterms:modified>
  <cp:revision>21</cp:revision>
  <dc:subject/>
  <dc:title>Основания, их состав и название.</dc:title>
</cp:coreProperties>
</file>