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4DD-C489-4448-90D2-FE9E2B40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BB2-141B-4818-B5D1-1F0EAB74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AF0-A662-46F8-896D-C6612B82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3EA-BEA5-48F0-813F-A38632F4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446C-9629-4215-8A74-7356A4DB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C8F-F99E-49F6-8527-DC75CE73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20CA-6452-44B5-9B50-F45CDB8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6694-C774-4BFD-AF13-A37E1ECC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0778-0CFB-4774-B6DE-8BEB1772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ED5A-3EF5-4D8E-8E4C-57BA157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6356-B112-4B76-8071-3BBC28F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D4D-829C-4E05-B2C1-C2031844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FB94-E4A8-44A1-850F-894D126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E50B-4F30-4DE9-A6BC-4DC4B29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9C79-2C05-4F0E-A2C6-6C022634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23CB-623D-4CFB-9968-E8C222E7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104D-08BA-4D06-9F98-DB34328F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E5C-6F73-47A6-9C9D-9E2FDD0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89F-2545-4F3D-B8CE-3BD8E98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382-7334-46CA-8C2D-092340C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4D2-E02D-4E67-AE49-8BC03F0B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D9A-05BD-4502-9988-94948D7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2CF-0B11-4F86-B263-0B1972E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129-33A1-4A61-BFE9-12641A8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14FD-FB4F-4AE3-B0B3-BE885F84BB7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40F-2E2B-475A-A076-7279458E15F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Основания,  состав и классификация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: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ухватова Рамиля Ахкамовн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 хим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258920" y="235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ОУ «Лицей №12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ого района г.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Вывод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Познакомились с составом, названиями, классификацией и    представителями класса основа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Продолжили формирование знаний об ионах на примере сложных ио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Узнали различие между зарядами ионов и степенью окис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Получили представление о качественных реакциях на примере щелоч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Закреплени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9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016720" y="3276000"/>
            <a:ext cx="5793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1. Что такое осн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28800" y="2941560"/>
            <a:ext cx="6400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2. Какими по растворимости быва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828800" y="3124080"/>
            <a:ext cx="655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3. Каким оксидам соответству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175760" y="2970720"/>
            <a:ext cx="795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4. Составить основания и наз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K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BaO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r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405080" y="3045600"/>
            <a:ext cx="7428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5. Составить оксиды и назвать:</a:t>
            </a:r>
            <a:r>
              <a:rPr b="0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LiOH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a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H)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328428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  <a:ea typeface="Times New Roman"/>
              </a:rPr>
              <a:t>§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  <a:ea typeface="Times New Roman"/>
              </a:rPr>
              <a:t> 1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8972"/>
                </a:solidFill>
                <a:latin typeface="Tahoma"/>
                <a:ea typeface="Times New Roman"/>
              </a:rPr>
              <a:t>Упр. 2, 3, 5 (стр. 70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Список литературы: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58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a186"/>
                </a:solidFill>
                <a:latin typeface="Tahoma"/>
              </a:rPr>
              <a:t>1. Габриелян О.С. Программа курса химии для 8 – 11 классов общеобразовательных учреждений. – М.: ДРОФА 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a186"/>
                </a:solidFill>
                <a:latin typeface="Tahoma"/>
              </a:rPr>
              <a:t>2. Габриелян О.С. Химия 8 класс: учебник для общеобразовательных учреждений. – М.: ДРОФА.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a186"/>
                </a:solidFill>
                <a:latin typeface="Tahoma"/>
              </a:rPr>
              <a:t>3. Горковенко М.Ю. Химия 8 класс: Поурочные разработки к учебникам О.С.Габриеляна, Л.С.Гузея, В.В.Сорокина, Р.П.Суровцевой; Г.Е.Рудзитиса, Ф.Г.Фельдмана. – М.: ВАКО, 200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Цели урока: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58560" y="2492280"/>
            <a:ext cx="6977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Познакомить учащихся с составом, названиями, классификацией и представителями класса основ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Продолжить формирование знаний об ионах на примере сложных и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Показать различие между зарядами ионов и степенью окисл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Дать представление о качественных реакциях на примере щелоч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99840" y="28951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8972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018972"/>
                </a:solidFill>
                <a:latin typeface="Tahoma"/>
              </a:rPr>
              <a:t>. Приведите формулы:</a:t>
            </a:r>
            <a:r>
              <a:rPr b="1" lang="ru-RU" sz="3200" spc="-1" strike="noStrike">
                <a:solidFill>
                  <a:srgbClr val="01a186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9966"/>
                </a:solidFill>
                <a:latin typeface="Tahoma"/>
              </a:rPr>
              <a:t>воды, углекислого газа, негашеной извести, хлороводор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2743200" y="6858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52480" y="3352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901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8972"/>
                </a:solidFill>
                <a:latin typeface="Arial"/>
              </a:rPr>
              <a:t>2. Что такое окси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295280" y="30168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3. В каких агрегатных состояниях при н. у. встречаются окси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523880" y="2968200"/>
            <a:ext cx="71629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. Составьте формул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оксида азота 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), оксида азота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), оксида азота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19280" y="36446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901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8972"/>
                </a:solidFill>
                <a:latin typeface="Arial"/>
              </a:rPr>
              <a:t>1.Что такое бинарные соеди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67560" cy="24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ыпишите отдельно оксиды металлов и оксиды неметаллов и дайте им названия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76720" y="2590920"/>
            <a:ext cx="396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18972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H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CaCl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Ba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OH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SO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LiOH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266616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Cl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S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FeO,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N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C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CaS, CuO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 P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1a186"/>
                </a:solidFill>
                <a:uFillTx/>
                <a:latin typeface="Tahoma"/>
              </a:rPr>
              <a:t>Основания</a:t>
            </a:r>
            <a:r>
              <a:rPr b="1" lang="ru-RU" sz="3600" spc="-1" strike="noStrike">
                <a:solidFill>
                  <a:srgbClr val="01a18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– </a:t>
            </a: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это сложные вещества, состоящие из ионов металлов и связанных с ними одного или нескольких  гидроксид-ио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Ме(ОН)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Номенклатура оснований: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4419360"/>
            <a:ext cx="722772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гидроксид каль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гидроксид железа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гидроксид железа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257800" y="2514600"/>
          <a:ext cx="1676520" cy="106668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алла в родительном паде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391520" y="2514600"/>
          <a:ext cx="1573200" cy="1066680"/>
        </p:xfrm>
        <a:graphic>
          <a:graphicData uri="http://schemas.openxmlformats.org/drawingml/2006/table">
            <a:tbl>
              <a:tblPr/>
              <a:tblGrid>
                <a:gridCol w="157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.О. римскими циф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066680" y="2514600"/>
          <a:ext cx="1524240" cy="1066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124080" y="2514600"/>
          <a:ext cx="1584360" cy="1090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WordArt 28"/>
          <p:cNvSpPr txBox="1"/>
          <p:nvPr/>
        </p:nvSpPr>
        <p:spPr>
          <a:xfrm>
            <a:off x="2743200" y="30481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=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36" name="WordArt 29"/>
          <p:cNvSpPr txBox="1"/>
          <p:nvPr/>
        </p:nvSpPr>
        <p:spPr>
          <a:xfrm>
            <a:off x="4876920" y="29718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37" name="WordArt 30"/>
          <p:cNvSpPr txBox="1"/>
          <p:nvPr/>
        </p:nvSpPr>
        <p:spPr>
          <a:xfrm>
            <a:off x="7086600" y="2971800"/>
            <a:ext cx="21924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2"/>
          <p:cNvSpPr txBox="1"/>
          <p:nvPr/>
        </p:nvSpPr>
        <p:spPr>
          <a:xfrm>
            <a:off x="1371600" y="38862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8a5c"/>
                </a:solidFill>
                <a:latin typeface="Arial"/>
              </a:rPr>
              <a:t>Назовите осн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8a5c"/>
              </a:solidFill>
              <a:latin typeface="Arial"/>
              <a:ea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4114800" y="487584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Zn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4053240" y="487584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Al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4053240" y="4875840"/>
            <a:ext cx="236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4192560" y="487584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КЛАССИФИКАЦИЯ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OH, KO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124080" y="2133720"/>
          <a:ext cx="2971800" cy="5792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Осно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4038480"/>
          <a:ext cx="3240360" cy="100836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Растворимые (</a:t>
                      </a:r>
                      <a:r>
                        <a:rPr b="0" i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щелочи</a:t>
                      </a:r>
                      <a:r>
                        <a:rPr b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81480" y="4038480"/>
          <a:ext cx="3380040" cy="685800"/>
        </p:xfrm>
        <a:graphic>
          <a:graphicData uri="http://schemas.openxmlformats.org/drawingml/2006/table">
            <a:tbl>
              <a:tblPr/>
              <a:tblGrid>
                <a:gridCol w="3380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Нераствор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Line 22"/>
          <p:cNvSpPr/>
          <p:nvPr/>
        </p:nvSpPr>
        <p:spPr>
          <a:xfrm flipH="1">
            <a:off x="2971440" y="3124080"/>
            <a:ext cx="863640" cy="79236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5292720" y="3141720"/>
            <a:ext cx="803160" cy="74448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3124080" y="2057400"/>
            <a:ext cx="3048120" cy="8380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d9fff5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57240">
            <a:solidFill>
              <a:srgbClr val="015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843280" y="98100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00"/>
                </a:solidFill>
                <a:latin typeface="Times New Roman"/>
              </a:rPr>
              <a:t>Щёло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219320" y="1981080"/>
            <a:ext cx="73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Щёлочи изменяют окраску</a:t>
            </a:r>
            <a:br>
              <a:rPr sz="3600"/>
            </a:b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индикаторов:</a:t>
            </a:r>
            <a:br>
              <a:rPr sz="3600"/>
            </a:b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Лакмус-</a:t>
            </a: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синий</a:t>
            </a:r>
            <a:br>
              <a:rPr sz="4800"/>
            </a:b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Метилоранж-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жёлтый</a:t>
            </a:r>
            <a:br>
              <a:rPr sz="4800"/>
            </a:b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Фенолфталеин-</a:t>
            </a:r>
            <a:r>
              <a:rPr b="1" lang="ru-RU" sz="4800" spc="-1" strike="noStrike">
                <a:solidFill>
                  <a:srgbClr val="ff3399"/>
                </a:solidFill>
                <a:latin typeface="Times New Roman"/>
              </a:rPr>
              <a:t>малин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Оксидам металла соответствуют основания</a:t>
            </a:r>
            <a:r>
              <a:rPr b="1" lang="en-US" sz="28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8372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ьте формулы оснований из оксид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Zn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Li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 M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робуйте самостоятельно составить формулы оксидов из оснований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CuOH,   Cu(OH)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4284720" y="2349360"/>
            <a:ext cx="904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4284720" y="2349360"/>
            <a:ext cx="476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6372360" y="2276640"/>
            <a:ext cx="1019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6372360" y="2276640"/>
            <a:ext cx="476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547640" y="2276640"/>
            <a:ext cx="1067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1547640" y="2276640"/>
            <a:ext cx="524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124000" y="2565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6877080" y="2565360"/>
            <a:ext cx="771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 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1908000" y="1989000"/>
            <a:ext cx="36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6" name="WordArt 13"/>
          <p:cNvSpPr txBox="1"/>
          <p:nvPr/>
        </p:nvSpPr>
        <p:spPr>
          <a:xfrm>
            <a:off x="2195640" y="3860640"/>
            <a:ext cx="6094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O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7" name="WordArt 14"/>
          <p:cNvSpPr txBox="1"/>
          <p:nvPr/>
        </p:nvSpPr>
        <p:spPr>
          <a:xfrm>
            <a:off x="1979640" y="3573360"/>
            <a:ext cx="152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6"/>
          <p:cNvSpPr txBox="1"/>
          <p:nvPr/>
        </p:nvSpPr>
        <p:spPr>
          <a:xfrm>
            <a:off x="4572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2   -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0" name="WordArt 17"/>
          <p:cNvSpPr txBox="1"/>
          <p:nvPr/>
        </p:nvSpPr>
        <p:spPr>
          <a:xfrm>
            <a:off x="4788000" y="3789360"/>
            <a:ext cx="77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1" name="WordArt 18"/>
          <p:cNvSpPr txBox="1"/>
          <p:nvPr/>
        </p:nvSpPr>
        <p:spPr>
          <a:xfrm>
            <a:off x="457200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2" name="WordArt 19"/>
          <p:cNvSpPr txBox="1"/>
          <p:nvPr/>
        </p:nvSpPr>
        <p:spPr>
          <a:xfrm>
            <a:off x="457200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5410080" y="3581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21"/>
          <p:cNvSpPr txBox="1"/>
          <p:nvPr/>
        </p:nvSpPr>
        <p:spPr>
          <a:xfrm>
            <a:off x="6804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3   -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5" name="WordArt 22"/>
          <p:cNvSpPr txBox="1"/>
          <p:nvPr/>
        </p:nvSpPr>
        <p:spPr>
          <a:xfrm>
            <a:off x="6877080" y="3789360"/>
            <a:ext cx="876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6" name="WordArt 23"/>
          <p:cNvSpPr txBox="1"/>
          <p:nvPr/>
        </p:nvSpPr>
        <p:spPr>
          <a:xfrm>
            <a:off x="673272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7667640" y="3645000"/>
            <a:ext cx="217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673272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39579E-006 L 6.11111E-006 0.23086 E">
                                      <p:cBhvr>
                                        <p:cTn id="262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098 E">
                                      <p:cBhvr>
                                        <p:cTn id="282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1.8043E-007 L 0.11719 0.09993 E">
                                      <p:cBhvr>
                                        <p:cTn id="306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1003 E">
                                      <p:cBhvr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98 -0.00116 L 0.11823 0.08281 E">
                                      <p:cBhvr>
                                        <p:cTn id="334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34:29Z</dcterms:created>
  <dc:creator>Customer</dc:creator>
  <dc:description/>
  <dc:language>en-US</dc:language>
  <cp:lastModifiedBy>Ришат</cp:lastModifiedBy>
  <dcterms:modified xsi:type="dcterms:W3CDTF">2016-12-03T16:51:57Z</dcterms:modified>
  <cp:revision>21</cp:revision>
  <dc:subject/>
  <dc:title>Основания, их состав и название.</dc:title>
</cp:coreProperties>
</file>