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9134-966B-44D9-BA65-C22705E9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383C-505A-47ED-B690-5F2FA11B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2252C-158D-420B-A1F4-B5AF1156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75881-87F4-49B8-A81C-DC762914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AF66A-1D49-4D4D-8DD5-AC73271F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D159F-762B-4B72-8FBD-9E465739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EFC41-2E5D-49C9-BD5A-C9619797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606F6-B50D-4082-9410-20865D74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4ABEB-643E-4891-A4B6-B312FC4A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8713A-E6C0-4D16-8E44-30B679D9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34B76-BDFF-4F36-86ED-C387B030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3117E-9E99-4372-9B76-CB78326A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091A-BC53-4132-90ED-D1EBA4FA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A7C00-7FCF-4D39-8BD8-16E91C99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6714B-C4D9-4A5F-B646-B2CFDBA7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97AB7-7D8D-44F6-BDB8-8E1B67E4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38191-C79E-43F1-BCB3-7F96014C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E6AED-D06F-47C4-9074-A9348FE1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A7BED-4C9B-409B-BADC-017D37F0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F2314-D454-4A6B-A180-46860532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A66F1-F582-4A03-9377-76F25A92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91FF2-FC05-4BDD-98A5-4AA1A67E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382CB-BC36-4F71-9809-4C1FF9C1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E03-532A-4799-9548-3A5648D5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16E98-96F6-4C57-823D-89DD4BE5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EBBE3-3A91-4097-B760-84D48966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885B6-1D7E-41EB-A34F-1F695FDD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4C910-9A70-45D5-A10C-E8B3ACF7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18F10-629B-4323-B8A7-9699D2A6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8BDB6-334B-4686-A83E-14B72574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1074C-D417-4D1C-B521-B1537CAA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776ED-DE37-45DF-B887-F98E1204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5B411-9F53-4E76-ACDB-461C485E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E5DD0-27A0-4DC9-A326-373986B5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F3F2-43DF-4B0A-AEB5-C6F684FE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1B0E2-DFDE-44ED-9C0B-FB6D40CB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75096-61D7-44AA-BCE0-5BAC33D7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02EC7-FD52-4545-A312-9B79079F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3C72A-4C16-40AF-B0B8-71B48BAC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11020-2712-46E0-B5AF-D90CD1F2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37FE7-4B2F-4AD5-905F-AF4E3710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8CFD7-43C2-4E1C-9AF3-2C085596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AC13D-6E94-48D5-A481-AA474962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D6D0B-8C73-45D9-8D1F-1791903F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B2297-C4E7-4992-B6C6-48311863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220E-2E12-44AF-9779-39329852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5C20E-9881-4EBE-AA95-F17A246C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99668-3FA9-4E65-A4E9-91079443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EBF42-E17B-416D-BB80-292CC970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B1FA9-B2FB-4D15-B276-24918CB4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2DBCC-C136-4951-837C-B99F7ADA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C2BF-0EA6-42D0-A44D-A8A3E102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B724-98F9-4C58-95F9-5BC7891A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27CE-E660-456D-B025-5735A794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16E7-5741-4257-99BA-5F88E825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98AE-3016-4182-A366-1F1EFE5D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A6E4-1097-4D34-BF84-20072FC5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E365-0AA6-4E74-896E-38B7C658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78BB-74F9-4591-98AE-45872CB6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81AA-C5F9-4478-9C72-0429C5A5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F6BD-27EA-421E-A727-4BFBFACC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0ACA-A618-4B08-9E73-8356A4AD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AC5DC-F8BB-49FF-8F73-B6B08374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04FAF-758F-4E7A-A272-C3F01D35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A4ED9-2241-4B21-B6F6-26A842E7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55B10-59C8-41A8-AB10-AB7127C2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B38BB-C00C-429C-BCA2-F68F1502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14CE-93BF-48E6-B0E2-8CDAE1A1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C59CC-7D4F-4FFF-B5E8-70E90A05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B80BC-44D6-4EB0-B982-876D8369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0AB76-EB3A-427B-B515-A012528C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58543-4001-4C2D-8DFA-D5629272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CCA3E-20EA-44DD-9BAE-C1986CFF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FDBF8-7801-42BA-9F83-477F35DD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8439A-11DE-41F5-90B9-61D1FFA7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3B0C5-8321-453E-9DC6-86F5D2E6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D8383-88EB-4B08-85AF-E9F809B2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69F46-8FF0-4B38-9932-8162EE2C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C67F-68A6-4430-A351-F40A10C2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2AF1E-DD9F-4BC1-A672-86B27B6E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BDE49-5E9B-44BE-8632-852AB1FA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D0C5B-E0B7-4D82-B54B-50073EB6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86F0F-49A2-48B2-82DB-E5D36BD8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3E3EA-BF42-44E5-B311-C15B21EA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599A8-3F6A-4113-B735-2E3E28EA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89239-DFA1-4961-9F5F-00DE892A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07B77-9902-4388-B46F-90C8194B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F14D1-A05B-44CA-892B-F27192BE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6F593-058C-497B-B387-A878A4B2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6DF5-29BC-4B8F-B9E8-0A799351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6A2D7-FEA6-4846-8805-416CF207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49272-BDA0-426B-8227-2A39A6DE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16D0A-B211-4C47-BB41-909B748D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3C7E0-48E4-471F-806D-34B7B1F8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8D381-83D1-463D-8B17-EF0E06F9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F16F8-B7AB-4B1E-A809-D0204DB7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48E87-AF29-42BC-B44C-7A295496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8C85A-2601-4663-AC74-3FA04D74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5F9B3-0D8B-4B49-B2EF-89819AC2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D227A-C198-4157-B983-0E609346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08BD-1166-4D6D-BF36-095BCCCB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B53AC-6565-4A72-8906-010EE3DF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65302-3B8B-4640-BAC5-D9D2C8CD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E8854-29FD-4FAD-8FA9-30D33513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8F7F9-BD99-4B6D-B54F-B3AE8484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CBB26-347C-4DCC-9D9F-BA686A0F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A1F18-A2D6-46A5-8F72-7F5D11C6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67D64-7609-428B-A361-1F336913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66039-66D0-4675-89D8-FA17AB97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DFFE0-17EA-44CB-A0F9-280132A9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ED7EF-C72E-4048-9813-3CC2382C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F435-527A-4284-9934-49ADC1F8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968CD-B65C-4A82-A367-DD3FD97B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4AEA1-E173-4BEB-9D85-ECFB36D1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CFC55-BED4-4364-AA04-CADDFA78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441BF-81BE-4F95-9F9D-0002A3B1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7B766-3AF1-45A6-B0A9-47669824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F4102-16E3-4D79-8DDE-8C289E67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7EC7E-7CB6-44E0-8685-9391B784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26D6B-BBB3-4D98-8EE9-D0303CA8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B320E-F5B3-49A4-9C9A-5AA261DA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B4BF5-931A-4914-9F0F-228EDBF3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63C8-A742-4277-AFC4-683E9257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10E61-93A2-48C4-AAC8-D37684CE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ED3CB-80D5-48B2-9020-7BDA4F70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4B684-8883-4057-8B21-D7181C55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6698E-81FC-4AA8-8FCA-C25868C1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635C9-A080-4A1F-8D2C-6BE35810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30513-7099-4F2F-A893-C9A2C217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527DA-42F4-4831-B3D0-33DF112D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A858F-9E4F-4DB5-AF1D-48EBC35E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C14FB-C507-4BF8-B947-0BDDBAB3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4E693-07AB-4169-8351-F962CCAC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AF80-72C0-4DAB-B536-DD78B06E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10511-3C13-4A9D-8486-23A1BDF8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75339-E8DE-4B9C-8BC8-1F84CCAF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04C06-818F-4E20-8FD0-32B1DAB2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8AAA7-808D-4E1A-9F29-AD26DFF5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DD83D-88DD-4B53-AD9C-33F152C7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58827-AF83-4847-A5A4-D34E4F52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79E23-C6AF-4E26-9AD3-CB6AFDFA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FD30C-0D09-4B34-A2A9-F3ADF43D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3E35B-0F58-4FB7-AD6E-4E8C9796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E50E5-3B0E-4925-99C2-9B7C28A1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bd7ce"/>
              </a:gs>
              <a:gs pos="100000">
                <a:srgbClr val="b2bdb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b6ae"/>
                  </a:gs>
                  <a:gs pos="100000">
                    <a:srgbClr val="cbd7c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cb6a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6b0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d9d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C05C-A523-425C-99B9-B0129077E8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BBAB-DC5A-409A-995E-BFFCDD2ABC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446D-4EAD-43C4-B739-7EF8CB1FFA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CC09-857F-4F22-A6AB-AB43EB12A88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b6ae"/>
                  </a:gs>
                  <a:gs pos="100000">
                    <a:srgbClr val="cbd7c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cb6a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6b0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d9d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05A9-683A-4C1E-B3F9-5A954540FC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F08D-FB03-4F80-8757-A026D0B408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A9E0-FAC6-4DDB-9014-4308F4DBAF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EC58-84F2-4985-B80E-A7BEE2ED98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8167-BA55-4CAF-94BC-3BA80F17C7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7DE0-ED1C-4845-84AB-D7309A6B69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D6E1-4FE4-48D0-A4AF-0DB175978B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8A7C-DD8C-4AEB-95CB-E7FA0424CD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600" cy="6429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Прыгалки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622" name="Picture 2" descr="Прыжковая карусель"/>
          <p:cNvPicPr/>
          <p:nvPr/>
        </p:nvPicPr>
        <p:blipFill>
          <a:blip r:embed="rId1"/>
          <a:stretch/>
        </p:blipFill>
        <p:spPr>
          <a:xfrm>
            <a:off x="0" y="928800"/>
            <a:ext cx="4917960" cy="30002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игра прыгалка &quot;Удочка&quot;"/>
          <p:cNvPicPr/>
          <p:nvPr/>
        </p:nvPicPr>
        <p:blipFill>
          <a:blip r:embed="rId2"/>
          <a:stretch/>
        </p:blipFill>
        <p:spPr>
          <a:xfrm>
            <a:off x="3002040" y="3714840"/>
            <a:ext cx="6141960" cy="2805120"/>
          </a:xfrm>
          <a:prstGeom prst="rect">
            <a:avLst/>
          </a:prstGeom>
          <a:ln w="0">
            <a:noFill/>
          </a:ln>
        </p:spPr>
      </p:pic>
      <p:sp>
        <p:nvSpPr>
          <p:cNvPr id="624" name="Прямоугольник 7"/>
          <p:cNvSpPr/>
          <p:nvPr/>
        </p:nvSpPr>
        <p:spPr>
          <a:xfrm>
            <a:off x="4650840" y="6488280"/>
            <a:ext cx="29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игра прыгалка «Удоч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Прямоугольник 8"/>
          <p:cNvSpPr/>
          <p:nvPr/>
        </p:nvSpPr>
        <p:spPr>
          <a:xfrm>
            <a:off x="2520" y="4071960"/>
            <a:ext cx="288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Прыжковая карус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Rectangle 1"/>
          <p:cNvGrpSpPr/>
          <p:nvPr/>
        </p:nvGrpSpPr>
        <p:grpSpPr>
          <a:xfrm>
            <a:off x="231840" y="-55440"/>
            <a:ext cx="8699400" cy="1145880"/>
            <a:chOff x="231840" y="-55440"/>
            <a:chExt cx="8699400" cy="1145880"/>
          </a:xfrm>
        </p:grpSpPr>
        <p:pic>
          <p:nvPicPr>
            <p:cNvPr id="627" name="Rectangle 1" descr=""/>
            <p:cNvPicPr/>
            <p:nvPr/>
          </p:nvPicPr>
          <p:blipFill>
            <a:blip r:embed="rId1"/>
            <a:stretch/>
          </p:blipFill>
          <p:spPr>
            <a:xfrm>
              <a:off x="231840" y="-55440"/>
              <a:ext cx="869940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537840" y="3240"/>
              <a:ext cx="8084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Особенностью досуга в детстве бабушек было посещение кинотеатров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зоопарка, музеев и цирка. Они много катались летом -  на велосипедах 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самокатах, а зимой на лыжах, коньках и санках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29" name="Picture 3" descr="http://ib2.keep4u.ru/b/2013/03/11/aa/aa4ee8db3a999416c02698311f049d2f.jpg"/>
          <p:cNvPicPr/>
          <p:nvPr/>
        </p:nvPicPr>
        <p:blipFill>
          <a:blip r:embed="rId2"/>
          <a:stretch/>
        </p:blipFill>
        <p:spPr>
          <a:xfrm>
            <a:off x="571680" y="1143000"/>
            <a:ext cx="4271760" cy="28432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5" descr="http://www.infanty.ru/assets/images/Velosiped/img1.png"/>
          <p:cNvPicPr/>
          <p:nvPr/>
        </p:nvPicPr>
        <p:blipFill>
          <a:blip r:embed="rId3"/>
          <a:stretch/>
        </p:blipFill>
        <p:spPr>
          <a:xfrm>
            <a:off x="5286240" y="1143000"/>
            <a:ext cx="3144960" cy="35323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7" descr="http://www.kocby.ru/kid/p084-001.jpg"/>
          <p:cNvPicPr/>
          <p:nvPr/>
        </p:nvPicPr>
        <p:blipFill>
          <a:blip r:embed="rId4"/>
          <a:stretch/>
        </p:blipFill>
        <p:spPr>
          <a:xfrm>
            <a:off x="642960" y="4214880"/>
            <a:ext cx="4214880" cy="2388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Прямоугольник 1"/>
          <p:cNvGrpSpPr/>
          <p:nvPr/>
        </p:nvGrpSpPr>
        <p:grpSpPr>
          <a:xfrm>
            <a:off x="231840" y="304920"/>
            <a:ext cx="8467560" cy="944280"/>
            <a:chOff x="231840" y="304920"/>
            <a:chExt cx="8467560" cy="944280"/>
          </a:xfrm>
        </p:grpSpPr>
        <p:pic>
          <p:nvPicPr>
            <p:cNvPr id="633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31840" y="304920"/>
              <a:ext cx="84675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285840" y="357120"/>
              <a:ext cx="835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Arial"/>
                </a:rPr>
                <a:t>Особенностью досуга в детстве мамы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ffff00"/>
                  </a:solidFill>
                  <a:latin typeface="Arial"/>
                </a:rPr>
                <a:t> было то, что дети любили смотреть мультфильмы и детские передачи по телевизору.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35" name="Picture 2" descr="http://pilot.tv.kibi.ru/lavatory/images/big/night2.jpg"/>
          <p:cNvPicPr/>
          <p:nvPr/>
        </p:nvPicPr>
        <p:blipFill>
          <a:blip r:embed="rId2"/>
          <a:stretch/>
        </p:blipFill>
        <p:spPr>
          <a:xfrm>
            <a:off x="285840" y="1928880"/>
            <a:ext cx="4075200" cy="32148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" descr="http://smages.com/images/ve1.jpg"/>
          <p:cNvPicPr/>
          <p:nvPr/>
        </p:nvPicPr>
        <p:blipFill>
          <a:blip r:embed="rId3"/>
          <a:stretch/>
        </p:blipFill>
        <p:spPr>
          <a:xfrm>
            <a:off x="4572000" y="1928880"/>
            <a:ext cx="4305240" cy="3228840"/>
          </a:xfrm>
          <a:prstGeom prst="rect">
            <a:avLst/>
          </a:prstGeom>
          <a:ln w="0">
            <a:noFill/>
          </a:ln>
        </p:spPr>
      </p:pic>
      <p:sp>
        <p:nvSpPr>
          <p:cNvPr id="637" name="Прямоугольник 4"/>
          <p:cNvSpPr/>
          <p:nvPr/>
        </p:nvSpPr>
        <p:spPr>
          <a:xfrm>
            <a:off x="5713560" y="528624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мультфиль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Прямоугольник 5"/>
          <p:cNvSpPr/>
          <p:nvPr/>
        </p:nvSpPr>
        <p:spPr>
          <a:xfrm>
            <a:off x="799920" y="528624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покойной ночи, малыш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1" descr="G:\Конкурсная работа\elektronika.jpg"/>
          <p:cNvPicPr/>
          <p:nvPr/>
        </p:nvPicPr>
        <p:blipFill>
          <a:blip r:embed="rId1"/>
          <a:stretch/>
        </p:blipFill>
        <p:spPr>
          <a:xfrm>
            <a:off x="0" y="857160"/>
            <a:ext cx="4540320" cy="28576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" descr="http://db2.stb.s-msn.com/i/3A/20113844E02113D3CBF5DD5D9B1A12_h498_w598_m2_chIdiwzhs.jpg"/>
          <p:cNvPicPr/>
          <p:nvPr/>
        </p:nvPicPr>
        <p:blipFill>
          <a:blip r:embed="rId2"/>
          <a:stretch/>
        </p:blipFill>
        <p:spPr>
          <a:xfrm>
            <a:off x="4881600" y="857160"/>
            <a:ext cx="4262400" cy="2841840"/>
          </a:xfrm>
          <a:prstGeom prst="rect">
            <a:avLst/>
          </a:prstGeom>
          <a:ln w="0">
            <a:noFill/>
          </a:ln>
        </p:spPr>
      </p:pic>
      <p:sp>
        <p:nvSpPr>
          <p:cNvPr id="641" name="Прямоугольник 3"/>
          <p:cNvSpPr/>
          <p:nvPr/>
        </p:nvSpPr>
        <p:spPr>
          <a:xfrm>
            <a:off x="1423800" y="371484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гра «Ну, погод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Прямоугольник 4"/>
          <p:cNvSpPr/>
          <p:nvPr/>
        </p:nvSpPr>
        <p:spPr>
          <a:xfrm>
            <a:off x="6084000" y="364320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убик  Руб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13" descr="http://img.copypast.ru/uploads/A_J_K/1301221038/foto32t1.jpg"/>
          <p:cNvPicPr/>
          <p:nvPr/>
        </p:nvPicPr>
        <p:blipFill>
          <a:blip r:embed="rId3"/>
          <a:stretch/>
        </p:blipFill>
        <p:spPr>
          <a:xfrm>
            <a:off x="142920" y="4143240"/>
            <a:ext cx="4954680" cy="2271960"/>
          </a:xfrm>
          <a:prstGeom prst="rect">
            <a:avLst/>
          </a:prstGeom>
          <a:ln w="0">
            <a:noFill/>
          </a:ln>
        </p:spPr>
      </p:pic>
      <p:sp>
        <p:nvSpPr>
          <p:cNvPr id="648" name="Прямоугольник 10"/>
          <p:cNvSpPr/>
          <p:nvPr/>
        </p:nvSpPr>
        <p:spPr>
          <a:xfrm>
            <a:off x="1367280" y="6488280"/>
            <a:ext cx="15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Морской б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9" name="Picture 15" descr="http://www.imgs.su/tmp/2013-08-15/1376519553-422.jpg"/>
          <p:cNvPicPr/>
          <p:nvPr/>
        </p:nvPicPr>
        <p:blipFill>
          <a:blip r:embed="rId4"/>
          <a:stretch/>
        </p:blipFill>
        <p:spPr>
          <a:xfrm>
            <a:off x="5500800" y="4143240"/>
            <a:ext cx="3233520" cy="2286000"/>
          </a:xfrm>
          <a:prstGeom prst="rect">
            <a:avLst/>
          </a:prstGeom>
          <a:ln w="0">
            <a:noFill/>
          </a:ln>
        </p:spPr>
      </p:pic>
      <p:sp>
        <p:nvSpPr>
          <p:cNvPr id="650" name="Прямоугольник 12"/>
          <p:cNvSpPr/>
          <p:nvPr/>
        </p:nvSpPr>
        <p:spPr>
          <a:xfrm>
            <a:off x="6429240" y="648828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анч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1" name="Прямоугольник 1"/>
          <p:cNvGrpSpPr/>
          <p:nvPr/>
        </p:nvGrpSpPr>
        <p:grpSpPr>
          <a:xfrm>
            <a:off x="171360" y="-55440"/>
            <a:ext cx="8528040" cy="946080"/>
            <a:chOff x="171360" y="-55440"/>
            <a:chExt cx="8528040" cy="946080"/>
          </a:xfrm>
        </p:grpSpPr>
        <p:pic>
          <p:nvPicPr>
            <p:cNvPr id="652" name="Прямоугольник 1" descr=""/>
            <p:cNvPicPr/>
            <p:nvPr/>
          </p:nvPicPr>
          <p:blipFill>
            <a:blip r:embed="rId5"/>
            <a:stretch/>
          </p:blipFill>
          <p:spPr>
            <a:xfrm>
              <a:off x="171360" y="-55440"/>
              <a:ext cx="852804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>
              <a:off x="285840" y="0"/>
              <a:ext cx="835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Arial"/>
                </a:rPr>
                <a:t>Играли в электронные игры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. C</a:t>
              </a:r>
              <a:r>
                <a:rPr b="0" lang="ru-RU" sz="2000" spc="-1" strike="noStrike">
                  <a:solidFill>
                    <a:srgbClr val="ffff00"/>
                  </a:solidFill>
                  <a:latin typeface="Arial"/>
                </a:rPr>
                <a:t>обирали кубик Рубика. В школьных тетрадях играли в крестики-нолики, танчики, морской бо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1" descr="G:\Конкурсная работа\sgpyWR8jgaY.jpg"/>
          <p:cNvPicPr/>
          <p:nvPr/>
        </p:nvPicPr>
        <p:blipFill>
          <a:blip r:embed="rId1"/>
          <a:stretch/>
        </p:blipFill>
        <p:spPr>
          <a:xfrm>
            <a:off x="285840" y="714240"/>
            <a:ext cx="4429080" cy="2946600"/>
          </a:xfrm>
          <a:prstGeom prst="rect">
            <a:avLst/>
          </a:prstGeom>
          <a:ln w="0">
            <a:noFill/>
          </a:ln>
        </p:spPr>
      </p:pic>
      <p:sp>
        <p:nvSpPr>
          <p:cNvPr id="655" name="Прямоугольник 2"/>
          <p:cNvSpPr/>
          <p:nvPr/>
        </p:nvSpPr>
        <p:spPr>
          <a:xfrm>
            <a:off x="1568160" y="364320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езиноч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3" descr="http://www.zgrad.net/images/umor/images/158/b57e00e506e7017be4dfc891e4f1357f.jpg"/>
          <p:cNvPicPr/>
          <p:nvPr/>
        </p:nvPicPr>
        <p:blipFill>
          <a:blip r:embed="rId2"/>
          <a:stretch/>
        </p:blipFill>
        <p:spPr>
          <a:xfrm>
            <a:off x="4786200" y="714240"/>
            <a:ext cx="3787920" cy="2928960"/>
          </a:xfrm>
          <a:prstGeom prst="rect">
            <a:avLst/>
          </a:prstGeom>
          <a:ln w="0">
            <a:noFill/>
          </a:ln>
        </p:spPr>
      </p:pic>
      <p:sp>
        <p:nvSpPr>
          <p:cNvPr id="657" name="Прямоугольник 4"/>
          <p:cNvSpPr/>
          <p:nvPr/>
        </p:nvSpPr>
        <p:spPr>
          <a:xfrm>
            <a:off x="5361480" y="364320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кладыш от жвачки «Турб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5" descr="http://gallery.forum-grad.ru/files/8/4/9/2/6/7367.jpg"/>
          <p:cNvPicPr/>
          <p:nvPr/>
        </p:nvPicPr>
        <p:blipFill>
          <a:blip r:embed="rId3"/>
          <a:stretch/>
        </p:blipFill>
        <p:spPr>
          <a:xfrm>
            <a:off x="357120" y="4143240"/>
            <a:ext cx="3687840" cy="23576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7" descr="http://otkrytkabest.ru/_ph/226/2/227625654.jpg"/>
          <p:cNvPicPr/>
          <p:nvPr/>
        </p:nvPicPr>
        <p:blipFill>
          <a:blip r:embed="rId4"/>
          <a:stretch/>
        </p:blipFill>
        <p:spPr>
          <a:xfrm>
            <a:off x="5143680" y="4143240"/>
            <a:ext cx="3395520" cy="2428920"/>
          </a:xfrm>
          <a:prstGeom prst="rect">
            <a:avLst/>
          </a:prstGeom>
          <a:ln w="0">
            <a:noFill/>
          </a:ln>
        </p:spPr>
      </p:pic>
      <p:sp>
        <p:nvSpPr>
          <p:cNvPr id="660" name="Прямоугольник 7"/>
          <p:cNvSpPr/>
          <p:nvPr/>
        </p:nvSpPr>
        <p:spPr>
          <a:xfrm>
            <a:off x="4074840" y="648828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Знач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Прямоугольник 1"/>
          <p:cNvGrpSpPr/>
          <p:nvPr/>
        </p:nvGrpSpPr>
        <p:grpSpPr>
          <a:xfrm>
            <a:off x="-115920" y="158760"/>
            <a:ext cx="9028080" cy="639720"/>
            <a:chOff x="-115920" y="158760"/>
            <a:chExt cx="9028080" cy="639720"/>
          </a:xfrm>
        </p:grpSpPr>
        <p:pic>
          <p:nvPicPr>
            <p:cNvPr id="662" name="Прямоугольник 1" descr=""/>
            <p:cNvPicPr/>
            <p:nvPr/>
          </p:nvPicPr>
          <p:blipFill>
            <a:blip r:embed="rId5"/>
            <a:stretch/>
          </p:blipFill>
          <p:spPr>
            <a:xfrm>
              <a:off x="-115920" y="158760"/>
              <a:ext cx="9028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0" y="214200"/>
              <a:ext cx="88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Arial"/>
                </a:rPr>
                <a:t>Девочки часто играли в «резиночки».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ffff00"/>
                  </a:solidFill>
                  <a:latin typeface="Arial"/>
                </a:rPr>
                <a:t>Так же играли в фантики и значки.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Rectangle 1"/>
          <p:cNvGrpSpPr/>
          <p:nvPr/>
        </p:nvGrpSpPr>
        <p:grpSpPr>
          <a:xfrm>
            <a:off x="158760" y="-30240"/>
            <a:ext cx="8802720" cy="1170000"/>
            <a:chOff x="158760" y="-30240"/>
            <a:chExt cx="8802720" cy="1170000"/>
          </a:xfrm>
        </p:grpSpPr>
        <p:pic>
          <p:nvPicPr>
            <p:cNvPr id="665" name="Rectangle 1" descr=""/>
            <p:cNvPicPr/>
            <p:nvPr/>
          </p:nvPicPr>
          <p:blipFill>
            <a:blip r:embed="rId1"/>
            <a:stretch/>
          </p:blipFill>
          <p:spPr>
            <a:xfrm>
              <a:off x="158760" y="-30240"/>
              <a:ext cx="880272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458280" y="49320"/>
              <a:ext cx="8201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В результате практического исследования мы выяснили, что современны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младшие  школьники  стали меньше времени уделять активным играм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они любят смотреть телевизор и играть в компьютерные игры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7" name="Диаграмма 2" descr=""/>
          <p:cNvPicPr/>
          <p:nvPr/>
        </p:nvPicPr>
        <p:blipFill>
          <a:blip r:embed="rId2"/>
          <a:stretch/>
        </p:blipFill>
        <p:spPr>
          <a:xfrm>
            <a:off x="898560" y="1162080"/>
            <a:ext cx="7439040" cy="4479840"/>
          </a:xfrm>
          <a:prstGeom prst="rect">
            <a:avLst/>
          </a:prstGeom>
          <a:ln w="0">
            <a:noFill/>
          </a:ln>
        </p:spPr>
      </p:pic>
      <p:sp>
        <p:nvSpPr>
          <p:cNvPr id="668" name="Прямоугольник 3"/>
          <p:cNvSpPr/>
          <p:nvPr/>
        </p:nvSpPr>
        <p:spPr>
          <a:xfrm>
            <a:off x="1591920" y="5929200"/>
            <a:ext cx="48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Всего было проанкетировано 22  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Rectangle 1"/>
          <p:cNvGrpSpPr/>
          <p:nvPr/>
        </p:nvGrpSpPr>
        <p:grpSpPr>
          <a:xfrm>
            <a:off x="212760" y="231840"/>
            <a:ext cx="8723160" cy="3674880"/>
            <a:chOff x="212760" y="231840"/>
            <a:chExt cx="8723160" cy="3674880"/>
          </a:xfrm>
        </p:grpSpPr>
        <p:pic>
          <p:nvPicPr>
            <p:cNvPr id="670" name="Rectangle 1" descr=""/>
            <p:cNvPicPr/>
            <p:nvPr/>
          </p:nvPicPr>
          <p:blipFill>
            <a:blip r:embed="rId1"/>
            <a:stretch/>
          </p:blipFill>
          <p:spPr>
            <a:xfrm>
              <a:off x="212760" y="231840"/>
              <a:ext cx="8723160" cy="36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357120" y="300960"/>
              <a:ext cx="842976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Если эти данные сравнить с результатами анализа истории досуга прабабушек, бабушек и мам, ответами родственников, то можно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 сделать вывод, что досуг современных младших  школьников изменился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 по сравнению с другими поколениями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Дети стали меньше времени  уделять активным играм и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 стали больше играть на компьютере  и смотреть телевизор</a:t>
              </a:r>
              <a:r>
                <a:rPr b="1" i="1" lang="ru-RU" sz="2400" spc="-1" strike="noStrike">
                  <a:solidFill>
                    <a:srgbClr val="ffc000"/>
                  </a:solidFill>
                  <a:latin typeface="Arial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2" name="Прямоугольник 2"/>
          <p:cNvGrpSpPr/>
          <p:nvPr/>
        </p:nvGrpSpPr>
        <p:grpSpPr>
          <a:xfrm>
            <a:off x="944640" y="4406760"/>
            <a:ext cx="7229520" cy="2140200"/>
            <a:chOff x="944640" y="4406760"/>
            <a:chExt cx="7229520" cy="2140200"/>
          </a:xfrm>
        </p:grpSpPr>
        <p:pic>
          <p:nvPicPr>
            <p:cNvPr id="673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944640" y="4406760"/>
              <a:ext cx="7229520" cy="214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1000080" y="4500720"/>
              <a:ext cx="7072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Arial"/>
                </a:rPr>
                <a:t>Мы подтвердили нашу гипотезу о том, что научно-технический прогресс от поколения к поколению изменяет досуг младших  школьников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1" descr="G:\Конкурсная работа\rezinochki_piknik.jpeg"/>
          <p:cNvPicPr/>
          <p:nvPr/>
        </p:nvPicPr>
        <p:blipFill>
          <a:blip r:embed="rId1"/>
          <a:stretch/>
        </p:blipFill>
        <p:spPr>
          <a:xfrm>
            <a:off x="571680" y="285840"/>
            <a:ext cx="8172360" cy="5429160"/>
          </a:xfrm>
          <a:prstGeom prst="rect">
            <a:avLst/>
          </a:prstGeom>
          <a:ln w="0">
            <a:noFill/>
          </a:ln>
        </p:spPr>
      </p:pic>
      <p:sp>
        <p:nvSpPr>
          <p:cNvPr id="676" name="Прямоугольник 2"/>
          <p:cNvSpPr/>
          <p:nvPr/>
        </p:nvSpPr>
        <p:spPr>
          <a:xfrm>
            <a:off x="2094480" y="5929200"/>
            <a:ext cx="48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20:58:39Z</dcterms:created>
  <dc:creator>Customer</dc:creator>
  <dc:description/>
  <dc:language>en-US</dc:language>
  <cp:lastModifiedBy>Марина</cp:lastModifiedBy>
  <dcterms:modified xsi:type="dcterms:W3CDTF">2016-12-03T17:01:11Z</dcterms:modified>
  <cp:revision>77</cp:revision>
  <dc:subject/>
  <dc:title>Слайд 1</dc:title>
</cp:coreProperties>
</file>