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A57-E3F0-47EB-B05A-B89684F5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F38-08D6-4D61-AFE2-99833A3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23759-52DC-4A8E-86A7-8413981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C9A58-5BBF-4458-BF1A-128F2F04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17A10-88A3-4142-8BEE-DA88ECA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26602-17AC-437C-9B47-A5F0CFE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7D3E8-47A0-4025-9963-546D76BE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BD72D-2629-42F7-9D9F-C629A70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AE92-002C-4EC8-959F-5C8BEB2A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2648F-3E42-4CCD-AD5F-6517C943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647B5-B4FC-4212-8E22-E96CB5E5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F1EF7-318A-4B6F-B981-3191CA42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FFE-C7F7-4151-88D8-5843852D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9102-DC75-4316-BB19-8D1C846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C5939-B257-4C80-AF77-BF80E68C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4C19D-4F63-4AD5-BB9A-2C988EE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E085-40D8-42E8-8C87-04EC445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87A75-69E7-44C0-9C0C-0ADC9F10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2DAB5-4DEE-48F9-A9CA-2BBFDE6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E0012-702D-42B2-8BD7-36BC377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D9FDF-E456-4F5C-8E16-30A1786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394C9-A7C1-4AD2-932E-8895706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747EB-F1B8-4D2C-8926-903A715D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1AB-7A5C-407A-B1B6-D89DC798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7334A-F918-4A7B-BF5A-5B039C91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CEA8-22F2-4939-AC92-8353B83C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6013-E91B-4892-93F1-50C008CA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9BEB-74AD-4F45-93B9-AB9D4FA9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4031-E71D-4B06-8262-5D8A4C6D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D766-D541-4005-8F01-1A75390D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C7FB4-E0FD-4096-BE29-5786B14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FBE54-CC80-4636-BAD1-5B915274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31EB-9B49-4527-9780-06804E0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7BCFC-320D-43C1-AA07-ADEF81A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986D-F8B2-4089-9955-C42ADBA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12BA-91D1-4101-AEF3-D752FF99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15B32-0A0E-4A61-99D9-146107EF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9566-488F-488D-AABB-BAEF6151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394F7-1747-4093-98FE-48DB0944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2C888-9A64-4F29-8A91-BFCEE1D4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D3DB2-EF7B-4C6C-BDF4-3FFAB1AA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E8353-7244-4FDB-AA7F-54868A47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033A-10F7-4E3B-B6A3-25A32078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1E000-CEA7-424D-A078-0EB2284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78B2B-6D53-44F0-8AD4-9504093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15D4-F15B-4B24-85D9-26375060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9B8A8-BC9B-4E6B-8AC4-024C789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61CD0-6D04-4C69-8282-AAD0287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BF534-5DF3-4A56-A6BB-1268177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94DBE-92E5-4BB8-9952-74BA1C9C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A511D-8D9B-4D8F-B66F-E316B253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5CA-362A-4BD1-B2D8-1A5C06E0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F81E-F221-4553-8588-F9A88F3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802A-3254-438B-A9C9-BC01A33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46FC-BDE3-4C0B-B7FF-90792D3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51BF-5A0A-4399-AEC6-BF012A33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5D7-F301-4C7F-A96C-A595F57C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3FF6-BB83-456C-A122-D75CFB1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D1CA-D557-4506-AF15-EE47EF4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094E-5AF9-4B86-8DDE-D038FF32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0206-BFEB-4E20-82E3-FE07AAE7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BCA-FFEE-4CB0-A97F-626E4860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8F02-883C-4C92-AF22-BA625501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C1D3-ED34-41C7-B7BE-C64508D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3153-CC4C-4DEE-BA6D-48DFD645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A2D3-F748-493F-B5FA-21F517C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03E3-B268-44A0-9394-2ED8B9FE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37C-040B-4C24-8D71-38C91E7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7C9C-2549-41C4-B9E2-9A13702E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F7AA-A1F8-4713-874F-86CDE35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4104-91F4-4816-8373-B873723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4A5E-A6DC-4BCC-9B84-2D9743E4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4900-C40C-44D4-8B22-E6E5EF4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1067-54E7-4226-8B3A-DA6C7C25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7B27-531D-4EF6-A887-50818475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7A67-DB9B-4245-8102-7E8CCD29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0B9F-FAD1-4489-BCE1-AB4AFB06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F602-2C63-4E6D-AE98-9C5F08C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C46-6E54-4115-A03C-722724B3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13D7-FD1E-497C-846C-E230A36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7D40-DF88-41D9-A4C8-44E21886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5D52-8F4E-4441-B39A-DE7B1FB4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B9E1-A3B5-4610-95D4-E6E2C49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3E3B1-7816-48FB-97C7-B9536C8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C0AE-CFA7-4EB4-8AA1-2779BC7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8CD8-90FA-4F0D-AE93-E8D94FAF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D611B-21C4-421A-A3B0-1C5F2444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7347-0D20-4C15-A943-8D098FF1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A707-B77A-4E3D-8CB3-6F76AFB0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575-ED6D-4E30-98CB-86861AA7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8DE82-D6C8-4587-A850-C0B2E3F7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DC1A-9776-4F72-BE33-5527A07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EE9B-AAEF-438F-A575-C6FDC86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7016-B663-4548-846A-8F63C504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95FF-7180-496F-B0A9-60814DF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A9D1-A6E6-46CB-B386-FA047FC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F02A-0F70-4091-B456-74F68F9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07D8-8F73-443A-A44A-9BBA4251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CE50-FDE0-4DDF-B167-7B83FD0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DEC8-4F50-47C5-8692-B9F4A152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CC7-419A-4CC4-96BD-56B83C49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2A22-A4C6-48AE-B5EA-E815D8A8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32CAE-BA6A-44BB-9FB2-9B27BB2C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EDC8-7EE1-464A-8D50-F0FA8C5E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9561-214A-48EC-849B-CDB6E50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2647-16A2-44D7-9D79-E8B4AFF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51F6-F6ED-497A-B52D-3B42DB69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902D-BEA0-4CA2-B946-A0B7B024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F882-D479-4CAD-B0E1-5C7FADE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6D31B-8276-4D20-8A35-795880C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D2703-C13E-48C1-AF0A-802390D6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26F-E686-4035-AB56-A086D813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3FB17-0FB7-4D65-8D71-84CFCBB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FE15E-0E84-4B10-95F9-B035258E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183B-A4FD-49CE-8DE8-A639AD0A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6FAD-4F98-4352-B671-5AE32031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0C1B-6F85-440F-B5EF-55425F58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F0C8-BBDC-4A44-B218-5EE1DECA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0D005-154B-439E-B591-62B3DC0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DDCE-54BE-4A48-89A8-0763B59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27CC-62A2-4261-958C-176ABD99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38EF-65CC-4D00-994D-FC3E998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875-3144-43DB-9E35-4515A04E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348E-3AF7-40D3-86A3-FFF2C89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B6C1-9623-4EE8-B6D2-A50688D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CD3E-917D-4B46-BBAF-9812434A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A6522-3EE2-451D-9C20-E61F13D6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EB515-68B9-46E6-8E55-7F4B7949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AD10B-2867-4A21-B32F-80A0BEA4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F5EE3-EAC3-4076-A9D5-C909802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F5A2-E5FA-4F13-92E5-45B2217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E407-E7A7-42C3-90DC-58403D7B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6CC62-0E53-4A71-B2A7-305CE706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B1A-315E-4AB2-83E9-35FD5E3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C72A4-1818-4C90-8004-384AADE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EB25-1F6D-4217-9B78-B7584ED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1D48B-F282-477C-AF59-2DB5E45A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A968-E1D0-4484-9BB8-3E53718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475D-63FD-4718-BFAF-08B52EDA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19E0-C6FB-444D-8CAF-4FA5A1F6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0540-5051-4BA9-91DF-D41971DB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7BF42-0B39-4D05-BDD7-0C0465D7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8ADED-38AC-42ED-89A2-E19D72FB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3268B-1D93-4B2F-8C26-45533DD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F571-71EE-428E-A166-69A5B572D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F01-37AB-45E7-B6C9-3DE2D3AF5E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8093-EC9E-47CA-B88A-26238EAF96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3A5-FFA1-425D-ADD2-3ED4A64BB4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0BA3-403E-4D38-B68D-5F0F061517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9A73-35E7-43A1-BEE7-57D7FF49C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C60-185C-4539-968F-2A8E798D9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1190-8187-4BB3-828D-9D1BB5A7C4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CA3-F417-4370-8FBF-E3725FE764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6D8-C2CC-4927-8680-E70CD617C6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4BE1-3841-4126-82FD-CF382CE9B0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7D59-EDD3-44D8-973B-155BF05CC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Rectangle 5"/>
          <p:cNvGrpSpPr/>
          <p:nvPr/>
        </p:nvGrpSpPr>
        <p:grpSpPr>
          <a:xfrm>
            <a:off x="1231920" y="396720"/>
            <a:ext cx="7027920" cy="1114560"/>
            <a:chOff x="1231920" y="396720"/>
            <a:chExt cx="7027920" cy="1114560"/>
          </a:xfrm>
        </p:grpSpPr>
        <p:pic>
          <p:nvPicPr>
            <p:cNvPr id="622" name="Rectangle 5" descr=""/>
            <p:cNvPicPr/>
            <p:nvPr/>
          </p:nvPicPr>
          <p:blipFill>
            <a:blip r:embed="rId1"/>
            <a:stretch/>
          </p:blipFill>
          <p:spPr>
            <a:xfrm>
              <a:off x="1231920" y="396720"/>
              <a:ext cx="702792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290960" y="432360"/>
              <a:ext cx="690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Третий  межрайонный гуманитарный фору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«ИЖОРСКИЕ БЕРЕГА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Конкурс исследовательских работ и творческих проектов среди учащихс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начальных классов «Первые открытия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Rectangle 6"/>
          <p:cNvSpPr/>
          <p:nvPr/>
        </p:nvSpPr>
        <p:spPr>
          <a:xfrm>
            <a:off x="500040" y="1523520"/>
            <a:ext cx="8286840" cy="28969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Исследовательск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Тема: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Досуг младших  школьни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(от прабабушек до наших дн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Rectangle 7"/>
          <p:cNvGrpSpPr/>
          <p:nvPr/>
        </p:nvGrpSpPr>
        <p:grpSpPr>
          <a:xfrm>
            <a:off x="1158840" y="4529160"/>
            <a:ext cx="7332840" cy="1859040"/>
            <a:chOff x="1158840" y="4529160"/>
            <a:chExt cx="7332840" cy="1859040"/>
          </a:xfrm>
        </p:grpSpPr>
        <p:pic>
          <p:nvPicPr>
            <p:cNvPr id="626" name="Rectangle 7" descr=""/>
            <p:cNvPicPr/>
            <p:nvPr/>
          </p:nvPicPr>
          <p:blipFill>
            <a:blip r:embed="rId2"/>
            <a:stretch/>
          </p:blipFill>
          <p:spPr>
            <a:xfrm>
              <a:off x="1158840" y="4529160"/>
              <a:ext cx="73328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1214280" y="4578480"/>
              <a:ext cx="72201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Выполнила: 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	</a:t>
              </a:r>
              <a:r>
                <a:rPr b="1" i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Марютина Саш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Ученица 3 б класса 402 гимназии г. Колпино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Руководитель: 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	</a:t>
              </a:r>
              <a:r>
                <a:rPr b="1" i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Степанченко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Марина Валериев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Консультант:   </a:t>
              </a:r>
              <a:r>
                <a:rPr b="1" i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Марютина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Ольга Сергеев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Rectangle 8"/>
          <p:cNvSpPr/>
          <p:nvPr/>
        </p:nvSpPr>
        <p:spPr>
          <a:xfrm>
            <a:off x="3857760" y="633600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014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Rectangle 1"/>
          <p:cNvGrpSpPr/>
          <p:nvPr/>
        </p:nvGrpSpPr>
        <p:grpSpPr>
          <a:xfrm>
            <a:off x="36360" y="365040"/>
            <a:ext cx="9217080" cy="5975280"/>
            <a:chOff x="36360" y="365040"/>
            <a:chExt cx="9217080" cy="5975280"/>
          </a:xfrm>
        </p:grpSpPr>
        <p:pic>
          <p:nvPicPr>
            <p:cNvPr id="630" name="Rectangle 1" descr=""/>
            <p:cNvPicPr/>
            <p:nvPr/>
          </p:nvPicPr>
          <p:blipFill>
            <a:blip r:embed="rId1"/>
            <a:stretch/>
          </p:blipFill>
          <p:spPr>
            <a:xfrm>
              <a:off x="36360" y="365040"/>
              <a:ext cx="921708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214200" y="455760"/>
              <a:ext cx="8864640" cy="56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Цель исследования: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определить особенности досуга младших  школьников  разных поколений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Задачи исследования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indent="450720" algn="just"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1. Определить особенности досуга прабабушки, бабушки и мамы во время их учёбы в   начальной  школе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indent="450720" algn="just"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2. Выявить особенности досуга современных второкласснико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indent="450720" algn="just"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3. Выяснить влияние научно-технического прогресса на досуг второклассников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Rectangle 1"/>
          <p:cNvGrpSpPr/>
          <p:nvPr/>
        </p:nvGrpSpPr>
        <p:grpSpPr>
          <a:xfrm>
            <a:off x="103320" y="291960"/>
            <a:ext cx="8583480" cy="6237360"/>
            <a:chOff x="103320" y="291960"/>
            <a:chExt cx="8583480" cy="6237360"/>
          </a:xfrm>
        </p:grpSpPr>
        <p:pic>
          <p:nvPicPr>
            <p:cNvPr id="633" name="Rectangle 1" descr=""/>
            <p:cNvPicPr/>
            <p:nvPr/>
          </p:nvPicPr>
          <p:blipFill>
            <a:blip r:embed="rId1"/>
            <a:stretch/>
          </p:blipFill>
          <p:spPr>
            <a:xfrm>
              <a:off x="103320" y="291960"/>
              <a:ext cx="858348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50920" y="360720"/>
              <a:ext cx="8358120" cy="59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Гипотеза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в результате влияния научно-технического прогресса досуг второклассников от поколения к поколению изменялс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Методы исследования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1.Анализ литературы по теме исследов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2. Интервью прабабушек, бабушек, ма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3.Опрос учащихся 3  классов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редполагаемый результат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Досуг наших прабабушек, бабушек и мам во время учебы во втором классе отличался от досуга современных дете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Rectangle 1"/>
          <p:cNvGrpSpPr/>
          <p:nvPr/>
        </p:nvGrpSpPr>
        <p:grpSpPr>
          <a:xfrm>
            <a:off x="195120" y="360360"/>
            <a:ext cx="8704440" cy="2468520"/>
            <a:chOff x="195120" y="360360"/>
            <a:chExt cx="8704440" cy="2468520"/>
          </a:xfrm>
        </p:grpSpPr>
        <p:pic>
          <p:nvPicPr>
            <p:cNvPr id="636" name="Rectangle 1" descr=""/>
            <p:cNvPicPr/>
            <p:nvPr/>
          </p:nvPicPr>
          <p:blipFill>
            <a:blip r:embed="rId1"/>
            <a:stretch/>
          </p:blipFill>
          <p:spPr>
            <a:xfrm>
              <a:off x="195120" y="360360"/>
              <a:ext cx="870444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12840" y="413640"/>
              <a:ext cx="84740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В результате теоретического исследо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мы выяснили общее и особенное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Общее: во всех поколениях  младшие  школьники в  свободное время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много  времени уделяли активным играм таким как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казаки-разбойники, прятки, жмурки и  догонялк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8" name="Picture 5" descr="http://www.ogunhaber.com/assets/uploads/other/images/mazi3_%28Small%29%281%29.png"/>
          <p:cNvPicPr/>
          <p:nvPr/>
        </p:nvPicPr>
        <p:blipFill>
          <a:blip r:embed="rId2"/>
          <a:stretch/>
        </p:blipFill>
        <p:spPr>
          <a:xfrm>
            <a:off x="-428760" y="3143160"/>
            <a:ext cx="3071880" cy="2587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http://s49.radikal.ru/i126/0908/67/c7ea9ef75ecd.jpg"/>
          <p:cNvPicPr/>
          <p:nvPr/>
        </p:nvPicPr>
        <p:blipFill>
          <a:blip r:embed="rId3"/>
          <a:stretch/>
        </p:blipFill>
        <p:spPr>
          <a:xfrm>
            <a:off x="2786040" y="3143160"/>
            <a:ext cx="3560760" cy="2625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9" descr="http://www.zhaba.ru/site_data/10667/objects_images/a/7/e/view/a7e7897b9e81abe29b7cdf4b6040e516_79317.jpg"/>
          <p:cNvPicPr/>
          <p:nvPr/>
        </p:nvPicPr>
        <p:blipFill>
          <a:blip r:embed="rId4"/>
          <a:stretch/>
        </p:blipFill>
        <p:spPr>
          <a:xfrm>
            <a:off x="6500880" y="3143160"/>
            <a:ext cx="3027240" cy="2643120"/>
          </a:xfrm>
          <a:prstGeom prst="rect">
            <a:avLst/>
          </a:prstGeom>
          <a:ln w="0">
            <a:noFill/>
          </a:ln>
        </p:spPr>
      </p:pic>
      <p:sp>
        <p:nvSpPr>
          <p:cNvPr id="641" name="Прямоугольник 7"/>
          <p:cNvSpPr/>
          <p:nvPr/>
        </p:nvSpPr>
        <p:spPr>
          <a:xfrm>
            <a:off x="506520" y="5715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пр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рямоугольник 8"/>
          <p:cNvSpPr/>
          <p:nvPr/>
        </p:nvSpPr>
        <p:spPr>
          <a:xfrm>
            <a:off x="3791520" y="5786280"/>
            <a:ext cx="13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жмур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Прямоугольник 9"/>
          <p:cNvSpPr/>
          <p:nvPr/>
        </p:nvSpPr>
        <p:spPr>
          <a:xfrm>
            <a:off x="7006320" y="57862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догоня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Rectangle 1"/>
          <p:cNvGrpSpPr/>
          <p:nvPr/>
        </p:nvGrpSpPr>
        <p:grpSpPr>
          <a:xfrm>
            <a:off x="158760" y="378000"/>
            <a:ext cx="8680320" cy="1249200"/>
            <a:chOff x="158760" y="378000"/>
            <a:chExt cx="8680320" cy="1249200"/>
          </a:xfrm>
        </p:grpSpPr>
        <p:pic>
          <p:nvPicPr>
            <p:cNvPr id="645" name="Rectangle 1" descr=""/>
            <p:cNvPicPr/>
            <p:nvPr/>
          </p:nvPicPr>
          <p:blipFill>
            <a:blip r:embed="rId1"/>
            <a:stretch/>
          </p:blipFill>
          <p:spPr>
            <a:xfrm>
              <a:off x="158760" y="378000"/>
              <a:ext cx="8680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214200" y="432360"/>
              <a:ext cx="8572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Особенное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прабабушки</a:t>
              </a: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играли в игрушки, которых было очень мало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Любили играть в классики, прыгать через веревочк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7" name="Picture 2" descr="G:\Конкурсная работа\102732863_800pxTiuFeiKei_Hopscotch__pattern.JPG"/>
          <p:cNvPicPr/>
          <p:nvPr/>
        </p:nvPicPr>
        <p:blipFill>
          <a:blip r:embed="rId2"/>
          <a:stretch/>
        </p:blipFill>
        <p:spPr>
          <a:xfrm>
            <a:off x="4643280" y="2071800"/>
            <a:ext cx="4186440" cy="278604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3"/>
          <p:cNvSpPr/>
          <p:nvPr/>
        </p:nvSpPr>
        <p:spPr>
          <a:xfrm>
            <a:off x="6083640" y="478620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класс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4" descr="http://www.kirovograd.biz/photoes/1507.jpg"/>
          <p:cNvPicPr/>
          <p:nvPr/>
        </p:nvPicPr>
        <p:blipFill>
          <a:blip r:embed="rId3"/>
          <a:stretch/>
        </p:blipFill>
        <p:spPr>
          <a:xfrm>
            <a:off x="571680" y="2071800"/>
            <a:ext cx="3711240" cy="278604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5"/>
          <p:cNvSpPr/>
          <p:nvPr/>
        </p:nvSpPr>
        <p:spPr>
          <a:xfrm>
            <a:off x="1365120" y="500076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ерев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74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классики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652" name="Picture 2" descr="Классики"/>
          <p:cNvPicPr/>
          <p:nvPr/>
        </p:nvPicPr>
        <p:blipFill>
          <a:blip r:embed="rId1"/>
          <a:stretch/>
        </p:blipFill>
        <p:spPr>
          <a:xfrm>
            <a:off x="1000080" y="1428840"/>
            <a:ext cx="700092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http://mojakroxa.ru/wp-content/uploads/2013/12/%D0%98%D0%B3%D1%80%D1%8B-%D0%B2-%D0%BA%D0%BB%D0%B0%D1%81%D1%81%D0%B8%D0%BA%D0%B8.gif"/>
          <p:cNvPicPr/>
          <p:nvPr/>
        </p:nvPicPr>
        <p:blipFill>
          <a:blip r:embed="rId1"/>
          <a:stretch/>
        </p:blipFill>
        <p:spPr>
          <a:xfrm>
            <a:off x="-7920" y="785880"/>
            <a:ext cx="9151920" cy="607212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классики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Игра в веревочку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656" name="Picture 2" descr="Прыгалки"/>
          <p:cNvPicPr/>
          <p:nvPr/>
        </p:nvPicPr>
        <p:blipFill>
          <a:blip r:embed="rId1"/>
          <a:stretch/>
        </p:blipFill>
        <p:spPr>
          <a:xfrm>
            <a:off x="857160" y="1428840"/>
            <a:ext cx="3314880" cy="49291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прыжки через скакалку"/>
          <p:cNvPicPr/>
          <p:nvPr/>
        </p:nvPicPr>
        <p:blipFill>
          <a:blip r:embed="rId2"/>
          <a:stretch/>
        </p:blipFill>
        <p:spPr>
          <a:xfrm>
            <a:off x="4786200" y="1428840"/>
            <a:ext cx="3500640" cy="49291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0:58:39Z</dcterms:created>
  <dc:creator>Customer</dc:creator>
  <dc:description/>
  <dc:language>en-US</dc:language>
  <cp:lastModifiedBy>Марина</cp:lastModifiedBy>
  <dcterms:modified xsi:type="dcterms:W3CDTF">2016-12-03T17:05:06Z</dcterms:modified>
  <cp:revision>77</cp:revision>
  <dc:subject/>
  <dc:title>Слайд 1</dc:title>
</cp:coreProperties>
</file>