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747A-76D5-4C51-ACA9-7CEA0FC0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440" y="609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D63-CC55-42D4-9605-9C19278C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010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5784840"/>
            <a:ext cx="80010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264-A5CD-4783-A242-2338A851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9042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7400" y="2362320"/>
            <a:ext cx="39042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5784840"/>
            <a:ext cx="39042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7400" y="5784840"/>
            <a:ext cx="39042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3E8-5E81-43B7-8071-9DB15B58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57616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120" y="2362320"/>
            <a:ext cx="257616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8520" y="2362320"/>
            <a:ext cx="257616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5784840"/>
            <a:ext cx="257616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120" y="5784840"/>
            <a:ext cx="257616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8520" y="5784840"/>
            <a:ext cx="257616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6F0-871A-41A8-BF44-0CA64BF0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8001000" cy="65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716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EC1-BFDF-4C22-A588-04F56D6A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01000" cy="65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67D-CC33-4EDE-873E-9EB488AE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904200" cy="65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7400" y="2362320"/>
            <a:ext cx="3904200" cy="65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D4B-7313-488F-B352-2277ADED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CE3-501C-431A-AB56-3AE24AC2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996840"/>
            <a:ext cx="8001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7160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E69-BD47-4647-AC5F-BA5C7EC0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9042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7400" y="2362320"/>
            <a:ext cx="3904200" cy="65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5784840"/>
            <a:ext cx="39042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980-A573-4C9F-9993-55CE8BAE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904200" cy="65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400" y="2362320"/>
            <a:ext cx="39042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7400" y="5784840"/>
            <a:ext cx="39042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D62-BE5A-492D-BCBB-59A16DC4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9042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7400" y="2362320"/>
            <a:ext cx="39042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5784840"/>
            <a:ext cx="8001000" cy="31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BE7-3E48-47F3-8D1E-3B4C5DC8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996840"/>
            <a:ext cx="8001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8001000" cy="65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1018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735480" indent="265896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1131480" indent="42998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1584000" indent="61102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2036520" indent="792072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2036520" indent="792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2036520" indent="7920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490B-28F1-44F3-A662-36EB9F3140B4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8001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ие меры длин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360" y="3504960"/>
            <a:ext cx="701028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2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102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ребцов Никита,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102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5 «В» класса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102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Гимназия» г. Моршанска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Arial"/>
              </a:rPr>
              <a:t>Ладонь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маленьких расстояний применялась ладонь – это ширина кисти. Ладонь – это 1/6 локтя. 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дь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640" y="1603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​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дь(пядница)-древняя русская мера длины. Малая пядь- расстояние между концами расставленных большого и указательного пальцев. Большая пядь - расстояние между большого пальца и мизинца (22-23см).Пядь с кувырком-пядь с прибавкой двух суставов указательного пальца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а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​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а-старорусская путевая мера (её раннее название-поприще).Этим словом, первоначально называли расстояние, пройденное от одного поворота плуга до другого во время пахоты. До царя Алексея Михайловича в 1 версте считали 1000 саженей.При Пет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 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ерста равнялась 500 саженей, в современном исчислении-1066,8м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572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нь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466640"/>
            <a:ext cx="796788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70c0"/>
                </a:solidFill>
                <a:latin typeface="Arial"/>
              </a:rPr>
              <a:t>​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нь - одна из наиболее распространённых  на Руси мер длины. Маховая сажень - расстояние между концами пальцев широко расставленных рук взрослого мужчины. Косая сажень-самая длинная: расстояние от носка левой ноги до конца среднего пальца поднятой вверх правой руки. Используется в словосочитании "У него косая сажень в плечах”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ок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3440"/>
            <a:ext cx="83818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ок-равнялся 1/16 аршина,1/4 четверти. В современном исчисленнии-4,44см. Наименование "Вершок" происходит от слова "верх“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33520" y="83808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е локтей моих членов сем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47920" y="2619360"/>
          <a:ext cx="6095880" cy="2468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лен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в локтях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душ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членов моей семьи в саженя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38080" y="2362320"/>
          <a:ext cx="8001000" cy="22255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в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в сажен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буш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143000" y="2971800"/>
          <a:ext cx="7010280" cy="1373040"/>
        </p:xfrm>
        <a:graphic>
          <a:graphicData uri="http://schemas.openxmlformats.org/drawingml/2006/table">
            <a:tbl>
              <a:tblPr/>
              <a:tblGrid>
                <a:gridCol w="2103480"/>
                <a:gridCol w="828720"/>
                <a:gridCol w="2235240"/>
                <a:gridCol w="1842840"/>
              </a:tblGrid>
              <a:tr h="631080">
                <a:tc>
                  <a:txBody>
                    <a:bodyPr lIns="73800" rIns="73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3800" rIns="73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3800" rIns="73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версты в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3800" rIns="73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    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, вер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5720">
                <a:tc>
                  <a:txBody>
                    <a:bodyPr lIns="73800" rIns="73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дома до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3800" rIns="73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3800" rIns="73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        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3800" rIns="73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1080">
                <a:tc>
                  <a:txBody>
                    <a:bodyPr lIns="73800" rIns="73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моего дома до дома бабу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3800" rIns="73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3800" rIns="73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3800" rIns="73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49"/>
          <p:cNvSpPr/>
          <p:nvPr/>
        </p:nvSpPr>
        <p:spPr>
          <a:xfrm>
            <a:off x="380880" y="1297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е расстояния в вёрс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1219320" y="146736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е высоты в аршин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447920" y="2971800"/>
          <a:ext cx="6095880" cy="19447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832680"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на аршина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р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та деревьев в метр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та в аршин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ё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           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360"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240" rIns="5724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вицы и поговорки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7631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емь пядей во лбу(умный).​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​Москва верстой далека, а сердцу рядом (Москва на 1,067 км далека, а сердцу рядом)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​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емь верст молодцу не крюк.​(7,469 км молодцу не крюк.)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​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ждый купец на свой аршин  мериет (каждый купец на свои 71 см мериет)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​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240" y="2590920"/>
            <a:ext cx="80010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28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я - одно из важнейших дел в современной жизни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457560" y="1295280"/>
            <a:ext cx="89154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 ходе работы я узнал, какие старинные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длины существовали в древние времена,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равнил их с новой измерительной системой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мерил, сколько верст от дома до школы,  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у ладони, локтя у всех моих членов семьи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шёл упоминание древних мер длины в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м фольклоре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ша гипотеза верна. До появления метров,  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метров, сантиметров пользовались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мерами длины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источники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124000"/>
            <a:ext cx="883944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Математика. 5 класс: учебник  для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образовательных  учреждений /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 Я. Виленкин, В. И. Жохов,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С. Чесноков, С. И. Шварцбурд. – 25-е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д., стер. – М. : Мнемозина, 2009. – 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80 с. : ил.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2.http:nsportal.ru/ap/ap/drugoe/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3.http:mer.kakras.ru</a:t>
            </a: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362320"/>
            <a:ext cx="80010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285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5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960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связь математики с жизнью  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единицах измерения длины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существить исторический экскурс в данную тему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обрать пословицы и поговорки, содержащие упоминания о различных мерах длины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змерить расстояния, рост, высоты и длины в старинных единицах. 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2225520"/>
            <a:ext cx="70866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ему мнению до появления метров, километров, сантиметров, пользовались другими мерами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мера ?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866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а - способ определения количества по принятой единице. Погонная, линейная мера служит для значения расстояний или величины линий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8001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70c0"/>
                </a:solidFill>
                <a:latin typeface="Arial"/>
              </a:rPr>
              <a:t>​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евности, мерой длины был человек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​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ревнерусских мер длины 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ла в себя следующие меры: 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у,сажень,аршин,пядь,локоть,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донь и вершок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Arial"/>
              </a:rPr>
              <a:t>Аршин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-старинная русская мера длины, равная, в современном исчислении 0,7112м.Аршином,так же,называли мерную линейку, на которую, обычно, наносили деления в вершках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​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различные версии происхождения аршинной меры длины. Возможно, первоначально, "аршин" обозначал длину человеческого шага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Arial"/>
              </a:rPr>
              <a:t>Локоть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3440"/>
            <a:ext cx="82296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оть- расстояние от конца вытянутого среднего пальца руки или сжатого кулака до локтевого сгиба. Его длина колебалась от 38 до 46см.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5-25T21:06:48Z</dcterms:modified>
  <cp:revision>56</cp:revision>
  <dc:subject/>
  <dc:title>древние меры длины </dc:title>
</cp:coreProperties>
</file>