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D79-B9E9-4147-A76D-B171D4BE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E53-BFC7-4250-95EB-D04933C1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8AD-D8F5-40F9-91BB-750A12A5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C1E-6452-4562-B2D9-6D7C5C8F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1345-F005-4689-A958-2C34DBE3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77C3-BFBA-4B88-B17C-2A682FC9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78F6-A7CB-4FC7-AD8E-FB88DBFE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C3B2-2B9B-45CF-823C-43CBA760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A912-C350-4907-89B2-F0EE642F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BF7B-52AB-42E4-A892-6EDBFBD9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F7D5-7163-4D83-9CC8-7E1D02BA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4CD-1635-43C2-9A33-59134F6F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6B8F-0B5A-4B90-B477-29BB68D4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9AC5-308A-41DD-961A-7932A6CB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1B76-A5B1-498C-9594-6FF48A7C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6857-52D4-42D3-A33D-AE6E80DB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AD9A-819F-47E2-8B47-EB6BBB88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7D7-615A-4D79-8311-242722D2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4B6-1317-4724-83C7-3C082C51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AEB-4608-4169-87EA-A12A8FDA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814-2F3A-4F58-96A0-87911AF1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092-9DF7-4B1A-83EB-A3F29E9D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668-94C4-4171-90A0-043332FE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C58-9A61-44F3-ADF4-1CB6ADC2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98AB-ED62-4777-89CE-00436F29A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B1E7-8D20-4775-9E09-E29436DBB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Тема русской природы в творчестве Сергея Есенина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Береза в русской народной и классической поэзии является национальным символом России. Есенин часто упоминает берёзу при описании народных весенних праздников. В древних обрядах берёза служила «майским деревом», символом весны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204640"/>
            <a:ext cx="3927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 тонкая берез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загляделась в пруд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шепчет тебе вет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 чем звенит пес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ль хочешь в косы-вет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ы лунный гребеш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59280" y="1905120"/>
            <a:ext cx="3889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Троицыно утро, утренний канон,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В роще по березкам белый перезвон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62156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Есенин - создатель единственного в своем роде "древесного романа", лирический герой которого - клен, а героини - березы и ивы, липы, рябины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68360" y="1905120"/>
            <a:ext cx="4535280" cy="4548240"/>
            <a:chOff x="468360" y="1905120"/>
            <a:chExt cx="4535280" cy="45482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68360" y="1905120"/>
              <a:ext cx="4535280" cy="45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68360" y="1905120"/>
              <a:ext cx="4535280" cy="4548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64000" y="1915920"/>
            <a:ext cx="338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раснела ряби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инела в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сяц, всадник уныл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нил пов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ова выплыл из рощ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ним лебедем мра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дотворные мощ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принес на крыл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й ты, край мой, родим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чный пахарь и в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вно Вольга под ив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ы поник голов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Любовь к родной крестьянской земле, к русской деревне, к природе с ее лесами и полями пронизывает все творчество Есенина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1905120"/>
            <a:ext cx="8450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1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пит коваыль. Равнин дорогая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И свинцовой свежести полынь.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Никакая родина другая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Не вольёт мне в грудь мою теплынь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Знать, у всех у нас такая учесть,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И, пожалуй, всякого спроси –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адуясь, свирепствуя и мучась,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Хорошо живётся на Руси…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                             Сергей Есенин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46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1280" y="836280"/>
            <a:ext cx="367344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гей Есенин - самый популярный, самый читаемый в России поэт. Творчество С. Есенина принадлежит к лучшим страницам не только русской, но и. мировой поэзии, в которую он вошел как тонкий, проникновенный лир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ный  патриот своей Родины, С. Есенин был поэтом, кровно связанным с родной землей, с народом, с его поэтическим творчество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56000" y="765000"/>
            <a:ext cx="453564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2577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333000"/>
            <a:ext cx="80071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рода - всеобъемлющая, главная стихия творчества поэта, и с ней лирический герой связан врожденно и пожизнен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лся я с песнями в травном одея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ори меня вешние в радугу свивали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"Матушка в купальницу по лесу ходила...", 191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7334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Поэзия С.Есенина  - самый значительный этап в формировании национального пейзажа, который наряду с традиционными мотивами грусти включает удивительно яркие, контрастные краски, словно взятые с народных лубков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840720" cy="3744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5661000"/>
            <a:ext cx="80074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О Русь - малиновое пол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синь, упавшая в реку..."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Есенин очень любил полевые цвет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292360" y="1904760"/>
            <a:ext cx="3552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 только тот люблю цвет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торый врос корнями в земл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го люблю я и приемл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северный наш васил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968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7369200" cy="4937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Родная природа для поэта — это «море голосов  воробьиных» и «… синий плат небес, хвойной позолотой, взвенивает лес…»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9800" y="2374920"/>
            <a:ext cx="44625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77200" cy="453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Осень - любимое  время года у Сергея Есенина. Ей он посвятил немало замечательных строк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говорила роща золот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ерезовым, веселым язык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 журавли, печально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лет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ж не жалеют больше ни о 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611280" y="1341360"/>
            <a:ext cx="8234280" cy="5040360"/>
            <a:chOff x="611280" y="1341360"/>
            <a:chExt cx="8234280" cy="504036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611280" y="1341360"/>
              <a:ext cx="823428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 txBox="1"/>
            <p:nvPr/>
          </p:nvSpPr>
          <p:spPr>
            <a:xfrm>
              <a:off x="611280" y="1341360"/>
              <a:ext cx="8234280" cy="50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« Вот уж осень улетела, и   примчалася зима.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Как на крыльях, прилетела невидимо вдруг она.»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3ccff"/>
                </a:solidFill>
                <a:latin typeface="Arial"/>
              </a:rPr>
              <a:t>Зима - чудесная пора.  В это время Сергея Есенина посещала муза, и он написал многие свои самые лучшие стихотворения. Зимой все чувства обострены, все вокруг кажется таинственным и щемящим. Зимнее время в стихах Есенина пронизано особой грустью и одновременно - легк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685440" cy="7075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1494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691920"/>
            <a:ext cx="46083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Белая берёза под моим ок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ринакрылась снегом, точно сереб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а пушистых ветках снежною кайм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Распустились кисти белой бахром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И стоит берёза в сонной тишин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И горят снежинки в золотом ог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А заря, лениво обходя круг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бсыпает ветки новым сереб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7:42:05Z</dcterms:created>
  <dc:creator>www.PHILka.RU</dc:creator>
  <dc:description/>
  <dc:language>en-US</dc:language>
  <cp:lastModifiedBy>www.PHILka.RU</cp:lastModifiedBy>
  <dcterms:modified xsi:type="dcterms:W3CDTF">2012-12-16T14:23:18Z</dcterms:modified>
  <cp:revision>4</cp:revision>
  <dc:subject/>
  <dc:title>Тема русской природы в творчестве Сергея Есенина.</dc:title>
</cp:coreProperties>
</file>