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3D5-257C-42EA-86DC-BC06DBB8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4F8-4225-4A17-81BF-2312C264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B50-1C8F-48B6-930C-7479B560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17A-8727-4966-B69B-185DA64A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33E5-7419-4752-A481-000EAD61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1D40-92BD-4359-B2F3-D8C9C9F7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B4AB-3854-42D2-8FBD-29AECB10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AB18-6674-4C84-AC9D-F03DCC99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B4C9-63CD-4452-935E-82D1F096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560-CFAA-4024-B61E-9FA4788D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E68A-CE1E-49E9-B121-8BB55B0F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A7C-DB2B-44F1-8784-6DAFEE1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8556-031C-4C3C-A29F-F128E224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D454-2808-48C3-8BDD-EFA00DF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DB78-30B1-42E9-BF30-4FFCF574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FED0-4254-4F51-88DB-B0BDF3AB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9053-0C0D-43C4-9140-22A2C87D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352-D79B-4F51-BBA3-5279E4DB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45C-2B1C-4B2F-9806-C97188FC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3C0-0F18-48E2-8078-A14F3442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D2B-DA43-458B-ADD4-0186B07F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359-42E8-4C23-A7B1-3307661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D2B-3B8F-4D36-B6C2-DE10BCE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525-B3B2-48C1-B14E-E8206A0D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802E-0BD6-400B-B435-8F42197E56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19D4-4DFD-4603-8F44-036191FDCF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Unicode MS"/>
              </a:rPr>
              <a:t>Героическая оборона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2920" y="3499920"/>
            <a:ext cx="720108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1941-19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 Unicode MS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 Unicode MS"/>
              </a:rPr>
              <a:t>Воспитатель ГПД Огурин А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Arial Unicode MS"/>
              </a:rPr>
              <a:t>г. Павлов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129840" y="475200"/>
            <a:ext cx="324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 Unicode MS"/>
              </a:rPr>
              <a:t>ГБОУ Кадетская школа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 Unicode MS"/>
              </a:rPr>
              <a:t>Пушкинского района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 Unicode MS"/>
              </a:rPr>
              <a:t>Санкт-Петербурга</a:t>
            </a: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7 января 1944 года в результате Ленинградско-Новгородской операции была полностью снята блокада Ленингра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сентября 1941 года – начало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 января 1943 года – прорыв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7 января 1944 года полное снятие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мандующие Ленинградским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ронт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 Попов М. М. (27 августа — 5 сентября 1941 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ршал Советского Союза Ворошилов К. Е. (5 — 14 сен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 армии Жуков Г. К. (14 сентября — 10 ок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май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Федюнинский И. И. (10 — 26 ок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 Хозин М. С. (октябрь 1941 года — июнь 1942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, с января 1943 года генерал-полковник, с ноября 1943 года генерал армии Говоров Л. А. (июнь 1942 года — июль 1945 год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едаль за оборону Ленинграда"/>
          <p:cNvPicPr/>
          <p:nvPr/>
        </p:nvPicPr>
        <p:blipFill>
          <a:blip r:embed="rId1"/>
          <a:stretch/>
        </p:blipFill>
        <p:spPr>
          <a:xfrm>
            <a:off x="1116000" y="260280"/>
            <a:ext cx="67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Начало войны"/>
          <p:cNvPicPr/>
          <p:nvPr/>
        </p:nvPicPr>
        <p:blipFill>
          <a:blip r:embed="rId1"/>
          <a:stretch/>
        </p:blipFill>
        <p:spPr>
          <a:xfrm>
            <a:off x="539640" y="47628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ужский оборонительный рубеж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5" descr="Лужский рубеж"/>
          <p:cNvPicPr/>
          <p:nvPr/>
        </p:nvPicPr>
        <p:blipFill>
          <a:blip r:embed="rId1"/>
          <a:stretch/>
        </p:blipFill>
        <p:spPr>
          <a:xfrm>
            <a:off x="826920" y="1268280"/>
            <a:ext cx="7345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сентября 1941 года взятием Шлиссельбурга началась блокада Ленингра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Шлиссельбург"/>
          <p:cNvPicPr/>
          <p:nvPr/>
        </p:nvPicPr>
        <p:blipFill>
          <a:blip r:embed="rId1"/>
          <a:stretch/>
        </p:blipFill>
        <p:spPr>
          <a:xfrm>
            <a:off x="826920" y="333360"/>
            <a:ext cx="7632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а блокады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Ораниебаумский плацдарм"/>
          <p:cNvPicPr/>
          <p:nvPr/>
        </p:nvPicPr>
        <p:blipFill>
          <a:blip r:embed="rId1"/>
          <a:stretch/>
        </p:blipFill>
        <p:spPr>
          <a:xfrm>
            <a:off x="984240" y="274680"/>
            <a:ext cx="754848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 января 1943 года была прорвана блокада Ленинграда войсками Ленинградского и Волховского фронтов, которые соединились в районе Рабочего поселка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прорыв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22T14:03:36Z</dcterms:modified>
  <cp:revision>8</cp:revision>
  <dc:subject/>
  <dc:title>PowerPoint Presentation</dc:title>
</cp:coreProperties>
</file>